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B9B-E396-44AD-99BD-4F93AF0A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D9D-53EB-48AD-BCA5-D041EB60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A53-B4CA-4C3A-803D-01AF201C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DC15-EFCA-400D-87B8-F8074A82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55EF-370B-4290-853F-40CF3076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80AC-8EFE-4393-98D1-CCD27CE6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018F-870C-4653-9E11-9CF84507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9511-68B0-4E13-ACCC-E3253E67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005C-5AF9-4F1F-836B-5B6CE5F6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D696-9474-4D19-935B-FDBFA045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18A8-DF2A-4DFD-A052-E4911B05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1EC-C713-433F-89C7-65CAD45F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44FF-3230-43B9-8208-CD4DA6C7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7D70-371A-4197-8227-DB72DF40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7B5F-EA6D-4436-8AEC-E1CC3854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9755-A7D8-4449-B340-74C137A6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3C69-004A-4C7F-AC90-17C334D9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EC9-5913-426F-BC87-3266C51C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3FE-A6DD-4747-9007-BBD6571E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AAA-4A5B-48F8-85D8-815B247D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035-4018-49D5-AC0D-5A8F7857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22D-534A-4F4A-8755-0AD965E6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760-F586-42CF-8736-CB6018F3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764-03F6-4E4C-A25C-67B1C531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E132-9625-45D9-93A7-8058729664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BB70-6911-4B54-9B2F-58F3B16A41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 DYNAMICAL ANALYSIS OF 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upkumar Pa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MSc. Bioengineering 2005-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engineering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and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TL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ck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friendly Graphical User Interface (G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2000" y="333360"/>
            <a:ext cx="2880000" cy="50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67080" y="404640"/>
            <a:ext cx="24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299736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30369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ION OF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0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933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3720"/>
            <a:ext cx="287964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787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MENT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39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STING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724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THERING CLI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IGN OF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589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126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4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1989000"/>
            <a:ext cx="1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357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164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are Biosigna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C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G’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erties of Biosignals (Nonline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s and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unpredictable nature of bio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various theorie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software and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 and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 Analysi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o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 Dimension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Nonlinear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inear system is exactly equal to the sum of its parts, where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n-linear syste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can be more than the sum of its pa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onahue et al., 199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421000"/>
            <a:ext cx="1800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ystem H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7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565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put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tput 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al Analysi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" sz="3200" spc="-1" strike="noStrike">
                <a:solidFill>
                  <a:srgbClr val="000000"/>
                </a:solidFill>
                <a:latin typeface="Tahoma"/>
              </a:rPr>
              <a:t>dynamical system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 is a concept in mathematics where a fixed rule describes the time dependence of a point in a geometrical space”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o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6054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‘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haos theory is the qualitative study of unstable aperiodic behavior in deterministic nonlinear dynamical syst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Donahue et al., 199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8960" cy="285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s’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s are recursively defin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 objects that look the same no matter how closely you look a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600720" cy="417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92720" y="4594320"/>
            <a:ext cx="3166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4:43:41Z</dcterms:created>
  <dc:creator>Anup</dc:creator>
  <dc:description/>
  <dc:language>en-US</dc:language>
  <cp:lastModifiedBy>Anup</cp:lastModifiedBy>
  <dcterms:modified xsi:type="dcterms:W3CDTF">2006-02-24T17:01:12Z</dcterms:modified>
  <cp:revision>47</cp:revision>
  <dc:subject/>
  <dc:title>Slide 1</dc:title>
</cp:coreProperties>
</file>