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BE05-1B1F-4B09-9976-33929E457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3F67-4BD1-4866-988B-9ACB91B4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FF0B-AEB2-4271-8CF9-3D8AC028E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EA0A-93E8-43ED-ABCD-5A753FFBE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B3F3-68C3-4438-AD7D-FEF0D991F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2EF4-D238-4417-BB32-73D12831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A3056-4E25-4DD0-BDDE-F04845C7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C4A7-1AAE-4269-9FDB-900C0703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4327-F7B2-42F9-8839-26D2D2A9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35B5-BE2F-4315-B75F-CA480E37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4E7D-C3A2-4BE3-9E72-AC0EF3D8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9670-7C5B-42F2-8A3E-70D9B240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0905-6594-4944-91A3-F8DCB04F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240D-CDB7-4DF3-849D-E64E8A25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BC48-2C96-4989-A50D-C9C5A730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741C-3D61-44A2-A4FD-B77C39AB0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9EB1-73DF-4633-ABD7-CA48E05D9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2779-ABAD-47AD-A8F7-C89A3600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3D9C-7A58-4E87-9F55-04E958E3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9DA7-6E01-4FCB-8590-4538C69E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1C31-1783-4EC8-9CC1-680D33E0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570F-3185-45B8-8702-FF8F242D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67A1-BAB7-4D34-8FDA-644304F1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721F-53CE-40D5-A4F7-1E56CBE4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D8A4-1723-4D23-A397-4A41A65813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2DA74-C0B6-4B66-8A27-30C18E00C2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LINEAR DYNAMICAL ANALYSIS OF BIOSIGN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upkumar Pat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(MSc. Bioengineering 2005-06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ioengineering Uni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iversity of Strathclyd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ftware Development and Tes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MATL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ackag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friendly Graphical User Interface (GU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hetic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nical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32000" y="333360"/>
            <a:ext cx="2880000" cy="503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67080" y="404640"/>
            <a:ext cx="240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KGROUND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84720" y="299736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303696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LLECTION OF SYNTHETIC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32000" y="270828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32000" y="393372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933720"/>
            <a:ext cx="287964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3640" y="278748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VELOPMENT OF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03640" y="393372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ESTING OF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84720" y="472428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27640" y="472428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ATHERING CLINIC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076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SIGN OF 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558972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32000" y="126828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03640" y="14130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G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57340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59400" y="1989000"/>
            <a:ext cx="126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335772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4653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51640" y="3716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011640" y="422100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16360" y="4292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osign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at are Biosigna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CG’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MG’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EG’s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perties of Biosignals (Nonlinea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ims and 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unpredictable nature of biosign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y of various theories involv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ing software and GU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epts and Theo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linear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al Analysis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os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ctal Dimensions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6836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Unicode MS"/>
              </a:rPr>
              <a:t>Nonlinear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 linear system is exactly equal to the sum of its parts, whereas a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non-linear system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can be more than the sum of its pa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Donahue et al., 1997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3851280" y="2421000"/>
            <a:ext cx="1800360" cy="64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System H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27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51640" y="2781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95640" y="256536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Input x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56360" y="2565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utput y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5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ynamical Analysis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i="1" lang="en" sz="3200" spc="-1" strike="noStrike">
                <a:solidFill>
                  <a:srgbClr val="000000"/>
                </a:solidFill>
                <a:latin typeface="Tahoma"/>
              </a:rPr>
              <a:t>dynamical system</a:t>
            </a:r>
            <a:r>
              <a:rPr b="0" i="1" lang="en" sz="3200" spc="-1" strike="noStrike">
                <a:solidFill>
                  <a:srgbClr val="000000"/>
                </a:solidFill>
                <a:latin typeface="Tahoma"/>
              </a:rPr>
              <a:t> is a concept in mathematics where a fixed rule describes the time dependence of a point in a geometrical space”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os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605400" cy="34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‘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chaos theory is the qualitative study of unstable aperiodic behavior in deterministic nonlinear dynamical system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(Donahue et al., 1997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859280" y="333360"/>
            <a:ext cx="4105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28960" cy="2855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actal Dimensions’ Techniqu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ctals are recursively define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f-similar objects that look the same no matter how closely you look at the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7848720" cy="626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076720" y="333360"/>
            <a:ext cx="3600720" cy="4175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292720" y="4594320"/>
            <a:ext cx="316692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04:43:41Z</dcterms:created>
  <dc:creator>Anup</dc:creator>
  <dc:description/>
  <dc:language>en-US</dc:language>
  <cp:lastModifiedBy>Anup</cp:lastModifiedBy>
  <dcterms:modified xsi:type="dcterms:W3CDTF">2006-02-24T17:01:12Z</dcterms:modified>
  <cp:revision>47</cp:revision>
  <dc:subject/>
  <dc:title>Slide 1</dc:title>
</cp:coreProperties>
</file>