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0A2-A6F2-4BFE-B8F5-1803C640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A5E-19CB-4DE2-B2D6-D9FFD521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B71-6B84-4D35-8EA6-32C1B8DF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3F4-3675-44C8-85D2-D2CC10F9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7B38-975C-4E52-BBA7-0F355377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E8B5-B3FA-497C-B0CA-60FE2F45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6164-0EE6-413E-AADA-3E077EDF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02AC-9DBD-4210-8587-BA238763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E592-132E-4655-A806-8D35D560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6A8C-EA04-4B10-AC9F-9DFFBEB0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2C64-6FAE-41DA-BA96-7C7011DC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5C84-CCF8-46A8-8120-6D67E37D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E6CD-84FD-4D4D-9E43-39B462C1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D63C-B959-4B99-BB9C-82AE82FA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FAB4-01DD-438C-9CC7-8856FF9B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4974-6541-40E5-A433-0AE15D25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CE07-11D9-4904-959F-C27DD553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7BB-C4CD-4AE4-95AE-6AEA3547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D1E-4E0D-4F34-80CB-E3B11392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63A-8A4D-41E4-B0DE-4B19793D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8F48-308D-4234-B46F-2A63D64D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880-34BB-4598-BC91-0D3FF2BB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B24-DD34-4916-BBFB-1F8E15C2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5D17-15E1-4902-B30D-B3C70508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7547-ECD0-4314-85FB-32AE33FED5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2415-5894-4C41-9010-9F9E02CFAA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 DYNAMICAL ANALYSIS OF 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upkumar Pa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MSc. Bioengineering 2005-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engineering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and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TL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ck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friendly Graphical User Interface (G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2000" y="333360"/>
            <a:ext cx="2880000" cy="50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67080" y="404640"/>
            <a:ext cx="24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299736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30369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ION OF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0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933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3720"/>
            <a:ext cx="287964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787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MENT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39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STING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724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THERING CLI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IGN OF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589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126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4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1989000"/>
            <a:ext cx="1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357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164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are Biosigna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C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G’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erties of Biosignals (Nonline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s and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unpredictable nature of bio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various theorie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software and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 and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 Analysi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o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 Dimension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Nonlinear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inear system is exactly equal to the sum of its parts, where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n-linear syste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can be more than the sum of its pa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onahue et al., 199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421000"/>
            <a:ext cx="1800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ystem H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7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565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put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tput 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al Analysi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" sz="3200" spc="-1" strike="noStrike">
                <a:solidFill>
                  <a:srgbClr val="000000"/>
                </a:solidFill>
                <a:latin typeface="Tahoma"/>
              </a:rPr>
              <a:t>dynamical system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 is a concept in mathematics where a fixed rule describes the time dependence of a point in a geometrical space”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o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6054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‘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haos theory is the qualitative study of unstable aperiodic behavior in deterministic nonlinear dynamical syst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Donahue et al., 199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8960" cy="285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s’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s are recursively defin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 objects that look the same no matter how closely you look a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600720" cy="417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92720" y="4594320"/>
            <a:ext cx="3166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4:43:41Z</dcterms:created>
  <dc:creator>Anup</dc:creator>
  <dc:description/>
  <dc:language>en-US</dc:language>
  <cp:lastModifiedBy>Anup</cp:lastModifiedBy>
  <dcterms:modified xsi:type="dcterms:W3CDTF">2006-02-24T17:01:12Z</dcterms:modified>
  <cp:revision>47</cp:revision>
  <dc:subject/>
  <dc:title>Slide 1</dc:title>
</cp:coreProperties>
</file>