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8F8-13DA-4E55-BB84-F76C7C5C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550B-687D-4422-955A-843084F5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A23-4CB8-4213-B3E1-313ED82B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A1E-FB73-42A0-81C1-094D6CDD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4A5B-2066-4183-A3D4-EF9DBCAD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4BD7-FB4D-4832-B22C-B95F6ADC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719D-215F-4DBE-A934-52F45BB7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BFA6-26F7-433E-AE33-F9EAC0DE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1728-8DCC-45D8-8A44-1AB013D1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D3F7-96F2-4EF2-A20B-BDCDEDDB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672C-4969-4428-A3EF-92BDB8A5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D78-1DFE-4A5C-846D-7D2D3DA9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188E-5775-4D05-9CDD-ED222ABB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BE86-D5D4-4F29-B7F1-AC6D0402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3CBC-A4EE-4695-9DF4-A63D2DA4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5920-4C90-4AF2-9C16-D4269266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BA37-C941-4855-A65A-56EB60AB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9F2-DCEB-4496-9F76-BB702518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A2E-93B7-4FD2-8EA7-B805C406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355B-5431-4897-881F-DEC57E3B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B2E3-8662-40F3-A50B-B85A369F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18AD-FEC2-4A5D-9DE0-98F29910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F69-40C2-49D5-85A9-7EA4B00F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805-6272-445B-B31A-38910F2C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66A1-106B-4AB9-95C7-249A57E207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BF70-E050-4339-8F56-BE82C68A49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 DYNAMICAL ANALYSIS OF 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upkumar Pa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MSc. Bioengineering 2005-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engineering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and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TL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ck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friendly Graphical User Interface (G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2000" y="333360"/>
            <a:ext cx="2880000" cy="50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67080" y="404640"/>
            <a:ext cx="24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299736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30369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ION OF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0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933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3720"/>
            <a:ext cx="287964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787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MENT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39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STING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724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THERING CLI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IGN OF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589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126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4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1989000"/>
            <a:ext cx="1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357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164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are Biosigna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C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G’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erties of Biosignals (Nonline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s and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unpredictable nature of bio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various theorie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software and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 and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 Analysi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o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 Dimension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Nonlinear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inear system is exactly equal to the sum of its parts, where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n-linear syste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can be more than the sum of its pa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onahue et al., 199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421000"/>
            <a:ext cx="1800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ystem H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7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565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put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tput 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al Analysi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" sz="3200" spc="-1" strike="noStrike">
                <a:solidFill>
                  <a:srgbClr val="000000"/>
                </a:solidFill>
                <a:latin typeface="Tahoma"/>
              </a:rPr>
              <a:t>dynamical system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 is a concept in mathematics where a fixed rule describes the time dependence of a point in a geometrical space”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o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6054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‘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haos theory is the qualitative study of unstable aperiodic behavior in deterministic nonlinear dynamical syst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Donahue et al., 199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8960" cy="285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s’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s are recursively defin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 objects that look the same no matter how closely you look a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600720" cy="417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92720" y="4594320"/>
            <a:ext cx="3166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4:43:41Z</dcterms:created>
  <dc:creator>Anup</dc:creator>
  <dc:description/>
  <dc:language>en-US</dc:language>
  <cp:lastModifiedBy>Anup</cp:lastModifiedBy>
  <dcterms:modified xsi:type="dcterms:W3CDTF">2006-02-24T17:01:12Z</dcterms:modified>
  <cp:revision>47</cp:revision>
  <dc:subject/>
  <dc:title>Slide 1</dc:title>
</cp:coreProperties>
</file>