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CB3-D91F-4D10-BA9F-4AFD1DF8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06B-56D5-41E7-A2C0-7B2A24B8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114-8B84-4BAF-BBBF-C73BE9C8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949-0F3D-4FA1-BB47-04F2F6C3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1745-378F-4AC3-BB3B-1CBEEFF1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F195-33A2-423B-A493-50C2663B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FAB0-443E-4F9B-9905-97765458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5597-E327-4DB3-98D0-F3DDAFC4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0E08-9032-4177-B8A8-5C3157E5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DCCE-591A-4B6A-869B-D148DB14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02F3-0669-48F1-8FB5-AB7B60AA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11E-DF0A-4AC3-8939-A1F501A1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4991-B3DE-4326-926E-F78705FB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E690-7226-4B24-9104-6E954117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2090-C59C-46F0-B39A-68037FF5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6638-616E-4528-A75F-FF2292E7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7736-0BAD-48B5-BE8A-BB82096E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9A4-3D94-4F3F-9119-383FE5B9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6A74-05D6-4FF8-B0B3-94652A45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EB6-F12C-4C38-9494-B003B966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146-7BD0-4EBF-8267-AA5B4EBD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827-337D-40A3-8C0D-B2A6CFF7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5771-7121-457C-9243-5D9A3F1F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3EF-11EA-4F6B-8F29-0A042BC5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F038-0CAB-4AF0-A2F7-45CB74EF94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15BB-50BF-472B-9C11-6336D97B84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LINEAR DYNAMICAL ANALYSIS OF 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upkumar Pa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MSc. Bioengineering 2005-0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engineering Un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Development and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MATL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ck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friendly Graphical User Interface (GU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32000" y="333360"/>
            <a:ext cx="2880000" cy="50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67080" y="404640"/>
            <a:ext cx="24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GROUN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299736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30369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ION OF SYNTHE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0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933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33720"/>
            <a:ext cx="287964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27874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MENT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39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STING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4724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724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THERING CLIN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IGN OF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589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126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41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5734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59400" y="1989000"/>
            <a:ext cx="126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357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164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are Biosigna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C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M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EG’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erties of Biosignals (Nonline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s and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unpredictable nature of bio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of various theorie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software and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epts and The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linear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al Analysi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o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 Dimensions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</a:rPr>
              <a:t>Nonlinear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linear system is exactly equal to the sum of its parts, whereas 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on-linear syste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can be more than the sum of its pa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Donahue et al., 1997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421000"/>
            <a:ext cx="18003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ystem H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7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565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put 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56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utput 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al Analysi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" sz="3200" spc="-1" strike="noStrike">
                <a:solidFill>
                  <a:srgbClr val="000000"/>
                </a:solidFill>
                <a:latin typeface="Tahoma"/>
              </a:rPr>
              <a:t>dynamical system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 is a concept in mathematics where a fixed rule describes the time dependence of a point in a geometrical space”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o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6054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‘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haos theory is the qualitative study of unstable aperiodic behavior in deterministic nonlinear dynamical system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Donahue et al., 1997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28960" cy="285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ctal Dimensions’ Tech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s are recursively define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imilar objects that look the same no matter how closely you look at th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848720" cy="626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600720" cy="417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92720" y="4594320"/>
            <a:ext cx="3166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4:43:41Z</dcterms:created>
  <dc:creator>Anup</dc:creator>
  <dc:description/>
  <dc:language>en-US</dc:language>
  <cp:lastModifiedBy>Anup</cp:lastModifiedBy>
  <dcterms:modified xsi:type="dcterms:W3CDTF">2006-02-24T17:01:12Z</dcterms:modified>
  <cp:revision>47</cp:revision>
  <dc:subject/>
  <dc:title>Slide 1</dc:title>
</cp:coreProperties>
</file>