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AA52-F314-4A43-9D80-DEA0FE6F4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8B71B-8DB5-4B05-BC7C-9976EC1A9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6F8C-479C-441A-B78D-AF4D9D979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2C10-77BD-4953-B686-934CAD0D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75F14-5FF7-4C16-8794-FC7BB467A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B91CE-595E-46C0-A1B4-F367E22EF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C2AD-63CA-4EF7-A5B1-1E1530A20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48048-78DC-49EF-A14F-D21E558CB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E1B6C-6B66-4430-808D-30B50FDF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4D2A-D99E-4DFB-8AFA-1B491B52F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D3F1-C472-4E34-82E5-917D67D0C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BD62-67C7-49E2-8678-1B21C3276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01238-5A28-4400-905E-A4557275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D56FD-B615-4441-91B3-C2A9FB09A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15FB-92C6-44D5-9111-F045A9EC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2734-E7DD-4218-BCBA-44E346F4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ECD8-F640-44BE-A1C4-E871F878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2D28-5BAD-4FE3-81A7-1511B8D7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4F7A-9C72-4592-BF69-FF4F91E56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3799-DA5E-4F3F-BED5-670EB83D4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3C23-274D-4F36-BB83-234BD126F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E98E-E4BD-455B-A56F-16AA15BC6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3CA-021F-4FEB-9136-1A17AD67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7003-DB27-414D-A628-D85B71D4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4BA9-90BE-4DFF-AA9F-1DC749124BE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5EBAC-5C17-4160-8BD5-B533FBC50E7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LINEAR DYNAMICAL ANALYSIS OF 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upkumar Pat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(MSc. Bioengineering 2005-06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ioengineering Un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niversity of Strathcly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oftware Development and Test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of MATLA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ackage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friendly Graphical User Interface (GUI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ynthetic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nical Dat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4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50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32000" y="333360"/>
            <a:ext cx="2880000" cy="503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67080" y="404640"/>
            <a:ext cx="2408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ACKGROUND STU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299736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303696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OLLECTION OF SYNTHETIC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132000" y="270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132000" y="3933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933720"/>
            <a:ext cx="287964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278748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VELOPMENT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3640" y="3933720"/>
            <a:ext cx="27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STING OF ALGORITH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4724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227640" y="4724280"/>
            <a:ext cx="27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GATHERING CLINIC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407664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ESIGN OF GU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2000" y="558972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132000" y="1268280"/>
            <a:ext cx="2880000" cy="7207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03640" y="141300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GNAL PROCE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3640" y="573408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0" y="836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559400" y="1989000"/>
            <a:ext cx="1260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3357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4653000"/>
            <a:ext cx="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451640" y="371628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1640" y="4221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16360" y="4292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iosigna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What are Biosignal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C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MG’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EEG’s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Properties of Biosignals (Nonlinear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40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0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ims and Objectiv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nderstand the unpredictable nature of biosign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udy of various theories invol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veloping software and GUI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ing of the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000"/>
                            </p:stCondLst>
                            <p:childTnLst>
                              <p:par>
                                <p:cTn id="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3000"/>
                            </p:stCondLst>
                            <p:childTnLst>
                              <p:par>
                                <p:cTn id="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40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epts and Theor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923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nlinear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ynamical Analysi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os The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 Dimensions Techniqu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40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68360" y="33300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 Unicode MS"/>
              </a:rPr>
              <a:t>Nonlinear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A linear system is exactly equal to the sum of its parts, whereas a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non-linear system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 can be more than the sum of its part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(Donahue et al., 1997)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851280" y="2421000"/>
            <a:ext cx="1800360" cy="64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Unicode MS"/>
              </a:rPr>
              <a:t>System H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76720" y="27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651640" y="27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95640" y="2565360"/>
            <a:ext cx="12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Input x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156360" y="2565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utput y(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ynamical Analysi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1" i="1" lang="en" sz="3200" spc="-1" strike="noStrike">
                <a:solidFill>
                  <a:srgbClr val="000000"/>
                </a:solidFill>
                <a:latin typeface="Tahoma"/>
              </a:rPr>
              <a:t>dynamical system</a:t>
            </a:r>
            <a:r>
              <a:rPr b="0" i="1" lang="en" sz="3200" spc="-1" strike="noStrike">
                <a:solidFill>
                  <a:srgbClr val="000000"/>
                </a:solidFill>
                <a:latin typeface="Tahoma"/>
              </a:rPr>
              <a:t> is a concept in mathematics where a fixed rule describes the time dependence of a point in a geometrical space”</a:t>
            </a: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haos Theo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240" y="2017440"/>
            <a:ext cx="3605400" cy="34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   ‘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chaos theory is the qualitative study of unstable aperiodic behavior in deterministic nonlinear dynamical systems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</a:rPr>
              <a:t>(Donahue et al., 1997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859280" y="333360"/>
            <a:ext cx="410544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028960" cy="2855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actal Dimensions’ Techniqu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ractals are recursively defined fun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lf-similar objects that look the same no matter how closely you look at the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3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5280" y="260280"/>
            <a:ext cx="7848720" cy="6264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5076720" y="333360"/>
            <a:ext cx="3600720" cy="41752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292720" y="4594320"/>
            <a:ext cx="3166920" cy="22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3T04:43:41Z</dcterms:created>
  <dc:creator>Anup</dc:creator>
  <dc:description/>
  <dc:language>en-US</dc:language>
  <cp:lastModifiedBy>Anup</cp:lastModifiedBy>
  <dcterms:modified xsi:type="dcterms:W3CDTF">2006-02-24T17:01:12Z</dcterms:modified>
  <cp:revision>47</cp:revision>
  <dc:subject/>
  <dc:title>Slide 1</dc:title>
</cp:coreProperties>
</file>