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9C2-4F8C-463A-B068-2BD43E76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54E-BAF6-4A9B-8DE7-2CCE9B82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69C-883C-4321-912B-B1B10A3A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348-1A09-451C-BE52-B9DCD3A9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7BD-CE61-4DA3-967A-2E51C489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7CF-E8AC-4E1F-91CB-13E3F0AD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B4A-10C8-4A2C-9830-79D4C734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C5E-80C8-4689-97AF-FCE7CFE3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8E2-7611-4915-A6F4-9C8728B0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B96-D413-4381-8CC3-71C1D32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927-4641-40ED-BCCB-F95088EB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FAE-1256-4439-87C5-E7D4473B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5399-B5DE-4628-B17D-4120F3A3E0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8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990720" y="1523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9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55080" y="152388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32:50Z</dcterms:created>
  <dc:creator>CIS</dc:creator>
  <dc:description/>
  <dc:language>en-US</dc:language>
  <cp:lastModifiedBy>Mark Vella</cp:lastModifiedBy>
  <cp:lastPrinted>2011-03-16T12:39:37Z</cp:lastPrinted>
  <dcterms:modified xsi:type="dcterms:W3CDTF">2011-06-09T15:47:00Z</dcterms:modified>
  <cp:revision>5</cp:revision>
  <dc:subject/>
  <dc:title>Gunk Dunc for</dc:title>
</cp:coreProperties>
</file>