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B35B6-161E-4D9D-A6C3-B87CE878C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8501-9CD1-43EE-9C87-F09497A9B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BF3E3-9805-4995-A462-B973FC40C7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A83D-040A-40F1-991C-82BCC167B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26DC-7BEF-4B7E-AF42-3E3DB1207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01BB-3EC1-4C13-B432-1715523D1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FE219-1427-4994-ACCC-82E791984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085AF-75C3-4D8E-9FBD-C2C177525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3F9E-AF10-4845-A529-A97EA459B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023A-5AC0-4A99-8514-92409489F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C51C-C780-48D2-8732-DF48604F9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5B6-B567-46B3-8DEB-24ADD2F6E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3CD9E-84AC-40F9-966A-C149108852A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8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990720" y="15238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0000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 Black"/>
              </a:rPr>
              <a:t>Gunk Dunc</a:t>
            </a:r>
            <a:r>
              <a:rPr b="0" lang="en-GB" sz="3600" spc="-1" strike="noStrike">
                <a:solidFill>
                  <a:srgbClr val="000000"/>
                </a:solidFill>
                <a:latin typeface="Arial Black"/>
              </a:rPr>
              <a:t>f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779640" y="2133360"/>
            <a:ext cx="43923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March 18</a:t>
            </a:r>
            <a:r>
              <a:rPr b="0" lang="en-GB" sz="3000" spc="-1" strike="noStrike" baseline="30000">
                <a:solidFill>
                  <a:srgbClr val="ff5050"/>
                </a:solidFill>
                <a:latin typeface="Calibri"/>
              </a:rPr>
              <a:t>t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13:30 to 14:3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Outside the Sports Centr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3 sponges for £2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ucket of water for £10 </a:t>
            </a:r>
            <a:r>
              <a:rPr b="0" lang="en-GB" sz="3000" spc="-1" strike="noStrike">
                <a:solidFill>
                  <a:srgbClr val="ff5050"/>
                </a:solidFill>
                <a:latin typeface="Calibri"/>
              </a:rPr>
              <a:t>Bucket of 'gunk' for £20*</a:t>
            </a:r>
            <a:br>
              <a:rPr sz="3000"/>
            </a:br>
            <a:r>
              <a:rPr b="0" lang="en-GB" sz="1900" spc="-1" strike="noStrike">
                <a:solidFill>
                  <a:srgbClr val="ff5050"/>
                </a:solidFill>
                <a:latin typeface="Calibri"/>
              </a:rPr>
              <a:t>(* supply your own! ;)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2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955080" y="1523880"/>
            <a:ext cx="409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://my.rednoseday.com/gunkdun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6T12:32:50Z</dcterms:created>
  <dc:creator>CIS</dc:creator>
  <dc:description/>
  <dc:language>en-US</dc:language>
  <cp:lastModifiedBy>Mark Vella</cp:lastModifiedBy>
  <cp:lastPrinted>2011-03-16T12:39:37Z</cp:lastPrinted>
  <dcterms:modified xsi:type="dcterms:W3CDTF">2011-06-09T15:47:00Z</dcterms:modified>
  <cp:revision>5</cp:revision>
  <dc:subject/>
  <dc:title>Gunk Dunc for</dc:title>
</cp:coreProperties>
</file>