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8ED8-0BB0-4DA2-8684-2CA19D36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A190-0F09-460B-BE89-7EA0DB6B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E966-D89B-483A-AE25-951FF72F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8B38-ED3A-4C6F-A83D-220708FE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1F0D-B14C-4E83-BA08-BD6434F7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AAB2-D1A2-4128-9CA5-95B8DDC6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3A5A-7B4D-4CC3-9398-878C4C56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1CA-1D4E-4353-88DF-7DCFF0EB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F29-FC62-4444-B350-E31FD385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ECD4-5F90-4685-B1BB-9321E783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4D2B-703F-4AFD-9E21-5FD39815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1092-4199-44AA-A598-122B5EE5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5B15-1DD4-4EE7-8202-26F698B3F4F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unk Dunc</a:t>
            </a: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79640" y="2133360"/>
            <a:ext cx="439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March 18</a:t>
            </a:r>
            <a:r>
              <a:rPr b="0" lang="en-GB" sz="3000" spc="-1" strike="noStrike" baseline="30000">
                <a:solidFill>
                  <a:srgbClr val="ff5050"/>
                </a:solidFill>
                <a:latin typeface="Calibri"/>
              </a:rPr>
              <a:t>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3:30 to 14:3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Outside the Sports Cent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3 sponges for £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ucket of water for £10 </a:t>
            </a: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Bucket of 'gunk' for £20*</a:t>
            </a:r>
            <a:br>
              <a:rPr sz="3000"/>
            </a:br>
            <a:r>
              <a:rPr b="0" lang="en-GB" sz="1800" spc="-1" strike="noStrike">
                <a:solidFill>
                  <a:srgbClr val="ff5050"/>
                </a:solidFill>
                <a:latin typeface="Calibri"/>
              </a:rPr>
              <a:t>(* supply your own! ;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990720" y="1523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my.rednoseday.com/gunkdun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unk Dunc</a:t>
            </a: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779640" y="2133360"/>
            <a:ext cx="439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March 18</a:t>
            </a:r>
            <a:r>
              <a:rPr b="0" lang="en-GB" sz="3000" spc="-1" strike="noStrike" baseline="30000">
                <a:solidFill>
                  <a:srgbClr val="ff5050"/>
                </a:solidFill>
                <a:latin typeface="Calibri"/>
              </a:rPr>
              <a:t>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3:30 to 14:3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Outside the Sports Cent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3 sponges for £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ucket of water for £10 </a:t>
            </a: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Bucket of 'gunk' for £20*</a:t>
            </a:r>
            <a:br>
              <a:rPr sz="3000"/>
            </a:br>
            <a:r>
              <a:rPr b="0" lang="en-GB" sz="1900" spc="-1" strike="noStrike">
                <a:solidFill>
                  <a:srgbClr val="ff5050"/>
                </a:solidFill>
                <a:latin typeface="Calibri"/>
              </a:rPr>
              <a:t>(* supply your own! ;)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955080" y="1523880"/>
            <a:ext cx="40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my.rednoseday.com/gunkdun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2:32:50Z</dcterms:created>
  <dc:creator>CIS</dc:creator>
  <dc:description/>
  <dc:language>en-US</dc:language>
  <cp:lastModifiedBy>Mark Vella</cp:lastModifiedBy>
  <cp:lastPrinted>2011-03-16T12:39:37Z</cp:lastPrinted>
  <dcterms:modified xsi:type="dcterms:W3CDTF">2011-06-09T15:47:00Z</dcterms:modified>
  <cp:revision>5</cp:revision>
  <dc:subject/>
  <dc:title>Gunk Dunc for</dc:title>
</cp:coreProperties>
</file>