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B5F6-1CE6-4709-A809-34429DF2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9616-8091-41E8-810C-7529F0E9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D869-4610-482D-9EE9-644C32FB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AAF1-8177-4C3E-8580-F049D85C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930C-7FDE-4F9F-B690-8599E05A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4A97-86B0-49C1-B58E-C1B9042F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756E-1A88-40C1-BF49-325BA61B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A0DB-99BE-4867-94BB-7B9B28D2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5179-B7AA-426D-955B-33C3DA89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9C35-014B-4C50-89F9-8A7ED1F7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FB9D-F76E-4478-84E6-396DA28D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FBAB-F5F4-4358-9F60-A007C99C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B1C2-FC53-4937-86C4-305F5161E1D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unk Dunc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79640" y="2133360"/>
            <a:ext cx="439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March 18</a:t>
            </a:r>
            <a:r>
              <a:rPr b="0" lang="en-GB" sz="3000" spc="-1" strike="noStrike" baseline="30000">
                <a:solidFill>
                  <a:srgbClr val="ff5050"/>
                </a:solidFill>
                <a:latin typeface="Calibri"/>
              </a:rPr>
              <a:t>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3:30 to 14:3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Outside the Sports Cent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3 sponges for £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ucket of water for £10 </a:t>
            </a: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Bucket of 'gunk' for £20*</a:t>
            </a:r>
            <a:br>
              <a:rPr sz="3000"/>
            </a:br>
            <a:r>
              <a:rPr b="0" lang="en-GB" sz="1800" spc="-1" strike="noStrike">
                <a:solidFill>
                  <a:srgbClr val="ff5050"/>
                </a:solidFill>
                <a:latin typeface="Calibri"/>
              </a:rPr>
              <a:t>(* supply your own! ;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990720" y="1523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my.rednoseday.com/gunkdun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unk Dunc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779640" y="2133360"/>
            <a:ext cx="439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March 18</a:t>
            </a:r>
            <a:r>
              <a:rPr b="0" lang="en-GB" sz="3000" spc="-1" strike="noStrike" baseline="30000">
                <a:solidFill>
                  <a:srgbClr val="ff5050"/>
                </a:solidFill>
                <a:latin typeface="Calibri"/>
              </a:rPr>
              <a:t>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3:30 to 14:3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Outside the Sports Cent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3 sponges for £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ucket of water for £10 </a:t>
            </a: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Bucket of 'gunk' for £20*</a:t>
            </a:r>
            <a:br>
              <a:rPr sz="3000"/>
            </a:br>
            <a:r>
              <a:rPr b="0" lang="en-GB" sz="1900" spc="-1" strike="noStrike">
                <a:solidFill>
                  <a:srgbClr val="ff5050"/>
                </a:solidFill>
                <a:latin typeface="Calibri"/>
              </a:rPr>
              <a:t>(* supply your own! ;)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955080" y="1523880"/>
            <a:ext cx="40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my.rednoseday.com/gunkdun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2:32:50Z</dcterms:created>
  <dc:creator>CIS</dc:creator>
  <dc:description/>
  <dc:language>en-US</dc:language>
  <cp:lastModifiedBy>Mark Vella</cp:lastModifiedBy>
  <cp:lastPrinted>2011-03-16T12:39:37Z</cp:lastPrinted>
  <dcterms:modified xsi:type="dcterms:W3CDTF">2011-06-09T15:47:00Z</dcterms:modified>
  <cp:revision>5</cp:revision>
  <dc:subject/>
  <dc:title>Gunk Dunc for</dc:title>
</cp:coreProperties>
</file>