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2E7-B53F-4DEF-BBB5-4E3B3E59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415-4A85-456B-BB45-2F278C43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227-D536-45D0-A385-EC73BD26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2D2-13DD-4754-A1C7-451DA6E6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EEC-7A90-40C5-AFB2-5594A0DB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A2B-E49C-4E00-8A9C-825DD1E5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EE4-6A55-4581-A092-469B83C4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17E-0EBB-4DDB-A31E-6382346E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8321-B475-4B2F-9296-B2AAD1EF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C19-BDCD-4379-A3F6-E58E48A7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88E-E31D-48CC-BF32-DD6D4496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8DE-3782-4166-9AB9-6D26F431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AC36-E3D1-4A9B-B4DA-1AC5DCCF52C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8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990720" y="1523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9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55080" y="152388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32:50Z</dcterms:created>
  <dc:creator>CIS</dc:creator>
  <dc:description/>
  <dc:language>en-US</dc:language>
  <cp:lastModifiedBy>Mark Vella</cp:lastModifiedBy>
  <cp:lastPrinted>2011-03-16T12:39:37Z</cp:lastPrinted>
  <dcterms:modified xsi:type="dcterms:W3CDTF">2011-06-09T15:47:00Z</dcterms:modified>
  <cp:revision>5</cp:revision>
  <dc:subject/>
  <dc:title>Gunk Dunc for</dc:title>
</cp:coreProperties>
</file>