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4FD9-D6F1-47E7-B258-F74929DF9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5F0B-4388-418F-BCBA-D0CAE2F2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557B-73F5-4EC0-A68F-7AE8D105F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AB9F-202D-49A3-B0CB-F9B8ADAD2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E9CC-0F2E-4679-A5B8-B1FEAF34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7BB7-AEA2-4F22-BF44-DAD9ECDB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3AF8-1A98-4B95-A9DC-ECF01FC1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D1F2-1DB7-40D1-982C-FD8BC503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49C4-2931-48FD-87FD-25ACFF6D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D81C-1DE4-4F0F-A24A-07983D9F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571E-E732-4CF7-9089-058F46DC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F30C-3A61-405F-B50A-6B8D2708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BCD4-F4C7-47B2-B0AA-C209C373741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Gunk Dunc</a:t>
            </a: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f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79640" y="2133360"/>
            <a:ext cx="4392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March 18</a:t>
            </a:r>
            <a:r>
              <a:rPr b="0" lang="en-GB" sz="3000" spc="-1" strike="noStrike" baseline="30000">
                <a:solidFill>
                  <a:srgbClr val="ff5050"/>
                </a:solidFill>
                <a:latin typeface="Calibri"/>
              </a:rPr>
              <a:t>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13:30 to 14:3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Outside the Sports Cent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3 sponges for £2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Bucket of water for £10 </a:t>
            </a: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Bucket of 'gunk' for £20*</a:t>
            </a:r>
            <a:br>
              <a:rPr sz="3000"/>
            </a:br>
            <a:r>
              <a:rPr b="0" lang="en-GB" sz="1800" spc="-1" strike="noStrike">
                <a:solidFill>
                  <a:srgbClr val="ff5050"/>
                </a:solidFill>
                <a:latin typeface="Calibri"/>
              </a:rPr>
              <a:t>(* supply your own! ;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990720" y="15238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my.rednoseday.com/gunkdun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Gunk Dunc</a:t>
            </a: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f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779640" y="2133360"/>
            <a:ext cx="4392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March 18</a:t>
            </a:r>
            <a:r>
              <a:rPr b="0" lang="en-GB" sz="3000" spc="-1" strike="noStrike" baseline="30000">
                <a:solidFill>
                  <a:srgbClr val="ff5050"/>
                </a:solidFill>
                <a:latin typeface="Calibri"/>
              </a:rPr>
              <a:t>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13:30 to 14:3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Outside the Sports Cent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3 sponges for £2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Bucket of water for £10 </a:t>
            </a: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Bucket of 'gunk' for £20*</a:t>
            </a:r>
            <a:br>
              <a:rPr sz="3000"/>
            </a:br>
            <a:r>
              <a:rPr b="0" lang="en-GB" sz="1900" spc="-1" strike="noStrike">
                <a:solidFill>
                  <a:srgbClr val="ff5050"/>
                </a:solidFill>
                <a:latin typeface="Calibri"/>
              </a:rPr>
              <a:t>(* supply your own! ;)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955080" y="1523880"/>
            <a:ext cx="409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my.rednoseday.com/gunkdun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2:32:50Z</dcterms:created>
  <dc:creator>CIS</dc:creator>
  <dc:description/>
  <dc:language>en-US</dc:language>
  <cp:lastModifiedBy>Mark Vella</cp:lastModifiedBy>
  <cp:lastPrinted>2011-03-16T12:39:37Z</cp:lastPrinted>
  <dcterms:modified xsi:type="dcterms:W3CDTF">2011-06-09T15:47:00Z</dcterms:modified>
  <cp:revision>5</cp:revision>
  <dc:subject/>
  <dc:title>Gunk Dunc for</dc:title>
</cp:coreProperties>
</file>