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D379-59A0-4F56-AAAA-10BD8DB2A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2DE7-16AF-416E-8726-FDF55D71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6403-F78E-4231-8979-22308DF76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7BB1-9BF8-4681-A6F5-AEFCE4449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3E4F-EB6A-4AE0-849B-13481003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7394-E1FB-452C-96C0-CCE1BC20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3F90-5EE9-4D43-BF8B-0CE0A295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F6E9-470D-4A5F-AAF1-62A2E617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688B-4C88-49CC-8B3B-F80D6F84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943E-AA74-4A93-982E-D5550709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6960-4C07-4376-869C-7E3A9373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7C84-3CE0-4129-A784-6AF57DF1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738C-7A80-4D5B-AF7C-358EA66FAD6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Gunk Dunc</a:t>
            </a: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79640" y="2133360"/>
            <a:ext cx="439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March 18</a:t>
            </a:r>
            <a:r>
              <a:rPr b="0" lang="en-GB" sz="3000" spc="-1" strike="noStrike" baseline="30000">
                <a:solidFill>
                  <a:srgbClr val="ff5050"/>
                </a:solidFill>
                <a:latin typeface="Calibri"/>
              </a:rPr>
              <a:t>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13:30 to 14:3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Outside the Sports Cent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3 sponges for £2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Bucket of water for £10 </a:t>
            </a: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Bucket of 'gunk' for £20*</a:t>
            </a:r>
            <a:br>
              <a:rPr sz="3000"/>
            </a:br>
            <a:r>
              <a:rPr b="0" lang="en-GB" sz="1800" spc="-1" strike="noStrike">
                <a:solidFill>
                  <a:srgbClr val="ff5050"/>
                </a:solidFill>
                <a:latin typeface="Calibri"/>
              </a:rPr>
              <a:t>(* supply your own! ;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990720" y="15238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my.rednoseday.com/gunkdun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Gunk Dunc</a:t>
            </a: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779640" y="2133360"/>
            <a:ext cx="439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March 18</a:t>
            </a:r>
            <a:r>
              <a:rPr b="0" lang="en-GB" sz="3000" spc="-1" strike="noStrike" baseline="30000">
                <a:solidFill>
                  <a:srgbClr val="ff5050"/>
                </a:solidFill>
                <a:latin typeface="Calibri"/>
              </a:rPr>
              <a:t>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13:30 to 14:3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Outside the Sports Cent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3 sponges for £2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Bucket of water for £10 </a:t>
            </a: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Bucket of 'gunk' for £20*</a:t>
            </a:r>
            <a:br>
              <a:rPr sz="3000"/>
            </a:br>
            <a:r>
              <a:rPr b="0" lang="en-GB" sz="1900" spc="-1" strike="noStrike">
                <a:solidFill>
                  <a:srgbClr val="ff5050"/>
                </a:solidFill>
                <a:latin typeface="Calibri"/>
              </a:rPr>
              <a:t>(* supply your own! ;)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955080" y="1523880"/>
            <a:ext cx="409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my.rednoseday.com/gunkdun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2:32:50Z</dcterms:created>
  <dc:creator>CIS</dc:creator>
  <dc:description/>
  <dc:language>en-US</dc:language>
  <cp:lastModifiedBy>Mark Vella</cp:lastModifiedBy>
  <cp:lastPrinted>2011-03-16T12:39:37Z</cp:lastPrinted>
  <dcterms:modified xsi:type="dcterms:W3CDTF">2011-06-09T15:47:00Z</dcterms:modified>
  <cp:revision>5</cp:revision>
  <dc:subject/>
  <dc:title>Gunk Dunc for</dc:title>
</cp:coreProperties>
</file>