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CC9A-021B-4AC5-B835-8357AF903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60% of childhood ADHD continues into adulthoo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aren M. ADHD in adolescents: Will you know it when you see it? Contemporary Pediatrics 2002; 19: 124-14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10960" y="1025640"/>
            <a:ext cx="3811680" cy="69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 indicate evidence from behavioural genetics for a genetic link with AD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first-degree relatives of ADHD probands than in relatives of control individuals.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4.6% (1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R: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8% (2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V (derived from DSM-IIIR): 24% vs 6% 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second-degree relatives (4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other mental disorders, eg antisocial disorders, depression, anxiety disorders, drug or alcohol dependence (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optio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18% ADHD in biological parents of ADHD probands, 6% in adoptive parents of ADHD probands and 3% in biological parents of non-ADHD probands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wi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51% concordance of ADHD diagnosis in monozygotic and 33% concordance in dizygotic twins (6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enetic-model fitting: parent-rated hyperactivity and inattention scores in population samples of twins were substantially heritable, with heritability estimates ranging from 0.65-0.91 (7-11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ritability estimate’ = proportion of the variance of the trait in the general population accounted for by (additive) gene effec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10960" y="1025280"/>
            <a:ext cx="3811680" cy="70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HD may also be acquired and/ or modulated by certain biologic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strong association between maternal lifestyle factors in pregnancy and ADHD risk. Nicotine exposure is most evident, but intrauterine alcohol exposure also seems to show a dose-response relationship. ADHD is the dominant psychopathological feature observed in children with fetal alcohol syndrome (although these children exhibit a wide array of psychopathology) and children suffering fetal alcohol effects (a minor variant of the syndrome with less severe dysmorphic features) also experience long-lasting attention defic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exposure to nicotine does not lead to a dysmorphic syndrome but it does lead to reduced birth we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and perinatal risk factors, most notably prematurity and low birth weight, correlate with ADHD, but the association is not exclus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d allergies pertain to a small minority of ADHD children and have led to the development of the so-called ‘oligogenic’ diet. However, this is very complicated, difficult to implement effectively and suitable only for a few selected cases (it may now even be discredited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tribution of each biological factor is difficult to determine in any individual ca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B. Mothers who share ADHD-related genes with their offspring are more likely to smoke and drink alcohol while pregnant (passive gene-environment correla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D12B-7BE1-4A3C-BA67-38950BBF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17BE-6363-4893-AC14-7B84D462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985-68A6-4DB0-BA55-CCAA1CEA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CA3-E916-4076-BA82-4004110D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54DB-C4F3-41D4-B49D-70F26332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6B3-17E5-4397-9158-3B16A3CF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DD98-8753-43B8-B201-4E5C23BE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2C2F-E9DC-4FB3-ADF8-653D1EF0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A39-0279-45A6-802D-F4C398DC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7C7-5ECB-4F25-ABB2-A3FACAE3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C26D-8C3B-4769-93DB-932D94A9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B73-049D-4DF1-8D22-29673F7E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B254-2B59-4A77-A35B-22C358EC27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ctually, Didnt Have Discip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440" y="3276720"/>
            <a:ext cx="8466120" cy="1600200"/>
          </a:xfrm>
          <a:prstGeom prst="rightArrow">
            <a:avLst>
              <a:gd name="adj1" fmla="val 50000"/>
              <a:gd name="adj2" fmla="val 132267"/>
            </a:avLst>
          </a:prstGeom>
          <a:noFill/>
          <a:ln w="76320">
            <a:solidFill>
              <a:srgbClr val="ffa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560" y="3755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e-school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Adolescent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Ad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66760" y="4052160"/>
            <a:ext cx="79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imary School-age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 College-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143000" y="3200400"/>
            <a:ext cx="792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70480" y="3200400"/>
            <a:ext cx="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543800" y="3200400"/>
            <a:ext cx="0" cy="38088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64168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82444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4480" y="2467800"/>
            <a:ext cx="1447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4320" y="487656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96920"/>
            <a:ext cx="38862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Legal issues, smoking 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nd inj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484164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difficul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1677600"/>
            <a:ext cx="42674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Relationship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What cause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9640" y="1413000"/>
          <a:ext cx="7921800" cy="507528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89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herited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 risk of ADHD and other mental disorders in the relatives of pat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er incidence of ADHD in biological parents than in adoptive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structur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ces in volume, corresponding with seve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activ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activity in frontal lobe, parietal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atum, cerebell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functio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articular problem with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xecutive functio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maintaining attention and focus, working memory, impulse control) - links the problems described by St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95640" y="2060640"/>
            <a:ext cx="819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1800" y="371628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422100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1800" y="47973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6520" y="2060640"/>
            <a:ext cx="8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el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8880" y="2637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8880" y="314172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Test your executive (frontal lobe) function – stroop test</a:t>
            </a:r>
            <a:br>
              <a:rPr sz="4000"/>
            </a:br>
            <a:r>
              <a:rPr b="0" lang="en-GB" sz="1600" spc="-1" strike="noStrike">
                <a:solidFill>
                  <a:srgbClr val="e3ebf1"/>
                </a:solidFill>
                <a:latin typeface="Arial"/>
              </a:rPr>
              <a:t>Quickly read out the colour of each word (the colour, not the word)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2060640"/>
            <a:ext cx="819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Brain activ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oop test in ADHD: failure of frontal lobe ‘executive function’, (with compensatory activity in a different brain reg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2060640"/>
          <a:ext cx="7488360" cy="4525560"/>
        </p:xfrm>
        <a:graphic>
          <a:graphicData uri="http://schemas.openxmlformats.org/drawingml/2006/table">
            <a:tbl>
              <a:tblPr/>
              <a:tblGrid>
                <a:gridCol w="3499200"/>
                <a:gridCol w="420480"/>
                <a:gridCol w="3568680"/>
              </a:tblGrid>
              <a:tr h="38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H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1374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The child‘s environ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roblems during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Fetal exposure to nicotine, (+ other drugs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Extreme prematurity and low birth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Brain disorders (eg infections, trau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Low maternal fish oil consump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tachment’ problems, chaotic behavioural controls, dietary content and ‘modern lif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all make ADHD wor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make mild ADHD more sev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nce environmental changes alone may be enough to cause mild symptoms of ADHD – but unlikely to be enough to cause severe f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25080" cy="413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14842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(Gaussian) distribution curve - birth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low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high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5" name="Oval 7"/>
          <p:cNvSpPr/>
          <p:nvPr/>
        </p:nvSpPr>
        <p:spPr>
          <a:xfrm>
            <a:off x="125892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executive function 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9" name="Oval 7"/>
          <p:cNvSpPr/>
          <p:nvPr/>
        </p:nvSpPr>
        <p:spPr>
          <a:xfrm>
            <a:off x="2268360" y="4724280"/>
            <a:ext cx="71460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Low average inherited executive function ability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5013360"/>
            <a:ext cx="719280" cy="503280"/>
          </a:xfrm>
          <a:prstGeom prst="leftArrow">
            <a:avLst>
              <a:gd name="adj1" fmla="val 50000"/>
              <a:gd name="adj2" fmla="val 357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4" name="Oval 7"/>
          <p:cNvSpPr/>
          <p:nvPr/>
        </p:nvSpPr>
        <p:spPr>
          <a:xfrm>
            <a:off x="637236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blood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ttention Deficit Hyperactivity Disor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8" name="Oval 7"/>
          <p:cNvSpPr/>
          <p:nvPr/>
        </p:nvSpPr>
        <p:spPr>
          <a:xfrm>
            <a:off x="5435640" y="465300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High average inherited blood pressure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4941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…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inly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 nurture, but usually less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 – parents of an ADHD child more likely to have ADHD themselves, and so will be have higher risk of problems of their 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 sometimes environmental change can be enough, but in severe cases, usually not – just like high blood pressu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agnosis depends to an extent on where we decide to place the threshold on the normal distribution curve – just like high bloo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GN’s recommendations for assessment for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atient/carer int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ld/young person intervie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nai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ycho-educational assess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exami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cillary (physical, psychiatric and psychological) assess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ayside, the above take place via specialist interviews of child and family, school questionnaires, school observations, screening for related diagnoses, before diagnosis confirm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means ADHD assessment should be don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arefull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and by people with the correct experience, skills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and so usually not GP’s, only occasionally Paediatricans, and mainly CAMHS clinici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kill is not just in ticking diagnosis boxes but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Achieving the correct threshold for 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Recognising other potential causes of ADHD-like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Assessing severity and deciding on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imitato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spir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naugh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xiety or Mood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achment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cs/Touret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rning dis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H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iri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tism spectr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urette’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ld t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ting disor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hion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manag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ducation of all conce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ent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acher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ld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eatment of other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initiation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monitoring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do we need to talk about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DHD remains under-diagnosed and untreated in many patient groups and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ubt still exists as to the validity of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auses and effects of ADHD are often questio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people believe medication is unnecessary and over-prescri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s of diagno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belling, stigma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empowering parent and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ving responsibility for boundar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nefits of diagn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tigmat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owering parent and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olving responsibility for ‘failed’ boundary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self este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family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cognitive and psychosocial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failure in adult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parenting of next gen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Overall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ppropriate assessment and management of ADHD, (including the use of medication) continues to be an important way of moderating both current and future problems associated with the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eful assessment is required to achieve the right ratio of benefits and risks – as with any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873520" y="1600200"/>
            <a:ext cx="339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4976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0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2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3076560" cy="3433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George Still, 1902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d 62 children with ‘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ficits in inhibitory volition, moral control and sustained atten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ggested that these problems were causally related to each other and to the same underlying brain-based proble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peculated that these children had particular difficulty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sponse inhib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 a ‘cortical disconnection syndrome’ (he was probably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– current diagnosi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Developmentally inappropriate levels of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nattention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Hyperactivity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mpulsivity </a:t>
            </a:r>
            <a:br>
              <a:rPr sz="2800"/>
            </a:b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have persisted for at least 6 months, and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significant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impairing</a:t>
            </a:r>
            <a:br>
              <a:rPr sz="2400"/>
            </a:b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perva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rough more than one aspect of the child’s lif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set of symptoms no later than age 7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51160" y="1922400"/>
            <a:ext cx="0" cy="3073320"/>
          </a:xfrm>
          <a:prstGeom prst="line">
            <a:avLst/>
          </a:prstGeom>
          <a:ln w="30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5760" y="1828800"/>
            <a:ext cx="6619680" cy="3459600"/>
            <a:chOff x="995760" y="1828800"/>
            <a:chExt cx="6619680" cy="3459600"/>
          </a:xfrm>
        </p:grpSpPr>
        <p:sp>
          <p:nvSpPr>
            <p:cNvPr id="69" name=""/>
            <p:cNvSpPr/>
            <p:nvPr/>
          </p:nvSpPr>
          <p:spPr>
            <a:xfrm>
              <a:off x="3211920" y="1909800"/>
              <a:ext cx="0" cy="3072960"/>
            </a:xfrm>
            <a:prstGeom prst="line">
              <a:avLst/>
            </a:prstGeom>
            <a:ln w="3049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95760" y="18288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Childre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7240" y="417744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Adul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8600" y="1840320"/>
              <a:ext cx="31568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Motor hyperactiv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Aggres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Low frustration tolera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ul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distract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nattent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Shifts activ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bor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at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Restless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80880" y="59976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2:41:00Z</dcterms:created>
  <dc:creator>Coghill</dc:creator>
  <dc:description/>
  <dc:language>en-US</dc:language>
  <cp:lastModifiedBy>SIPBS</cp:lastModifiedBy>
  <dcterms:modified xsi:type="dcterms:W3CDTF">2009-02-05T09:55:39Z</dcterms:modified>
  <cp:revision>45</cp:revision>
  <dc:subject/>
  <dc:title>Slide 1</dc:title>
</cp:coreProperties>
</file>