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0A0-848D-4C83-9880-87229F89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9F6-F6BA-435B-821F-CDD2618D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E7B-BD0B-4618-AD91-07CAA77C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CD26-B457-4B28-B461-C810AED9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663-1E1B-44C3-A6CD-3BBC5637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E2C7-BA73-4255-895C-D9717DAB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07B-63FF-4311-817E-CE529F73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940-B632-4EC1-9FB1-3FD73B4A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2BB-29BE-4DFC-9266-35741E91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074-306C-4BD5-B39A-B11E4402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EF6-EEEC-422D-9CCE-77745C73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DB2A-E265-421B-A015-5CA93274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F14E-698C-46D8-AC5F-C09D5F5C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E816-9211-4A9B-AEA4-8C195C82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C3BD-6221-470C-BCA5-9F161F77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878D-E43C-4FC2-999D-2FED4BC4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1308-F4F3-4811-8CDE-A7424F71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DEA6-781E-49D3-973A-51F87834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7459-B2D2-4BD3-A769-C4EC9E3E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903B-4E87-4F67-AF4C-5D4B26B2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D5E3-BA47-43D3-A26C-FD78929E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79BC-459C-45E1-B558-D92F8423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D371-B88B-4647-9E0F-89393084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57E7-D293-4BFB-8D67-E8BDDADD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120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0465-2700-41FF-A337-D12D2A8D8A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0FA8-7BB7-454E-902B-ECEBBDBE9D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93560" y="4633560"/>
            <a:ext cx="816768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azala Akram. MPH. MRPharm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ecturer, Strathclyde Institute of Pharmacy &amp; Biomedical Sciences       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nior Clinical Pharmacist, Child Psychiatry, NHS GG &amp; Clyd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9640" y="522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M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09604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mmediate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need to be taken 2 - 3 times a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ustained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once a day, (before schoo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fferent SR brands have different durations of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certa XL  (12 hour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Equasym XL, Medikinet XL (8 hou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ptimal response to medication depends on manipulation of dosage, timing and for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4633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D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Greater potency than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mediate release tablets on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dose usually in afterno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ess well tolerated: side effects more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967440" y="4089240"/>
            <a:ext cx="1640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4377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tomoxetine (Stratter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3160" y="1631880"/>
            <a:ext cx="432756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n 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nce or twice a day d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 abuse pot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t effective in brain areas associated with reinforcing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bdominal pain or 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ecreased appet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rritability, mood s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zz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24480" y="1677960"/>
            <a:ext cx="44971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onger time for effect (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are, but more serious 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uicidal thoughts, de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iver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rdiac proble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7880" y="59184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3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 line therap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773000"/>
            <a:ext cx="832464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hyper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clon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sedation, dizziness,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blood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depressant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(rarely used in child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imipramine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dry mouth, blurred vision, consti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are, but more serious effects: cardiac problems,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3040" y="318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Response to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6080" y="1631520"/>
            <a:ext cx="80960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Usually by rating scales or check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eedback to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ating scales use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Teacher Rating Scale (CT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Global Index-teacher (CGI-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DQ (conduct problems, emotional symptoms, hyperactivity, peer relationships, pro-social behaviou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Familiarise yourself with local procedure: what is your expected contribu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member - checklists are only a 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504360"/>
            <a:ext cx="80964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0680" y="1577880"/>
            <a:ext cx="86644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If at school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at is the local policy regarding administration of medi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o administers the medication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Procedure for recording administration / dispensing lo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afe secure storage: is the medicine in the                original labelled child proof contain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s administration supervi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784920" y="4557600"/>
            <a:ext cx="1546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0960" y="6570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 (con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2080" y="1987560"/>
            <a:ext cx="8439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s window of time during which the medication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a dose is mi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the child accidentally takes an extra d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f child refuses the med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f side effects are evident, who do you in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rugs &amp; alcohol can interact with medication; if suspected, what do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3280" y="2664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Non compliance with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320" y="1442880"/>
            <a:ext cx="8613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conveni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Difficult swallowing med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adequate super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ttitudes: reluctance to take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DHD related facto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ppositional/defiant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oor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asy distrac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0040" y="455400"/>
            <a:ext cx="80964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ditional points to remembe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1720" y="1498680"/>
            <a:ext cx="85690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may feel awkward taking medic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t all children respond to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ymptoms chang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You are not on your own</a:t>
            </a: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Arial Narrow"/>
              </a:rPr>
              <a:t>Additional support is available from local educational services or CAM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7280" y="426960"/>
            <a:ext cx="8096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Internet sources of information on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479240"/>
            <a:ext cx="83246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nhs24.com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ealth Information &amp; Self Care advice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rom NHS Scot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addis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ational ADHD information &amp; support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mind.org.uk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ntal health charity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rcpsych.ac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yal College of Psychiat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besttreatment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MJ Publishing Group Best Treat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 Narrow"/>
              </a:rPr>
              <a:t>//premium.netdoktor.com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Online Health port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26320" y="482112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3680" y="597960"/>
            <a:ext cx="66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verview of biological basis of symp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ole of med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scription of different type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 and limitation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ources of inform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34200" y="4202280"/>
            <a:ext cx="2219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800" y="561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Biological basis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701720"/>
            <a:ext cx="86310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normality in processing incoming stimu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efective inhibitory respon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ifficulty sustaining attention, organising, ‘following through’ and problem sol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riad of inattention, hyperactivity &amp;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1-5% prevalence,  30% chronic (adultho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lated problems: disruptive behaviours, emotional                     disorders, develop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94600" y="3540240"/>
            <a:ext cx="1585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7400" y="573120"/>
            <a:ext cx="80960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HD in the classro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840" y="1589040"/>
          <a:ext cx="912816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589040"/>
                    <a:ext cx="912816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320" y="576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y use medic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760400"/>
            <a:ext cx="842004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dication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gulates the release of neurotransmitters that process arousal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Medication improves information processing and symptoms of inattention, impulsivity and hyperactivit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ollow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more att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distra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inish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hype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thinks before 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51680" y="3998880"/>
            <a:ext cx="2193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1720" y="55512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at medication won’t 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798560"/>
            <a:ext cx="83372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ure AD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prove intelligence/academic performance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ut may increase child's capacity for learning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ange the child's 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n ‘addict’ or substance abuser in later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 “zombie”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should not appear blunted, sedated or un-al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71240"/>
            <a:ext cx="8096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Type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6640" y="1463760"/>
            <a:ext cx="85849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sycho-stimul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methylphenidate (Ritalin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3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dexamphetamine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(Dexedrine)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atomoxetine (Strattera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ed when stimulants are ineffective or intoler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: Other (usually antihypertensive or antidepress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to augment therapy or if no response to other med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ually initiated by specialist (psychiatrist or paediatrician)</a:t>
            </a:r>
            <a:r>
              <a:rPr b="0" lang="en-GB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e are habit forming or addictive = NO WITHDRAW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UT ADHD symptoms will return wh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0680" y="2757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3720" y="1560240"/>
            <a:ext cx="828216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ed in 1950s, licensed for hyperactivity in 1957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efficacy &amp; safety demonstrated in &gt;100 R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acilitate action of neurotransmi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se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15 minutes after taking a d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ur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PH = 4 hours, DEX= 6 hou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D POM: Controlled Drug Prescription Only Medicine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cure storage and handling requirements</a:t>
            </a:r>
            <a:r>
              <a:rPr b="0" lang="en-GB" sz="2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ontroversial (abuse?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ute of administration and potency unlikely to produce euphor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70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 side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857240"/>
            <a:ext cx="855972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Growth retardation (height &amp; weigh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ardiac effects (blood pressure &amp; heart rat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nsom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norex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dominal pai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Sadness/low mood &amp; mood sw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rrita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Head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ics (nervous movement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3:18Z</dcterms:created>
  <dc:creator>scott o'donnell</dc:creator>
  <dc:description/>
  <dc:language>en-US</dc:language>
  <cp:lastModifiedBy>SIPBS</cp:lastModifiedBy>
  <dcterms:modified xsi:type="dcterms:W3CDTF">2009-02-05T09:51:25Z</dcterms:modified>
  <cp:revision>83</cp:revision>
  <dc:subject/>
  <dc:title>PowerPoint Presentation</dc:title>
</cp:coreProperties>
</file>