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B5A-CFCC-43F6-A621-178CCB21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901-86D4-4155-8F53-1C22173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ED3-32AA-41EB-8240-4870F580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2F1-B0A2-4057-8975-99B7A267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83B-39D1-46B5-8083-27069B0A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223-874C-4378-946E-8213A45F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084-6398-4485-B4B0-C17E9920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D8F-9A4D-4C2E-8FD0-37ECBA9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252-9B3A-40E2-B1B8-8A35A9D1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BE2-4EDE-49FD-A66F-8435FA24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FC9-915A-45EC-8BB2-245C2C49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C31-AF86-4338-897B-3A41FEE6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7252-6164-42CA-BF79-E76C654E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BF17-3045-4330-B287-3F5FB4A3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129A-7B33-4F66-A927-2B585664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E661-78A4-4346-AD2B-01450EC1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9FE8-A999-4982-97AD-44FE88E7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77B3-5766-4234-B074-78287941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CDFC-569F-43A6-8680-CC98D0F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3E59-A166-4DCE-A33C-1C3A872B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E248-03F8-4F72-BBBF-9354E2F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EF9F-8105-42A6-AE37-F85782B1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E6B4-BA83-47A5-B7C1-D29B6AF3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7060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8040" y="198756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16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7060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8040" y="4137120"/>
            <a:ext cx="260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7B8B-65AA-4ECC-BFD7-C830FC67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826560"/>
            <a:ext cx="8096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413712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987560"/>
            <a:ext cx="395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37120"/>
            <a:ext cx="8096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8265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2120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68CA-0F51-401F-BF94-29FB23867C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E5C3-D621-4DAC-BED6-D75C80AC0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2208240"/>
            <a:ext cx="81694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93560" y="4633560"/>
            <a:ext cx="816768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Gazala Akram. MPH. MRPharm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cturer, Strathclyde Institute of Pharmacy &amp; Biomedical Sciences      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nior Clinical Pharmacist, Child Psychiatry, NHS GG &amp; Clyd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9640" y="522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M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09604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mmediate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need to be taken 2 - 3 times a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ustained Releas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once a day, (before schoo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fferent SR brands have different durations of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certa XL  (12 hour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Equasym XL, Medikinet XL (8 ho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ptimal response to medication depends on manipulation of dosage, timing and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4633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stimulant Preparations: D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Greater potency than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mediate release tablets onl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dose usually in afterno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ess well tolerated: side effects more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967440" y="4089240"/>
            <a:ext cx="1640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4680" y="43776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tomoxetine (Strattera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3160" y="1631880"/>
            <a:ext cx="432756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n 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nce or twice a day do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 abuse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ot effective in brain areas associated with reinforcing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dominal pain or 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ecreased appet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rritability, mood s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24480" y="1677960"/>
            <a:ext cx="44971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onger time for effect (4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are, but more serious side effects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uicidal thoughts, de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iver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diac proble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7880" y="59184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3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 line therap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773000"/>
            <a:ext cx="832464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hyper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clon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sedation, dizziness,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blood pres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ntidepressant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(rarely used in child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.g. imipramin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: dry mouth, blurred vision, consti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are, but more serious effects: cardiac problems, seiz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3040" y="318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Response to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1631520"/>
            <a:ext cx="809604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Usually by rating scales or check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eedback to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ating scales used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Teacher Rating Scale (CT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Connor’s Global Index-teacher (CGI-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SDQ (conduct problems, emotional symptoms, hyperactivity, peer relationships, pro-social behaviou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amiliarise yourself with local procedure: what is your expected contribu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member - checklists are only a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1040" y="504360"/>
            <a:ext cx="80964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680" y="1577880"/>
            <a:ext cx="8664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If at school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at is the local policy regarding administration of medic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Who administers the medication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Procedure for recording administration / dispensing lo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afe secure storage: is the medicine in the                original labelled child proof contain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38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s administration supervis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784920" y="4557600"/>
            <a:ext cx="1546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0960" y="6570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ministration of medication (con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2080" y="1987560"/>
            <a:ext cx="84391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s window of time during which the medication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a dose is mi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to do if the child accidentally takes an extra d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at if child refuses the med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f side effects are evident, who do you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rugs &amp; alcohol can interact with medication; if suspected, what do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3280" y="2664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Non compliance with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74320" y="1442880"/>
            <a:ext cx="8613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conven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Sid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Difficult swallowing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Inadequate super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ttitudes: reluctance to take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ADHD related facto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oppositional/defia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or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easy distrac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0040" y="455400"/>
            <a:ext cx="80964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ditional points to remember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1720" y="1498680"/>
            <a:ext cx="85690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may feel awkward taking medic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t all children respond to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ymptoms change with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You are not on your own</a:t>
            </a:r>
            <a:r>
              <a:rPr b="1" i="1" lang="en-GB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Arial Narrow"/>
              </a:rPr>
              <a:t>Additional support is available from local educational services or CAM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426960"/>
            <a:ext cx="8096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Internet sources of information on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479240"/>
            <a:ext cx="8324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nhs24.com 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Health Information &amp; Self Care advic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from NHS Scot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addis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National ADHD information &amp; support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mind.org.uk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ntal health charity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rcpsych.ac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yal College of Psychiat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ww.besttreatments.co.uk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MJ Publishing Group Best Treat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 Narrow"/>
              </a:rPr>
              <a:t>//premium.netdoktor.com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Online Health por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26320" y="4821120"/>
            <a:ext cx="18144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3680" y="597960"/>
            <a:ext cx="66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harmacological treatment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987560"/>
            <a:ext cx="80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 of biological basis of sympto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ole of med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Description of different type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de effects and limit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ources of inform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334200" y="4202280"/>
            <a:ext cx="2219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5800" y="56160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Biological basis of ADH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701720"/>
            <a:ext cx="86310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normality in processing incoming stimu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efective inhibitory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Difficulty sustaining attention, organising, ‘following through’ and problem 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riad of inattention, hyperactivity &amp; impuls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1-5% prevalence,  30% chronic (adulthoo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lated problems: disruptive behaviours, emotional                     disorders, developmental disor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94600" y="3540240"/>
            <a:ext cx="1585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7400" y="573120"/>
            <a:ext cx="80960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ADHD in the classro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840" y="1589040"/>
          <a:ext cx="9128160" cy="49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9040"/>
                    <a:ext cx="91281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320" y="57600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y use medic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760400"/>
            <a:ext cx="842004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edication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regulates the release of neurotransmitters that process arousal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Medication improves information processing and symptoms of inattention, impulsivity and hyperactiv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ollow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more att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distrac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able to finish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less hype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thinks before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151680" y="3998880"/>
            <a:ext cx="2193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1720" y="55512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What medication won’t 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798560"/>
            <a:ext cx="8337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ure AD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mprove intelligence/academic performance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ut may increase child's capacity for learning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nge the child's per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n ‘addict’ or substance abuser in later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312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urn child into a “zombie”</a:t>
            </a:r>
            <a:r>
              <a:rPr b="0" lang="en-GB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ild should not appear blunted, sedated or un-al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71240"/>
            <a:ext cx="8096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Type of med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6640" y="1463760"/>
            <a:ext cx="85849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sycho-stimul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methylphenidate (Ritalin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dexamphetamine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(Dexedrine)</a:t>
            </a:r>
            <a:r>
              <a:rPr b="0" lang="en-GB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stimu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atomoxetine (Strattera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ed when stimulants are ineffective or intoler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line: Other (usually antihypertensive or antidepress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to augment therapy or if no response to other med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2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Narrow"/>
              </a:rPr>
              <a:t>usually initiated by specialist (psychiatrist or paediatrician)</a:t>
            </a:r>
            <a:r>
              <a:rPr b="0" lang="en-GB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e are habit forming or addictive = NO WITHDRAW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5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UT ADHD symptoms will return wh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0680" y="2757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3720" y="1560240"/>
            <a:ext cx="82821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veloped in 1950s, licensed for hyperactivity in 1957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efficacy &amp; safety demonstrated in &gt;100 R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acilitate action of neurotransmit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nse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15 minutes after taking a d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uration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f effect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 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PH = 4 hours, DEX= 6 h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D POM: Controlled Drug Prescription Only Medicine 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cure storage and handling requirements</a:t>
            </a:r>
            <a:r>
              <a:rPr b="0" lang="en-GB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ontroversial (abuse?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oute of administration and potency unlikely to produce euphor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70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 Narrow"/>
              </a:rPr>
              <a:t>Psycho-stimulant 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857240"/>
            <a:ext cx="8559720" cy="46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Growth retardation (height &amp; weigh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rdiac effects (blood pressure &amp; heart rat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nsom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norex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Abdominal pain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adness/low mood &amp; mood sw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Irrita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Heada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Tics (nervous movement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0:33:18Z</dcterms:created>
  <dc:creator>scott o'donnell</dc:creator>
  <dc:description/>
  <dc:language>en-US</dc:language>
  <cp:lastModifiedBy>SIPBS</cp:lastModifiedBy>
  <dcterms:modified xsi:type="dcterms:W3CDTF">2009-02-05T09:51:25Z</dcterms:modified>
  <cp:revision>83</cp:revision>
  <dc:subject/>
  <dc:title>PowerPoint Presentation</dc:title>
</cp:coreProperties>
</file>