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7CA7-4E1A-4575-B028-FF422F68A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60% of childhood ADHD continues into adulthood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Baren M. ADHD in adolescents: Will you know it when you see it? Contemporary Pediatrics 2002; 19: 124-14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10960" y="1025640"/>
            <a:ext cx="3811680" cy="69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 indicate evidence from behavioural genetics for a genetic link with ADH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first-degree relatives of ADHD probands than in relatives of control individuals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4.6% (1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IIR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5% vs 8% (2)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SM-IV (derived from DSM-IIIR): 24% vs 6%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ADHD in second-degree relatives (4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higher prevalence of other mental disorders, eg antisocial disorders, depression, anxiety disorders, drug or alcohol dependence (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optio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18% ADHD in biological parents of ADHD probands, 6% in adoptive parents of ADHD probands and 3% in biological parents of non-ADHD probands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win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51% concordance of ADHD diagnosis in monozygotic and 33% concordance in dizygotic twins (6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netic-model fitting: parent-rated hyperactivity and inattention scores in population samples of twins were substantially heritable, with heritability estimates ranging from 0.65-0.91 (7-11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ritability estimate’ = proportion of the variance of the trait in the general population accounted for by (additive) gene effec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056040" y="39852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10960" y="1025280"/>
            <a:ext cx="3811680" cy="70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al i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HD may also be acquired and/ or modulated by certain biological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’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strong association between maternal lifestyle factors in pregnancy and ADHD risk. Nicotine exposure is most evident, but intrauterine alcohol exposure also seems to show a dose-response relationship. ADHD is the dominant psychopathological feature observed in children with fetal alcohol syndrome (although these children exhibit a wide array of psychopathology) and children suffering fetal alcohol effects (a minor variant of the syndrome with less severe dysmorphic features) also experience long-lasting attention defic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exposure to nicotine does not lead to a dysmorphic syndrome but it does lead to reduced birth we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natal and perinatal risk factors, most notably prematurity and low birth weight, correlate with ADHD, but the association is not exclus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od allergies pertain to a small minority of ADHD children and have led to the development of the so-called ‘oligogenic’ diet. However, this is very complicated, difficult to implement effectively and suitable only for a few selected cases (it may now even be discredited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tribution of each biological factor is difficult to determine in any individual c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B. Mothers who share ADHD-related genes with their offspring are more likely to smoke and drink alcohol while pregnant (passive gene-environment correla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64D-BB0B-412D-9829-9BE08501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889-7DF1-4638-B885-224E6A7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1BD-D815-4F83-991F-D68FDE16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59D-771C-4964-8015-B2AE69EE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96D-9BE5-4B52-800D-B02AC0C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F86-37C1-4FF8-81F0-B8E9852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B14-9B7B-4429-8B12-A86059A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894-BE65-48B1-907D-13645C5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0D6-8486-421A-8269-60809D0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49A-165D-4D63-A573-13E2980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D8A-6C4B-4EEA-897F-FBACCE7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71B-A679-4D4E-A7F9-26D354A4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37C5-D1DA-49C1-81CC-317FFB5B7F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ctually, Didnt Have Discip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440" y="3276720"/>
            <a:ext cx="8466120" cy="1600200"/>
          </a:xfrm>
          <a:prstGeom prst="rightArrow">
            <a:avLst>
              <a:gd name="adj1" fmla="val 50000"/>
              <a:gd name="adj2" fmla="val 132267"/>
            </a:avLst>
          </a:prstGeom>
          <a:noFill/>
          <a:ln w="76320">
            <a:solidFill>
              <a:srgbClr val="ffa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560" y="37551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e-school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Adolescent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Ad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66760" y="4052160"/>
            <a:ext cx="79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Primary School-age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"/>
              </a:rPr>
              <a:t>   College-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43000" y="3200400"/>
            <a:ext cx="792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70480" y="3200400"/>
            <a:ext cx="0" cy="45720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543800" y="3200400"/>
            <a:ext cx="0" cy="380880"/>
          </a:xfrm>
          <a:prstGeom prst="line">
            <a:avLst/>
          </a:prstGeom>
          <a:ln w="38160">
            <a:solidFill>
              <a:srgbClr val="ffcc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4168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824440" y="4495320"/>
            <a:ext cx="0" cy="381240"/>
          </a:xfrm>
          <a:prstGeom prst="line">
            <a:avLst/>
          </a:prstGeom>
          <a:ln w="38160">
            <a:solidFill>
              <a:srgbClr val="ffcc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4480" y="2467800"/>
            <a:ext cx="1447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4320" y="487656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Behavioural disturb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96920"/>
            <a:ext cx="38862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Difficulty with social inter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Legal issues, smoking 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nd inj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4841640"/>
            <a:ext cx="3657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Academic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difficul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1677600"/>
            <a:ext cx="42674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Occupational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elf-esteem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Relationship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Injury/acc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</a:rPr>
              <a:t>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What cause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9640" y="1413000"/>
          <a:ext cx="7921800" cy="5075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89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herited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 risk of ADHD and other mental disorders in the relatives of pat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ef9c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igher incidence of ADHD in biological parents than in adoptive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0" bIns="46800" anchor="t">
                      <a:noAutofit/>
                    </a:bodyPr>
                    <a:p>
                      <a:pPr marL="542880" indent="-2761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structur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ces in volume, corresponding with seve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activ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d activity in frontal lobe, parietal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atum, cerebell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ain func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articular problem with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ecutive functio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aintaining attention and focus, working memory, impulse control) - links the problems described by St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2060640"/>
            <a:ext cx="819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1800" y="37162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4221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1800" y="47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6520" y="2060640"/>
            <a:ext cx="8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Yel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8880" y="2637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8880" y="3141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Test your executive (frontal lobe) function – stroop test</a:t>
            </a:r>
            <a:br>
              <a:rPr sz="4000"/>
            </a:br>
            <a:r>
              <a:rPr b="0" lang="en-GB" sz="1600" spc="-1" strike="noStrike">
                <a:solidFill>
                  <a:srgbClr val="e3ebf1"/>
                </a:solidFill>
                <a:latin typeface="Arial"/>
              </a:rPr>
              <a:t>Quickly read out the colour of each word (the colour, not the word)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2060640"/>
            <a:ext cx="819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d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5c61a"/>
                </a:solidFill>
                <a:latin typeface="Arial"/>
              </a:rPr>
              <a:t>Blue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en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d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ree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ue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Brain activit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oop test in ADHD: failure of frontal lobe ‘executive function’, (with compensatory activity in a different brain reg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5640" y="2060640"/>
          <a:ext cx="7488360" cy="4525560"/>
        </p:xfrm>
        <a:graphic>
          <a:graphicData uri="http://schemas.openxmlformats.org/drawingml/2006/table">
            <a:tbl>
              <a:tblPr/>
              <a:tblGrid>
                <a:gridCol w="3499200"/>
                <a:gridCol w="420480"/>
                <a:gridCol w="3568680"/>
              </a:tblGrid>
              <a:tr h="38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rm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H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bf1"/>
                </a:solidFill>
                <a:latin typeface="Arial"/>
              </a:rPr>
              <a:t>So...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1374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he child‘s environ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Problems during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Fetal exposure to nicotine, (+ other drugs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Extreme prematurity and low birth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Brain disorders (eg infections, trau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ow maternal fish oil consump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-263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tachment’ problems, chaotic behavioural controls, dietary content and ‘modern lif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all make ADHD wo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y make mild ADHD more seve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0200" indent="-1695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nce environmental changes alone may be enough to cause mild symptoms of ADHD – but unlikely to be enough to cause severe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25080" cy="413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14842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(Gaussian) distribution curve - birth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3789360"/>
            <a:ext cx="360360" cy="1079640"/>
          </a:xfrm>
          <a:prstGeom prst="downArrow">
            <a:avLst>
              <a:gd name="adj1" fmla="val 50000"/>
              <a:gd name="adj2" fmla="val 7490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low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9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high – (probl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5" name="Oval 7"/>
          <p:cNvSpPr/>
          <p:nvPr/>
        </p:nvSpPr>
        <p:spPr>
          <a:xfrm>
            <a:off x="125892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executive function 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ADHD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19" name="Oval 7"/>
          <p:cNvSpPr/>
          <p:nvPr/>
        </p:nvSpPr>
        <p:spPr>
          <a:xfrm>
            <a:off x="2268360" y="4724280"/>
            <a:ext cx="71460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Low average inherited executive function ability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5013360"/>
            <a:ext cx="719280" cy="503280"/>
          </a:xfrm>
          <a:prstGeom prst="leftArrow">
            <a:avLst>
              <a:gd name="adj1" fmla="val 50000"/>
              <a:gd name="adj2" fmla="val 357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4" name="Oval 7"/>
          <p:cNvSpPr/>
          <p:nvPr/>
        </p:nvSpPr>
        <p:spPr>
          <a:xfrm>
            <a:off x="6372360" y="530064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Normal distribution of inherited blood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Attention Deficit Hyperactivity Disor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84360" y="1052640"/>
          <a:ext cx="4608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052640"/>
                    <a:ext cx="4608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How common is high blood pressure? 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3440" cy="4843440"/>
          </a:xfrm>
          <a:prstGeom prst="rect">
            <a:avLst/>
          </a:prstGeom>
          <a:ln w="0">
            <a:noFill/>
          </a:ln>
        </p:spPr>
      </p:pic>
      <p:sp>
        <p:nvSpPr>
          <p:cNvPr id="128" name="Oval 7"/>
          <p:cNvSpPr/>
          <p:nvPr/>
        </p:nvSpPr>
        <p:spPr>
          <a:xfrm>
            <a:off x="5435640" y="4653000"/>
            <a:ext cx="714240" cy="785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70028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High average inherited blood pressure +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720" y="4941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00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So…What causes ADH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inly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 nurture, but usually les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t – parents of an ADHD child more likely to have ADHD themselves, and so will be have higher risk of problems of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sometimes environmental change can be enough, but in severe cases, usually not – just like high blood press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agnosis depends to an extent on where we decide to place the threshold on the normal distribution curve – just like high blood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GN’s recommendations for assessment for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tient/carer int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ild/young person intervi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nai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ycho-educational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exami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cillary (physical, psychiatric and psychological) assess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ayside, the above take place via specialist interviews of child and family, school questionnaires, school observations, screening for related diagnoses, before diagnosis confirm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means ADHD assessment should be don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arefull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nd by people with the correct experience, skills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so usually not GP’s, only occasionally Paediatricans, and mainly CAMHS clinici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kill is not just in ticking diagnosis boxes but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Achieving the correct threshold for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Recognising other potential causes of ADHD-like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sessing severity and deciding 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imitator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spirit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rmal (naugh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xiety or Mood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ment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cs/Tour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di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H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iri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tism spectr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urette’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ild t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CAMHS Assess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a fine bal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3429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5734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hion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manage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 of all conce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ent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ld support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eatment of other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initiation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 monitoring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Why do we need to talk about ADHD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DHD remains under-diagnosed and untreated in many patient groups and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t still exists as to the validity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auses and effects of ADHD are often questio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people believe medication is unnecessary and over-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s of diagno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belling, stigma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empowering parent and c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ving responsibility for boundar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cation 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Risk:Benefit Ratio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diagnos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tigmat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owering parent and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ving responsibility for ‘failed’ boundary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self est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family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d cognitive and psychosocial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failure in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parenting of next gen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Overall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ropriate assessment and management of ADHD, (including the use of medication) continues to be an important way of moderating both current and future problems associated with the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assessment is required to achieve the right ratio of benefits and risks – as with any diagn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73520" y="1600200"/>
            <a:ext cx="339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4976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2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3076560" cy="3433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George Still, 1902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d 62 children with ‘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ficits in inhibitory volition, moral control and sustained atten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ggested that these problems were causally related to each other and to the same underlying brain-based probl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peculated that these children had particular difficulty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ponse inhib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 a ‘cortical disconnection syndrome’ (he was probably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Arial"/>
              </a:rPr>
              <a:t>ADHD – current diagno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evelopmentally inappropriate levels of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nattention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Hyperactivity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Impulsivity </a:t>
            </a:r>
            <a:br>
              <a:rPr sz="2800"/>
            </a:br>
            <a:r>
              <a:rPr b="1" lang="en-GB" sz="28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have persisted for at least 6 months, and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significant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impairing</a:t>
            </a:r>
            <a:br>
              <a:rPr sz="2400"/>
            </a:b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mptoms must be </a:t>
            </a:r>
            <a:r>
              <a:rPr b="1" lang="en-GB" sz="2400" spc="-1" strike="noStrike" u="sng">
                <a:solidFill>
                  <a:srgbClr val="66ccff"/>
                </a:solidFill>
                <a:uFillTx/>
                <a:latin typeface="Arial"/>
              </a:rPr>
              <a:t>pervas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rough more than one aspect of the child’s lif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set of symptoms no later than age 7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ADHD symptoms in real lif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51160" y="1922400"/>
            <a:ext cx="0" cy="3073320"/>
          </a:xfrm>
          <a:prstGeom prst="line">
            <a:avLst/>
          </a:prstGeom>
          <a:ln w="30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5760" y="1828800"/>
            <a:ext cx="6619680" cy="3459600"/>
            <a:chOff x="995760" y="1828800"/>
            <a:chExt cx="6619680" cy="3459600"/>
          </a:xfrm>
        </p:grpSpPr>
        <p:sp>
          <p:nvSpPr>
            <p:cNvPr id="69" name=""/>
            <p:cNvSpPr/>
            <p:nvPr/>
          </p:nvSpPr>
          <p:spPr>
            <a:xfrm>
              <a:off x="3211920" y="1909800"/>
              <a:ext cx="0" cy="3072960"/>
            </a:xfrm>
            <a:prstGeom prst="line">
              <a:avLst/>
            </a:prstGeom>
            <a:ln w="3049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95760" y="1828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Childre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7240" y="417744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Arial Black"/>
                </a:rPr>
                <a:t>Adul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600" y="1840320"/>
              <a:ext cx="31568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Motor hyperactiv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Aggres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Low frustration tolera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uls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distract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nattentive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Shifts activ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Easily bo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Impat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187200" indent="-187200">
                <a:buClr>
                  <a:srgbClr val="ffff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Restlessn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80880" y="59976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2:41:00Z</dcterms:created>
  <dc:creator>Coghill</dc:creator>
  <dc:description/>
  <dc:language>en-US</dc:language>
  <cp:lastModifiedBy>SIPBS</cp:lastModifiedBy>
  <dcterms:modified xsi:type="dcterms:W3CDTF">2009-02-05T09:55:39Z</dcterms:modified>
  <cp:revision>45</cp:revision>
  <dc:subject/>
  <dc:title>Slide 1</dc:title>
</cp:coreProperties>
</file>