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D71-36D3-405F-837D-60C85B51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EA6-027A-41D9-B478-CBB2E1BB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14B-2110-48C6-A143-D7AFA77A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1857-B456-4BAB-B214-022C4CE9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AF6-1E1E-4861-8ED4-30CF63A3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49AF-90E5-4ADD-8F23-4E0F660B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40B-7AC5-4F4F-BCF8-AF97DFDA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A97B-36D0-44FF-B6C7-1F96A6D1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BF30-6FE6-4E36-BD6B-BD2FA4FD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6B7-06F4-4280-9913-B0DB33E2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B85D-7A38-48CD-AB72-E157672C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31A8-4B14-4C3E-B5E1-4289A171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7B4F-BB9E-4799-8848-1B05A70D5B89}" type="slidenum">
              <a:rPr b="0" lang="en-GB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prof.co.uk/baddies%2520.jpg&amp;imgrefurl=http://www.madprof.co.uk/chara.htm&amp;usg=__FDOOwwdLOJEVog2dREIwL1xfXhc=&amp;h=400&amp;w=658&amp;sz=101&amp;hl=en&amp;start=17&amp;tbnid=svycf_mPiIpehM:&amp;tbnh=84&amp;tbnw=138&amp;prev=/images%3Fq%3Dbaddies%26gbv%3D2%26hl%3Den%26safe%3Dactiv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cc"/>
                </a:solidFill>
                <a:uFillTx/>
                <a:latin typeface="Times New Roman"/>
              </a:rPr>
              <a:t>This Evening’s Programme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Arial"/>
              </a:rPr>
              <a:t>To extend teachers understanding of the role of medication in the support of children with ADHD.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13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st Medication: Reading Test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Most people go to the park for pleasure. They can walk, play games like football and rugby, have picnics or just sit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relax Children can enjoy themselves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Some people go to the park to work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ardeners cut the grass, trim the trees and bushes and pull out weeds. In spring they plant flowers. In summer when it’s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warm and 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Attendants look after the games areas. One of their jobs is to collect money from people who want to play on the putting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green, on the bowling green and on the tennis courts. If there is a boating pond, the attendant not only has to collect money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but also has to look after the boats 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  <a:ea typeface="Arial"/>
              </a:rPr>
              <a:t>Read straight through 7 minutes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9840" y="330660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Self Image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Stacy) 7 year old newly medicated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…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since my tablets, I don’t hit my mum, I’m a good girl now”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33cc"/>
                </a:solidFill>
                <a:uFillTx/>
                <a:latin typeface="Times New Roman"/>
              </a:rPr>
              <a:t>(Ben) 8 year old newly medicate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I got tablets to make me good at my work, want to see my sums?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315200" y="4572000"/>
            <a:ext cx="142884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467480" y="1600200"/>
            <a:ext cx="10191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The Fo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666880"/>
            <a:ext cx="636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ide Effects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ore tummy, sore head, longer sluggish reaction times, suppressed appetite, weight loss, growth problems, tics, mood swings, rebound behaviour, dizziness, insomnia and increased anxiety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6211" t="0" r="6835" b="12135"/>
          <a:stretch/>
        </p:blipFill>
        <p:spPr>
          <a:xfrm>
            <a:off x="5181480" y="213372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hort Acting Medica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Rebound 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266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elf Image: 14 year 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Mark) “I’m not taking the pills anymore, they're just about adults trying to control me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John) “I like being hyper, I’m more of a laugh.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5880" y="3808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eachers who think that medication 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FINA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AN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THE ONLY ANSWE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We are part of a package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ow can we help?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952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Understand the individua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en better manage the learning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nd symptoms/behaviou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34320" y="1143000"/>
            <a:ext cx="1752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ADHD can be divided into 3 broad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attentio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yperactiv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mpuls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Medication: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 or F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This presentation is based on my experience of four years working exclusively with pupils with a diagnosis of  ADHD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2039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Common Tra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short term memor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boredom threshol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rain that thinks interesting/random stuff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esperate need to share interesting/random stuff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or peer relationship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ow self esteem (especially as they get older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oe to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Most ADHD pupils will have a co-morbid disorder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pecific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Global Learning Difficulty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velopmental Coordination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ppositional Defian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Conduct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Autism / Asperger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Tics and Tourettes Syndrome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Obsessive Compulsive Disorder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Emotional problems and low self estee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Depression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Times New Roman"/>
              </a:rPr>
              <a:t>Sensory integration problems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Your relationship with the kid is what will influence him!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T’S ALL ABOUT YOU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3061" t="0" r="0" b="3055"/>
          <a:stretch/>
        </p:blipFill>
        <p:spPr>
          <a:xfrm>
            <a:off x="5524560" y="0"/>
            <a:ext cx="3619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inally, 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ADHD Friendly Strategi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Understand and accept the legitimacy of the disorde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Know/understand your kid’s individual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ditional  needs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ovide doodle book/fiddle toy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dhere to set and explained rul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One instruction or write down instruction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DO NOT NEGOTIATE (on their terms)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edication Reduc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ctivity Levels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yperactivit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mpulsivity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ncreases: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oncentration Spa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ability to cope with school work and socialise with frien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781" t="18763" r="2781" b="21868"/>
          <a:stretch/>
        </p:blipFill>
        <p:spPr>
          <a:xfrm>
            <a:off x="4038480" y="2057400"/>
            <a:ext cx="38862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e medication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(Jim) had a diagnosis of ADHD (sub-type inattentive)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learning difficulty of a dyslexic nature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upportive family who valued educatio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Good relationship with the school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No SEB type issues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4240080"/>
            <a:ext cx="31240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e was given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wo ‘beginning sentences’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and a list of key word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Writ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26.8.08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33cc"/>
                </a:solidFill>
                <a:latin typeface="Times New Roman"/>
              </a:rPr>
              <a:t>(50 mins. to complete below)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It was a very dark and stormy night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. And it was rain hive and.  Wind was gusts and thunder and. Lightening was crashing down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After he had stolen his neighbour’s car, John Cheese was driving through the storm.  </a:t>
            </a:r>
            <a:r>
              <a:rPr b="0" lang="en-GB" sz="2800" spc="-1" strike="noStrike">
                <a:solidFill>
                  <a:srgbClr val="0033cc"/>
                </a:solidFill>
                <a:latin typeface="Times New Roman"/>
              </a:rPr>
              <a:t>The island called Sarah  her was planned to. Hide it.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00200"/>
            <a:ext cx="914400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cc"/>
                </a:solidFill>
                <a:latin typeface="Times New Roman"/>
              </a:rPr>
              <a:t>  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ost Medication 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Jim) was included in the class lesson on story writ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 continued the lesson on a one to one using ADHD friendly strategies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No ‘beginning sentences’, one key word – autobiography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0574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Post Medication: Writing Tes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09.09.08 (10 mins to complete below)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Autobiography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 </a:t>
            </a:r>
            <a:r>
              <a:rPr b="0" lang="en-GB" sz="3200" spc="-1" strike="noStrike">
                <a:solidFill>
                  <a:srgbClr val="0033cc"/>
                </a:solidFill>
                <a:latin typeface="Times New Roman"/>
              </a:rPr>
              <a:t>My name is (Jim) I was born on 13 of 9 in 1997.  I was born in St Johns my parents are Denise and peter my dad is a bus driver.  I have 2 brothers and a sister.  I also here pets a dog, budgie, rabbit and 5 gold fish.  My hobby is football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057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Fri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Pre Medication: Reading Test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IN THE PAR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Most people go to the park for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pleasure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.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 They can walk, play games like football and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rugby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, have picnics or just sit and relax. Children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an enjoy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hemselve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in play areas where there are swings, seesaws and roundabout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Some people go to the park to work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t takes a lot of time and hard work to keep the park clean and tidy and to make it look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ttractive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Gardeners cut the grass, trim the </a:t>
            </a:r>
            <a:r>
              <a:rPr b="1" i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trees</a:t>
            </a:r>
            <a:r>
              <a:rPr b="1" i="1" lang="en-GB" sz="1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bushes and pull out weeds. In spring they plant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flower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. In summer when it’s warm and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dry they have to water the plants and the grass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Attendants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 look after the games areas. One of their jobs is to collect money from people who want to play on the putting green, on the 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bowling green and on the tennis courts. If there is a boating pond, the attendant not only has to collect money but also has to look after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</a:t>
            </a:r>
            <a:r>
              <a:rPr b="1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boats</a:t>
            </a:r>
            <a:r>
              <a:rPr b="0" lang="en-GB" sz="10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and make sure that people are safe in them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The children’s play areas can be dangerous places. Safety officers inspect all the equipment to make sure it is safe to play o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Cleaners keep the park clean and tidy. They sweep the roads and paths and pick up rubbish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0" lang="en-GB" sz="1000" spc="-1" strike="noStrike">
                <a:solidFill>
                  <a:srgbClr val="0033cc"/>
                </a:solidFill>
                <a:latin typeface="Arial"/>
              </a:rPr>
              <a:t>Everyone who goes to the park can help to keep it attractive by putting all their litter in the bin.</a:t>
            </a: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Times New Roman"/>
              </a:rPr>
              <a:t>Bold/underlined denotes where the kid: told me a story or was unable to read/sound out or was distracted.</a:t>
            </a: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48006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3:20:56Z</dcterms:created>
  <dc:creator>Elizabeth smiths</dc:creator>
  <dc:description/>
  <dc:language>en-US</dc:language>
  <cp:lastModifiedBy>SIPBS</cp:lastModifiedBy>
  <dcterms:modified xsi:type="dcterms:W3CDTF">2009-02-05T09:54:35Z</dcterms:modified>
  <cp:revision>9</cp:revision>
  <dc:subject/>
  <dc:title>PowerPoint Presentation</dc:title>
</cp:coreProperties>
</file>