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13BF-7D54-442B-B3CA-0D7EDF54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0E36-5D76-4B5F-9B79-50D9683F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B2A1-DCF4-4BCF-8428-A68B568B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0643-AE26-4C48-854D-D2895927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466F-6C0F-40A0-8063-5F8F7E1C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C6E4-FE69-4329-901A-FFCCC1B1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65E1-EA64-4E9D-B3CB-72CDA6A7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83E9-15D7-40D3-AFD0-8A4A30CC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13D9-3BF4-4DBF-9021-FEB099EA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DF75-E134-49BB-BA1B-99B4D925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C322-7873-4F42-A407-79E48FC6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0F35-05D7-446B-8C7A-BA9C119E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A411-E639-4D2E-BF30-E078EDCE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9B41-8B5E-4316-91AF-67D4BF9B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F3B2-02D0-4EF9-A960-DCC820B8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DDAC-A9F6-4550-B6D3-BC4985A0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B7E1-5584-4D03-B5D1-CF7C56D8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9426-9650-4455-8EA7-6696DCA0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E513-6835-4401-916A-9D26DC24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7282-D0F3-4258-986B-A2D35519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EDBB-E620-4CFB-8793-5A7B29DD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4152-282B-403E-A520-F5EFDC19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4C79-1293-4C92-B415-4A5BBA83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8445-15F4-4887-83DD-65F24FB7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11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3200" y="2208240"/>
            <a:ext cx="816948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2120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07F1-B36A-4CD8-A113-C20376EE4E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1386-9136-4ECB-BCD5-3D7CF00E52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00" y="2208240"/>
            <a:ext cx="816948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harmacological treatment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93560" y="4633560"/>
            <a:ext cx="816768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Gazala Akram. MPH. MRPharm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ecturer, Strathclyde Institute of Pharmacy &amp; Biomedical Sciences       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nior Clinical Pharmacist, Child Psychiatry, NHS GG &amp; Clyd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9640" y="52200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stimulant Preparations: MP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09604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mmediate Rele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need to be taken 2 - 3 times a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ustained Rele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once a day, (before school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fferent SR brands have different durations of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certa XL  (12 hour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Equasym XL, Medikinet XL (8 hou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ptimal response to medication depends on manipulation of dosage, timing and form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960" y="4633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stimulant Preparations: D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Greater potency than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mediate release tablets onl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dose usually in afterno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Less well tolerated: side effects more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967440" y="4089240"/>
            <a:ext cx="16401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4680" y="4377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tomoxetine (Strattera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3160" y="1631880"/>
            <a:ext cx="432756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n stim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nce or twice a day do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 abuse pot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t effective in brain areas associated with reinforcing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de effec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bdominal pain or nau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ecreased appet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rritability, mood s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zz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24480" y="1677960"/>
            <a:ext cx="449712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onger time for effect (4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are, but more serious side effec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uicidal thoughts, depr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iver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ardiac problem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7880" y="59184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3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 line therap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773000"/>
            <a:ext cx="8324640" cy="43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ntihypert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. clonid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: sedation, dizziness,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blood pres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ntidepressant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(rarely used in child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. imipramine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: dry mouth, blurred vision, constip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are, but more serious effects: cardiac problems, 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3040" y="3186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Response to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6080" y="1631520"/>
            <a:ext cx="80960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Usually by rating scales or checkl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eedback to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ating scales used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nor’s Teacher Rating Scale (CT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nor’s Global Index-teacher (CGI-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SDQ (conduct problems, emotional symptoms, hyperactivity, peer relationships, pro-social behaviou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Familiarise yourself with local procedure: what is your expected contribu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member - checklists are only a gu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1040" y="504360"/>
            <a:ext cx="80964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ministration of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0680" y="1577880"/>
            <a:ext cx="866448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If at school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What is the local policy regarding administration of medic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Who administers the medication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Procedure for recording administration / dispensing lo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afe secure storage: is the medicine in the                original labelled child proof contain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s administration supervis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784920" y="4557600"/>
            <a:ext cx="15462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0960" y="6570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ministration of medication (cont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2080" y="1987560"/>
            <a:ext cx="8439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is window of time during which the medication must be ta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o do if a dose is mis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o do if the child accidentally takes an extra d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if child refuses the med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f side effects are evident, who do you in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rugs &amp; alcohol can interact with medication; if suspected, what do you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3280" y="2664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Non compliance with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74320" y="1442880"/>
            <a:ext cx="86137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nconveni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ide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Difficult swallowing med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nadequate super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Attitudes: reluctance to take medic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ADHD related facto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ppositional/defiant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oor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asy distrac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0040" y="455400"/>
            <a:ext cx="80964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ditional points to remember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1720" y="1498680"/>
            <a:ext cx="85690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ld may feel awkward taking medic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Not all children respond to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ymptoms change with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You are not on your own</a:t>
            </a:r>
            <a:r>
              <a:rPr b="1" i="1" lang="en-GB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33"/>
                </a:solidFill>
                <a:latin typeface="Arial Narrow"/>
              </a:rPr>
              <a:t>Additional support is available from local educational services or CAM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7280" y="426960"/>
            <a:ext cx="8096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Internet sources of information on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479240"/>
            <a:ext cx="832464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nhs24.com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Health Information &amp; Self Care advice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rom NHS Scot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addiss.co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ational ADHD information &amp; support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mind.org.uk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ntal health charity M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rcpsych.ac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oyal College of Psychiatr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besttreatments.co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BMJ Publishing Group Best Treat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 Narrow"/>
              </a:rPr>
              <a:t>//premium.netdoktor.com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Online Health port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26320" y="4821120"/>
            <a:ext cx="18144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3680" y="597960"/>
            <a:ext cx="66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harmacological treatment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Overview of biological basis of sympto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ole of med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escription of different type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 and limitation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ources of information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334200" y="4202280"/>
            <a:ext cx="2219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5800" y="5616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Biological basis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1701720"/>
            <a:ext cx="86310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bnormality in processing incoming stimu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efective inhibitory respon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ifficulty sustaining attention, organising, ‘following through’ and problem sol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Triad of inattention, hyperactivity &amp; impuls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1-5% prevalence,  30% chronic (adulthoo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lated problems: disruptive behaviours, emotional                     disorders, developmental disor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194600" y="3540240"/>
            <a:ext cx="15858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7400" y="573120"/>
            <a:ext cx="80960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HD in the classroo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840" y="1589040"/>
          <a:ext cx="9128160" cy="49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1589040"/>
                    <a:ext cx="9128160" cy="49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320" y="57600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Why use medicatio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1760400"/>
            <a:ext cx="842004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dication 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gulates the release of neurotransmitters that process arousal net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Medication improves information processing and symptoms of inattention, impulsivity and hyperactivity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able to follow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more atten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less distrac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able to finish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less hype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thinks before a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51680" y="3998880"/>
            <a:ext cx="21938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1720" y="55512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What medication won’t d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798560"/>
            <a:ext cx="83372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ure AD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prove intelligence/academic performance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but may increase child's capacity for learning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ange the child's per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rn child into an ‘addict’ or substance abuser in later li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rn child into a “zombie”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ld should not appear blunted, sedated or un-al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471240"/>
            <a:ext cx="80964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Type of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96640" y="1463760"/>
            <a:ext cx="858492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sycho-stimul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methylphenidate (Ritalin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3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dexamphetamine</a:t>
            </a: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(Dexedrine)</a:t>
            </a: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stim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atomoxetine (Strattera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used when stimulants are ineffective or intoler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: Other (usually antihypertensive or antidepress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to augment therapy or if no response to other med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usually initiated by specialist (psychiatrist or paediatrician)</a:t>
            </a:r>
            <a:r>
              <a:rPr b="0" lang="en-GB" sz="21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e are habit forming or addictive = NO WITHDRAW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UT ADHD symptoms will return when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0680" y="27576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-stimula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3720" y="1560240"/>
            <a:ext cx="828216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veloped in 1950s, licensed for hyperactivity in 1957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efficacy &amp; safety demonstrated in &gt;100 R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acilitate action of neurotransmit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nse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f effec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15 minutes after taking a d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uration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f effec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PH = 4 hours, DEX= 6 hou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D POM: Controlled Drug Prescription Only Medicine 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cure storage and handling requirements</a:t>
            </a:r>
            <a:r>
              <a:rPr b="0" lang="en-GB" sz="2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ontroversial (abuse?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oute of administration and potency unlikely to produce euphor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7120" y="609120"/>
            <a:ext cx="70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-stimulant side eff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857240"/>
            <a:ext cx="855972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Growth retardation (height &amp; weigh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ardiac effects (blood pressure &amp; heart rat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Insom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norex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bdominal pain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Sadness/low mood &amp; mood sw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Irritabi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Heada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Tics (nervous movement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0:33:18Z</dcterms:created>
  <dc:creator>scott o'donnell</dc:creator>
  <dc:description/>
  <dc:language>en-US</dc:language>
  <cp:lastModifiedBy>SIPBS</cp:lastModifiedBy>
  <dcterms:modified xsi:type="dcterms:W3CDTF">2009-02-05T09:51:25Z</dcterms:modified>
  <cp:revision>83</cp:revision>
  <dc:subject/>
  <dc:title>PowerPoint Presentation</dc:title>
</cp:coreProperties>
</file>