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0F20-5202-4842-8036-45C1B9E20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A90A-6D6A-4823-A576-849FF46DF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2CD8-3132-490D-8A70-AA51C54B4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CC9E-D5D1-425B-803B-2DE7AE364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C7F4-3C14-4972-A612-B9BAFF702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71B4-8826-44F1-8CEF-3BF52B49B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CEA7-5E7C-43FA-8CDD-E0212737C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465C-976D-4880-92E7-80F14D6D2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F42B-2697-4CBF-BCD1-BEC0773E5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001E-84FE-4C1E-972C-0DDD09777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9FCC-FA0A-4C29-8B59-A08093317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5C93-C96C-4BE1-A394-8864DE844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1F583-FCFF-488F-9514-36B3C5827F08}" type="slidenum">
              <a:rPr b="0" lang="en-GB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adprof.co.uk/baddies%2520.jpg&amp;imgrefurl=http://www.madprof.co.uk/chara.htm&amp;usg=__FDOOwwdLOJEVog2dREIwL1xfXhc=&amp;h=400&amp;w=658&amp;sz=101&amp;hl=en&amp;start=17&amp;tbnid=svycf_mPiIpehM:&amp;tbnh=84&amp;tbnw=138&amp;prev=/images%3Fq%3Dbaddies%26gbv%3D2%26hl%3Den%26safe%3Dactive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cc"/>
                </a:solidFill>
                <a:uFillTx/>
                <a:latin typeface="Times New Roman"/>
              </a:rPr>
              <a:t>This Evening’s Programme</a:t>
            </a: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057400"/>
            <a:ext cx="6400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  <a:ea typeface="Arial"/>
              </a:rPr>
              <a:t>To extend teachers understanding of the role of medication in the support of children with ADHD.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352680" y="3733920"/>
            <a:ext cx="21337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304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Post Medication: Reading Test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IN THE PARK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Most people go to the park for pleasure. They can walk, play games like football and rugby, have picnics or just sit and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relax Children can enjoy themselves in play areas where there are swings, seesaws and roundabouts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Some people go to the park to work. It takes a lot of time and hard work to keep the park clean and tidy and to make it look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attractive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Gardeners cut the grass, trim the trees and bushes and pull out weeds. In spring they plant flowers. In summer when it’s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warm and dry they have to water the plants and the grass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Attendants look after the games areas. One of their jobs is to collect money from people who want to play on the putting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green, on the bowling green and on the tennis courts. If there is a boating pond, the attendant not only has to collect money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but also has to look after the boats and make sure that people are safe in them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The children’s play areas can be dangerous places. Safety officers inspect all the equipment to make sure it is safe to play on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Cleaners keep the park clean and tidy. They sweep the roads and paths and pick up rubbish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Everyone who goes to the park can help to keep it attractive by putting all their litter in the bin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Arial"/>
                <a:ea typeface="Arial"/>
              </a:rPr>
              <a:t>Read straight through 7 minutes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79840" y="3306600"/>
            <a:ext cx="184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33cc"/>
                </a:solidFill>
                <a:uFillTx/>
                <a:latin typeface="Times New Roman"/>
              </a:rPr>
              <a:t>Self Image: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33cc"/>
                </a:solidFill>
                <a:uFillTx/>
                <a:latin typeface="Times New Roman"/>
              </a:rPr>
              <a:t> </a:t>
            </a:r>
            <a:r>
              <a:rPr b="1" lang="en-GB" sz="3200" spc="-1" strike="noStrike" u="sng">
                <a:solidFill>
                  <a:srgbClr val="0033cc"/>
                </a:solidFill>
                <a:uFillTx/>
                <a:latin typeface="Times New Roman"/>
              </a:rPr>
              <a:t>(Stacy) 7 year old newly medicated</a:t>
            </a:r>
            <a:r>
              <a:rPr b="1" lang="en-GB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cc"/>
                </a:solidFill>
                <a:latin typeface="Times New Roman"/>
              </a:rPr>
              <a:t>“…</a:t>
            </a:r>
            <a:r>
              <a:rPr b="1" lang="en-GB" sz="3200" spc="-1" strike="noStrike">
                <a:solidFill>
                  <a:srgbClr val="0033cc"/>
                </a:solidFill>
                <a:latin typeface="Times New Roman"/>
              </a:rPr>
              <a:t>since my tablets, I don’t hit my mum, I’m a good girl now”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33cc"/>
                </a:solidFill>
                <a:uFillTx/>
                <a:latin typeface="Times New Roman"/>
              </a:rPr>
              <a:t>(Ben) 8 year old newly medicated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cc"/>
                </a:solidFill>
                <a:latin typeface="Times New Roman"/>
              </a:rPr>
              <a:t>“</a:t>
            </a:r>
            <a:r>
              <a:rPr b="1" lang="en-GB" sz="3200" spc="-1" strike="noStrike">
                <a:solidFill>
                  <a:srgbClr val="0033cc"/>
                </a:solidFill>
                <a:latin typeface="Times New Roman"/>
              </a:rPr>
              <a:t>I got tablets to make me good at my work, want to see my sums?”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315200" y="4572000"/>
            <a:ext cx="1428840" cy="1657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7467480" y="1600200"/>
            <a:ext cx="101916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cc"/>
                </a:solidFill>
                <a:latin typeface="Times New Roman"/>
              </a:rPr>
              <a:t>The Fo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71600" y="2666880"/>
            <a:ext cx="636912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Fo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cc"/>
                </a:solidFill>
                <a:uFillTx/>
                <a:latin typeface="Times New Roman"/>
              </a:rPr>
              <a:t>Side Effects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Sore tummy, sore head, longer sluggish reaction times, suppressed appetite, weight loss, growth problems, tics, mood swings, rebound behaviour, dizziness, insomnia and increased anxiety.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rcRect l="6211" t="0" r="6835" b="12135"/>
          <a:stretch/>
        </p:blipFill>
        <p:spPr>
          <a:xfrm>
            <a:off x="5181480" y="2133720"/>
            <a:ext cx="29718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o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Short Acting Medication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Rebound Behaviour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38680" y="2743200"/>
            <a:ext cx="26672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o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Self Image: 14 year old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(Mark) “I’m not taking the pills anymore, they're just about adults trying to control me.”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(John) “I like being hyper, I’m more of a laugh.”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095880" y="380880"/>
            <a:ext cx="2133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o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Teachers who think that medication is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cc"/>
                </a:solidFill>
                <a:uFillTx/>
                <a:latin typeface="Times New Roman"/>
              </a:rPr>
              <a:t>THE FINAL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cc"/>
                </a:solidFill>
                <a:uFillTx/>
                <a:latin typeface="Times New Roman"/>
              </a:rPr>
              <a:t>AND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cc"/>
                </a:solidFill>
                <a:uFillTx/>
                <a:latin typeface="Times New Roman"/>
              </a:rPr>
              <a:t>THE ONLY ANSWER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cc"/>
                </a:solidFill>
                <a:uFillTx/>
                <a:latin typeface="Times New Roman"/>
              </a:rPr>
              <a:t>We are part of a package!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How can we help?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oe To 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514600" y="2133720"/>
            <a:ext cx="3952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oe to 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2057400"/>
            <a:ext cx="6400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Understand the individua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then better manage the learning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and symptoms/behaviour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934320" y="1143000"/>
            <a:ext cx="17524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ADHD can be divided into 3 broad are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Inattention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yperactive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Impulsivity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Medication:</a:t>
            </a:r>
            <a:br>
              <a:rPr sz="4400"/>
            </a:b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Friend or Fo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5867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This presentation is based on my experience of four years working exclusively with pupils with a diagnosis of  ADHD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419720" y="152280"/>
            <a:ext cx="20397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Common Tra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Poor short term memory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Low boredom threshold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Brain that thinks interesting/random stuff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Desperate need to share interesting/random stuff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Poor peer relationships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Low self esteem (especially as they get older)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248520" y="1676520"/>
            <a:ext cx="14284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Foe to 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cc"/>
                </a:solidFill>
                <a:latin typeface="Times New Roman"/>
              </a:rPr>
              <a:t>Most ADHD pupils will have a co-morbid disorder.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Specific Learning Difficulty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Global Learning Difficulty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Developmental Coordination Disorder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Oppositional Defiant Disorder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Conduct Disorder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Autism / Aspergers Syndrome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Tics and Tourettes Syndrome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Obsessive Compulsive Disorder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Emotional problems and low self esteem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Depression 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Sensory integration problems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inally, 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Your relationship with the kid is what will influence him!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IT’S ALL ABOUT YOU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3061" t="0" r="0" b="3055"/>
          <a:stretch/>
        </p:blipFill>
        <p:spPr>
          <a:xfrm>
            <a:off x="5524560" y="0"/>
            <a:ext cx="36194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Finally, 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cc"/>
                </a:solidFill>
                <a:latin typeface="Times New Roman"/>
              </a:rPr>
              <a:t>ADHD Friendly Strategies: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Understand and accept the legitimacy of the disorder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Know/understand your kid’s individual 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additional  needs 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Provide doodle book/fiddle toys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Adhere to set and explained rules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One instruction or write down instructions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DO NOT NEGOTIATE (on their terms). 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Medication Reduces: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Activity Levels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Hyperactivity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Impulsivity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Increases: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Concentration Span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The ability to cope with school work and socialise with friends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2781" t="18763" r="2781" b="21868"/>
          <a:stretch/>
        </p:blipFill>
        <p:spPr>
          <a:xfrm>
            <a:off x="4038480" y="2057400"/>
            <a:ext cx="388620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327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7010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Pre medication: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(Jim) had a diagnosis of ADHD (sub-type inattentive).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A learning difficulty of a dyslexic nature.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Supportive family who valued education.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Good relationship with the school.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No SEB type issues.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019920" y="4240080"/>
            <a:ext cx="3124080" cy="26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800" y="60912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riend</a:t>
            </a: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Pre medication: Writing Test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(Jim) was included in the class lesson on story writing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I continued the lesson on a one to one using ADHD friendly strategies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He was given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wo ‘beginning sentences’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 and a list of key words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33720" cy="20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44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Pre Medication: Writing Test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imes New Roman"/>
              </a:rPr>
              <a:t>26.8.08</a:t>
            </a:r>
            <a:r>
              <a:rPr b="1" lang="en-GB" sz="1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33cc"/>
                </a:solidFill>
                <a:latin typeface="Times New Roman"/>
              </a:rPr>
              <a:t>(50 mins. to complete below)</a:t>
            </a:r>
            <a:endParaRPr b="0" lang="en-US" sz="1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It was a very dark and stormy night</a:t>
            </a:r>
            <a:r>
              <a:rPr b="0" lang="en-GB" sz="2800" spc="-1" strike="noStrike">
                <a:solidFill>
                  <a:srgbClr val="0033cc"/>
                </a:solidFill>
                <a:latin typeface="Times New Roman"/>
              </a:rPr>
              <a:t>. And it was rain hive and.  Wind was gusts and thunder and. Lightening was crashing down.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cc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After he had stolen his neighbour’s car, John Cheese was driving through the storm.  </a:t>
            </a:r>
            <a:r>
              <a:rPr b="0" lang="en-GB" sz="2800" spc="-1" strike="noStrike">
                <a:solidFill>
                  <a:srgbClr val="0033cc"/>
                </a:solidFill>
                <a:latin typeface="Times New Roman"/>
              </a:rPr>
              <a:t>The island called Sarah  her was planned to. Hide it. 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600200"/>
            <a:ext cx="9144000" cy="30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imes New Roman"/>
              </a:rPr>
              <a:t>  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629400" y="0"/>
            <a:ext cx="2514600" cy="23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Post Medication : Writing Test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(Jim) was included in the class lesson on story writing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I continued the lesson on a one to one using ADHD friendly strategies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No ‘beginning sentences’, one key word – autobiography.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629400" y="380880"/>
            <a:ext cx="205740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cc"/>
                </a:solidFill>
                <a:latin typeface="Times New Roman"/>
              </a:rPr>
              <a:t>Post Medication: Writing Test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Times New Roman"/>
              </a:rPr>
              <a:t>09.09.08 (10 mins to complete below)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Autobiography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 </a:t>
            </a: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My name is (Jim) I was born on 13 of 9 in 1997.  I was born in St Johns my parents are Denise and peter my dad is a bus driver.  I have 2 brothers and a sister.  I also here pets a dog, budgie, rabbit and 5 gold fish.  My hobby is football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172200" y="609480"/>
            <a:ext cx="20574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Pre Medication: Reading Test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IN THE PARK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Most people go to the park for </a:t>
            </a:r>
            <a:r>
              <a:rPr b="1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pleasure</a:t>
            </a:r>
            <a:r>
              <a:rPr b="0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.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  They can walk, play games like football and </a:t>
            </a:r>
            <a:r>
              <a:rPr b="1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rugby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, have picnics or just sit and relax. Children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can enjoy </a:t>
            </a:r>
            <a:r>
              <a:rPr b="1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themselves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 in play areas where there are swings, seesaws and roundabouts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Some people go to the park to work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. It takes a lot of time and hard work to keep the park clean and tidy and to make it look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attractive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 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Gardeners cut the grass, trim the </a:t>
            </a:r>
            <a:r>
              <a:rPr b="1" i="1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trees</a:t>
            </a:r>
            <a:r>
              <a:rPr b="1" i="1" lang="en-GB" sz="1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and bushes and pull out weeds. In spring they plant </a:t>
            </a:r>
            <a:r>
              <a:rPr b="1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flowers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. In summer when it’s warm and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dry they have to water the plants and the grass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Attendants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 look after the games areas. One of their jobs is to collect money from people who want to play on the putting green, on the 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bowling green and on the tennis courts. If there is a boating pond, the attendant not only has to collect money but also has to look after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the </a:t>
            </a:r>
            <a:r>
              <a:rPr b="1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boats</a:t>
            </a:r>
            <a:r>
              <a:rPr b="0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 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and make sure that people are safe in them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 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The children’s play areas can be dangerous places. Safety officers inspect all the equipment to make sure it is safe to play on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Cleaners keep the park clean and tidy. They sweep the roads and paths and pick up rubbish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 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Everyone who goes to the park can help to keep it attractive by putting all their litter in the bin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cc"/>
                </a:solidFill>
                <a:latin typeface="Times New Roman"/>
              </a:rPr>
              <a:t>Bold/underlined denotes where the kid: told me a story or was unable to read/sound out or was distracted.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480060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8T13:20:56Z</dcterms:created>
  <dc:creator>Elizabeth smiths</dc:creator>
  <dc:description/>
  <dc:language>en-US</dc:language>
  <cp:lastModifiedBy>SIPBS</cp:lastModifiedBy>
  <dcterms:modified xsi:type="dcterms:W3CDTF">2009-02-05T09:54:35Z</dcterms:modified>
  <cp:revision>9</cp:revision>
  <dc:subject/>
  <dc:title>PowerPoint Presentation</dc:title>
</cp:coreProperties>
</file>