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576B7-BDB2-477E-9A7D-7C0713E8B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60% of childhood ADHD continues into adulthood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Baren M. ADHD in adolescents: Will you know it when you see it? Contemporary Pediatrics 2002; 19: 124-141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3056040" y="39852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210960" y="1025640"/>
            <a:ext cx="3811680" cy="69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ducational int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o indicate evidence from behavioural genetics for a genetic link with ADH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PEAKERS’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amily stud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a higher prevalence of ADHD in first-degree relatives of ADHD probands than in relatives of control individuals.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SM-III: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25% vs 4.6% (1)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SM-IIIR: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25% vs 8% (2)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SM-IV (derived from DSM-IIIR): 24% vs 6% 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a higher prevalence of ADHD in second-degree relatives (4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a higher prevalence of other mental disorders, eg antisocial disorders, depression, anxiety disorders, drug or alcohol dependence (2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doption stud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18% ADHD in biological parents of ADHD probands, 6% in adoptive parents of ADHD probands and 3% in biological parents of non-ADHD probands (5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win stud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51% concordance of ADHD diagnosis in monozygotic and 33% concordance in dizygotic twins (6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enetic-model fitting: parent-rated hyperactivity and inattention scores in population samples of twins were substantially heritable, with heritability estimates ranging from 0.65-0.91 (7-11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‘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eritability estimate’ = proportion of the variance of the trait in the general population accounted for by (additive) gene effec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3056040" y="39852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210960" y="1025280"/>
            <a:ext cx="3811680" cy="701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ducational int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DHD may also be acquired and/ or modulated by certain biological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PEAKERS’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a strong association between maternal lifestyle factors in pregnancy and ADHD risk. Nicotine exposure is most evident, but intrauterine alcohol exposure also seems to show a dose-response relationship. ADHD is the dominant psychopathological feature observed in children with fetal alcohol syndrome (although these children exhibit a wide array of psychopathology) and children suffering fetal alcohol effects (a minor variant of the syndrome with less severe dysmorphic features) also experience long-lasting attention defici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natal exposure to nicotine does not lead to a dysmorphic syndrome but it does lead to reduced birth weigh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natal and perinatal risk factors, most notably prematurity and low birth weight, correlate with ADHD, but the association is not exclusiv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od allergies pertain to a small minority of ADHD children and have led to the development of the so-called ‘oligogenic’ diet. However, this is very complicated, difficult to implement effectively and suitable only for a few selected cases (it may now even be discredited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contribution of each biological factor is difficult to determine in any individual cas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B. Mothers who share ADHD-related genes with their offspring are more likely to smoke and drink alcohol while pregnant (passive gene-environment correlation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E7FD-CEBA-49DB-B80C-58981A177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9C14-E0B5-4429-89B2-E569C97F2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D0B0-EC7C-409B-B3BF-57CE9E791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9F3E-84E0-4A62-9FFE-ABE05F672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2727-4817-4427-A413-3D567D5CE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F7C7-D2F5-4266-9B9D-3D6BD0058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EE0A-5AAC-41F7-B140-625D77B46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4919-73B8-4E22-86CF-03FCFC099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14AF-6343-4F75-8DB7-96B662075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83FC-09A1-4B83-87DE-4161C7AB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5FDE-6B14-41F0-8DCC-669976C4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4A89-2335-4918-A522-B79DD20C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F63F9-7103-4F5C-B466-D88248696B8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47640" y="4869000"/>
            <a:ext cx="64008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Actually, Didnt Have Disciplin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484360" y="1052640"/>
          <a:ext cx="4608720" cy="344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052640"/>
                    <a:ext cx="4608720" cy="34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ADHD symptoms in real life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06440" y="3276720"/>
            <a:ext cx="8466120" cy="1600200"/>
          </a:xfrm>
          <a:prstGeom prst="rightArrow">
            <a:avLst>
              <a:gd name="adj1" fmla="val 50000"/>
              <a:gd name="adj2" fmla="val 132267"/>
            </a:avLst>
          </a:prstGeom>
          <a:noFill/>
          <a:ln w="76320">
            <a:solidFill>
              <a:srgbClr val="ffa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0560" y="375516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Pre-school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Adolescent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  Ad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066760" y="4052160"/>
            <a:ext cx="799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Primary School-age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   College-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1143000" y="3200400"/>
            <a:ext cx="7920" cy="457200"/>
          </a:xfrm>
          <a:prstGeom prst="line">
            <a:avLst/>
          </a:prstGeom>
          <a:ln w="38160">
            <a:solidFill>
              <a:srgbClr val="ffcc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470480" y="3200400"/>
            <a:ext cx="0" cy="457200"/>
          </a:xfrm>
          <a:prstGeom prst="line">
            <a:avLst/>
          </a:prstGeom>
          <a:ln w="38160">
            <a:solidFill>
              <a:srgbClr val="ffcc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7543800" y="3200400"/>
            <a:ext cx="0" cy="380880"/>
          </a:xfrm>
          <a:prstGeom prst="line">
            <a:avLst/>
          </a:prstGeom>
          <a:ln w="38160">
            <a:solidFill>
              <a:srgbClr val="ffcc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641680" y="4495320"/>
            <a:ext cx="0" cy="381240"/>
          </a:xfrm>
          <a:prstGeom prst="line">
            <a:avLst/>
          </a:prstGeom>
          <a:ln w="38160">
            <a:solidFill>
              <a:srgbClr val="ffcc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5824440" y="4495320"/>
            <a:ext cx="0" cy="381240"/>
          </a:xfrm>
          <a:prstGeom prst="line">
            <a:avLst/>
          </a:prstGeom>
          <a:ln w="38160">
            <a:solidFill>
              <a:srgbClr val="ffcc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4480" y="2467800"/>
            <a:ext cx="14472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Behaviour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disturb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84320" y="4876560"/>
            <a:ext cx="3657600" cy="15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Behavioural disturb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Academic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Difficulty with social intera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Self-esteem iss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66880" y="1996920"/>
            <a:ext cx="3886200" cy="15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Academic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Difficulty with social intera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Self-esteem iss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Legal issues, smoking </a:t>
            </a:r>
            <a:br>
              <a:rPr sz="1800"/>
            </a:b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and inju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48360" y="4841640"/>
            <a:ext cx="3657600" cy="15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Academic fail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Occupational difficul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Self-esteem iss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Substance ab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Injury/accid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324480" y="1677600"/>
            <a:ext cx="4267440" cy="15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Occupational fail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Self-esteem iss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Relationship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Injury/accid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Substance ab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e3ebf1"/>
                </a:solidFill>
                <a:latin typeface="Arial"/>
              </a:rPr>
              <a:t>So..What causes ADHD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539640" y="1413000"/>
          <a:ext cx="7921800" cy="5075280"/>
        </p:xfrm>
        <a:graphic>
          <a:graphicData uri="http://schemas.openxmlformats.org/drawingml/2006/table">
            <a:tbl>
              <a:tblPr/>
              <a:tblGrid>
                <a:gridCol w="7921800"/>
              </a:tblGrid>
              <a:tr h="989280">
                <a:tc>
                  <a:txBody>
                    <a:bodyPr lIns="9000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herited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55080">
                <a:tc>
                  <a:txBody>
                    <a:bodyPr lIns="90000" rIns="90000" tIns="0" bIns="46800" anchor="t">
                      <a:noAutofit/>
                    </a:bodyPr>
                    <a:p>
                      <a:pPr marL="542880" indent="-2761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ef9c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igh risk of ADHD and other mental disorders in the relatives of pati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3440">
                <a:tc>
                  <a:txBody>
                    <a:bodyPr lIns="9000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55080">
                <a:tc>
                  <a:txBody>
                    <a:bodyPr lIns="90000" rIns="90000" tIns="0" bIns="46800" anchor="t">
                      <a:noAutofit/>
                    </a:bodyPr>
                    <a:p>
                      <a:pPr marL="542880" indent="-2761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ef9c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igher incidence of ADHD in biological parents than in adoptive par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3440">
                <a:tc>
                  <a:txBody>
                    <a:bodyPr lIns="9000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28960">
                <a:tc>
                  <a:txBody>
                    <a:bodyPr lIns="90000" rIns="90000" tIns="0" bIns="46800" anchor="t">
                      <a:noAutofit/>
                    </a:bodyPr>
                    <a:p>
                      <a:pPr marL="542880" indent="-2761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So...What causes ADH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rain structure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fferences in volume, corresponding with seve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rain activit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uced activity in frontal lobe, parietal cort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iatum, cerebell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rain function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particular problem with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executive functioning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maintaining attention and focus, working memory, impulse control) - links the problems described by Sti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195640" y="2060640"/>
            <a:ext cx="819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5c61a"/>
                </a:solidFill>
                <a:latin typeface="Arial"/>
              </a:rPr>
              <a:t>Bl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ed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5c61a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reen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d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lu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reen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21800" y="3716280"/>
            <a:ext cx="63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lue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348000" y="4221000"/>
            <a:ext cx="8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reen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21800" y="479736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06520" y="2060640"/>
            <a:ext cx="85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Yellow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78880" y="26370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l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78880" y="3141720"/>
            <a:ext cx="8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reen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Test your executive (frontal lobe) function – stroop test</a:t>
            </a:r>
            <a:br>
              <a:rPr sz="4000"/>
            </a:br>
            <a:r>
              <a:rPr b="0" lang="en-GB" sz="1600" spc="-1" strike="noStrike">
                <a:solidFill>
                  <a:srgbClr val="e3ebf1"/>
                </a:solidFill>
                <a:latin typeface="Arial"/>
              </a:rPr>
              <a:t>Quickly read out the colour of each word (the colour, not the word)</a:t>
            </a:r>
            <a:endParaRPr b="0" lang="en-US" sz="1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84720" y="2060640"/>
            <a:ext cx="819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ed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5c61a"/>
                </a:solidFill>
                <a:latin typeface="Arial"/>
              </a:rPr>
              <a:t>Blue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reen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d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reen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lue   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Brain activity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roop test in ADHD: failure of frontal lobe ‘executive function’, (with compensatory activity in a different brain reg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755640" y="2060640"/>
          <a:ext cx="7488360" cy="4525560"/>
        </p:xfrm>
        <a:graphic>
          <a:graphicData uri="http://schemas.openxmlformats.org/drawingml/2006/table">
            <a:tbl>
              <a:tblPr/>
              <a:tblGrid>
                <a:gridCol w="3499200"/>
                <a:gridCol w="420480"/>
                <a:gridCol w="3568680"/>
              </a:tblGrid>
              <a:tr h="387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rma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DH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e3ebf1"/>
                </a:solidFill>
                <a:latin typeface="Arial"/>
              </a:rPr>
              <a:t>So...What causes ADH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1280" y="1773000"/>
            <a:ext cx="813744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The child‘s environment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43160" indent="-263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Problems during develo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Fetal exposure to nicotine, (+ other drugs?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Extreme prematurity and low birth we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Brain disorders (eg infections, traum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Low maternal fish oil consump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4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43160" indent="-263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ttachment’ problems, chaotic behavioural controls, dietary content and ‘modern life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y all make ADHD wor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y make mild ADHD more seve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ence environmental changes alone may be enough to cause mild symptoms of ADHD – but unlikely to be enough to cause severe for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How common is ADHD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7525080" cy="4138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403280" y="148428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rmal (Gaussian) distribution curve - birthwe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340000" y="3789360"/>
            <a:ext cx="360360" cy="1079640"/>
          </a:xfrm>
          <a:prstGeom prst="downArrow">
            <a:avLst>
              <a:gd name="adj1" fmla="val 50000"/>
              <a:gd name="adj2" fmla="val 74900"/>
            </a:avLst>
          </a:prstGeom>
          <a:solidFill>
            <a:srgbClr val="00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516720" y="3789360"/>
            <a:ext cx="360360" cy="1079640"/>
          </a:xfrm>
          <a:prstGeom prst="downArrow">
            <a:avLst>
              <a:gd name="adj1" fmla="val 50000"/>
              <a:gd name="adj2" fmla="val 74900"/>
            </a:avLst>
          </a:prstGeom>
          <a:solidFill>
            <a:srgbClr val="00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08000" y="2997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y low – (problem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67280" y="2997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y high – (problem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How common is ADHD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353440" cy="4843440"/>
          </a:xfrm>
          <a:prstGeom prst="rect">
            <a:avLst/>
          </a:prstGeom>
          <a:ln w="0">
            <a:noFill/>
          </a:ln>
        </p:spPr>
      </p:pic>
      <p:sp>
        <p:nvSpPr>
          <p:cNvPr id="115" name="Oval 7"/>
          <p:cNvSpPr/>
          <p:nvPr/>
        </p:nvSpPr>
        <p:spPr>
          <a:xfrm>
            <a:off x="1258920" y="5300640"/>
            <a:ext cx="714240" cy="7858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87280" y="1700280"/>
            <a:ext cx="67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99"/>
                </a:solidFill>
                <a:latin typeface="Arial"/>
              </a:rPr>
              <a:t>Normal distribution of inherited executive function abi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How common is ADHD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353440" cy="4843440"/>
          </a:xfrm>
          <a:prstGeom prst="rect">
            <a:avLst/>
          </a:prstGeom>
          <a:ln w="0">
            <a:noFill/>
          </a:ln>
        </p:spPr>
      </p:pic>
      <p:sp>
        <p:nvSpPr>
          <p:cNvPr id="119" name="Oval 7"/>
          <p:cNvSpPr/>
          <p:nvPr/>
        </p:nvSpPr>
        <p:spPr>
          <a:xfrm>
            <a:off x="2268360" y="4724280"/>
            <a:ext cx="714600" cy="7858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87280" y="1700280"/>
            <a:ext cx="67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99"/>
                </a:solidFill>
                <a:latin typeface="Arial"/>
              </a:rPr>
              <a:t>Low average inherited executive function ability + environ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47640" y="5013360"/>
            <a:ext cx="719280" cy="503280"/>
          </a:xfrm>
          <a:prstGeom prst="leftArrow">
            <a:avLst>
              <a:gd name="adj1" fmla="val 50000"/>
              <a:gd name="adj2" fmla="val 35730"/>
            </a:avLst>
          </a:prstGeom>
          <a:solidFill>
            <a:srgbClr val="00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How common is high blood pressure? 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353440" cy="4843440"/>
          </a:xfrm>
          <a:prstGeom prst="rect">
            <a:avLst/>
          </a:prstGeom>
          <a:ln w="0">
            <a:noFill/>
          </a:ln>
        </p:spPr>
      </p:pic>
      <p:sp>
        <p:nvSpPr>
          <p:cNvPr id="124" name="Oval 7"/>
          <p:cNvSpPr/>
          <p:nvPr/>
        </p:nvSpPr>
        <p:spPr>
          <a:xfrm>
            <a:off x="6372360" y="5300640"/>
            <a:ext cx="714240" cy="7858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87280" y="1700280"/>
            <a:ext cx="67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99"/>
                </a:solidFill>
                <a:latin typeface="Arial"/>
              </a:rPr>
              <a:t>Normal distribution of inherited blood press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547640" y="4869000"/>
            <a:ext cx="64008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Attention Deficit Hyperactivity Disord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484360" y="1052640"/>
          <a:ext cx="4608720" cy="344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052640"/>
                    <a:ext cx="4608720" cy="34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How common is high blood pressure? 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353440" cy="4843440"/>
          </a:xfrm>
          <a:prstGeom prst="rect">
            <a:avLst/>
          </a:prstGeom>
          <a:ln w="0">
            <a:noFill/>
          </a:ln>
        </p:spPr>
      </p:pic>
      <p:sp>
        <p:nvSpPr>
          <p:cNvPr id="128" name="Oval 7"/>
          <p:cNvSpPr/>
          <p:nvPr/>
        </p:nvSpPr>
        <p:spPr>
          <a:xfrm>
            <a:off x="5435640" y="4653000"/>
            <a:ext cx="714240" cy="7858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87280" y="1700280"/>
            <a:ext cx="67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99"/>
                </a:solidFill>
                <a:latin typeface="Arial"/>
              </a:rPr>
              <a:t>High average inherited blood pressure + environ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300720" y="4941720"/>
            <a:ext cx="647640" cy="360360"/>
          </a:xfrm>
          <a:prstGeom prst="rightArrow">
            <a:avLst>
              <a:gd name="adj1" fmla="val 50000"/>
              <a:gd name="adj2" fmla="val 44930"/>
            </a:avLst>
          </a:prstGeom>
          <a:solidFill>
            <a:srgbClr val="00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So…What causes ADH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inly n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lus nurture, but usually less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ut – parents of an ADHD child more likely to have ADHD themselves, and so will be have higher risk of problems of their ow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o sometimes environmental change can be enough, but in severe cases, usually not – just like high blood pressure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agnosis depends to an extent on where we decide to place the threshold on the normal distribution curve – just like high blood pres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ADHD assess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IGN’s recommendations for assessment for ADH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atient/carer inter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hild/young person interview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estionnair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ycho-educational assess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nical examin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cillary (physical, psychiatric and psychological) assess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Tayside, the above take place via specialist interviews of child and family, school questionnaires, school observations, screening for related diagnoses, before diagnosis confirm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ADHD Assess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is means ADHD assessment should be done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carefully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, and by people with the correct experience, skills and ti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and so usually not GP’s, only occasionally Paediatricans, and mainly CAMHS clinicia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skill is not just in ticking diagnosis boxes but 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. Achieving the correct threshold for diagn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. Recognising other potential causes of ADHD-like behavi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. Assessing severity and deciding on trea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ADHD imitator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ormal (spirit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ormal (naught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xiety or Mood diso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ttachment diso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ics/Touret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earning dis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ADHD Assess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times a fine balan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835280" y="342900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332000" y="2349360"/>
            <a:ext cx="6192720" cy="3022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116000" y="573408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DH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piri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CAMHS Assess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times a fine balan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35280" y="342900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332000" y="2349360"/>
            <a:ext cx="6192720" cy="3022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116000" y="573408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utism spectru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CAMHS Assess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times a fine balan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35280" y="342900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332000" y="2349360"/>
            <a:ext cx="6192720" cy="30229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116000" y="573408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ourette’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ild tic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CAMHS Assess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times a fine balan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835280" y="342900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332000" y="2349360"/>
            <a:ext cx="6192720" cy="30229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116000" y="573408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ating disorde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hion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ADHD manage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ducation of all concer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rent support and tra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eacher support and tra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hild support and tra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reatment of other probl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ppropriate initiation of med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ppropriate monitoring of med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Why do we need to talk about ADHD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DHD remains under-diagnosed and untreated in many patient groups and cou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oubt still exists as to the validity of ADH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causes and effects of ADHD are often questio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ny people believe medication is unnecessary and over-prescrib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Risk:Benefit Ratio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isks of diagnosi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abelling, stigmati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sempowering parent and chi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bsolving responsibility for boundary se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edication cul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edication side eff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Risk:Benefit Ratio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enefits of diagnos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stigmati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mpowering parent and chi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bsolving responsibility for ‘failed’ boundary set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roved self este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roved family f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roved cognitive and psychosocial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ess failure in adult li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tter parenting of next gen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Overall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appropriate assessment and management of ADHD, (including the use of medication) continues to be an important way of moderating both current and future problems associated with the diagno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areful assessment is required to achieve the right ratio of benefits and risks – as with any diagno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873520" y="1600200"/>
            <a:ext cx="3395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58920" y="260280"/>
            <a:ext cx="6497640" cy="59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70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064360" cy="621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292720" y="2133720"/>
            <a:ext cx="3076560" cy="34336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George Still, 1902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cribed 62 children with ‘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eficits in inhibitory volition, moral control and sustained atten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ggested that these problems were causally related to each other and to the same underlying brain-based problem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speculated that these children had particular difficulty with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response inhibi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r a ‘cortical disconnection syndrome’ (he was probably righ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ADHD – current diagnosi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Developmentally inappropriate levels of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ccff"/>
                </a:solidFill>
                <a:latin typeface="Arial"/>
              </a:rPr>
              <a:t>Inattention 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ccff"/>
                </a:solidFill>
                <a:latin typeface="Arial"/>
              </a:rPr>
              <a:t>Hyperactivity 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ccff"/>
                </a:solidFill>
                <a:latin typeface="Arial"/>
              </a:rPr>
              <a:t>Impulsivity </a:t>
            </a:r>
            <a:br>
              <a:rPr sz="2800"/>
            </a:br>
            <a:r>
              <a:rPr b="1" lang="en-GB" sz="2800" spc="-1" strike="noStrike">
                <a:solidFill>
                  <a:srgbClr val="66cc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ymptoms must have persisted for at least 6 months, and be </a:t>
            </a:r>
            <a:r>
              <a:rPr b="1" lang="en-GB" sz="2400" spc="-1" strike="noStrike" u="sng">
                <a:solidFill>
                  <a:srgbClr val="66ccff"/>
                </a:solidFill>
                <a:uFillTx/>
                <a:latin typeface="Arial"/>
              </a:rPr>
              <a:t>significantl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66ccff"/>
                </a:solidFill>
                <a:uFillTx/>
                <a:latin typeface="Arial"/>
              </a:rPr>
              <a:t>impairing</a:t>
            </a:r>
            <a:br>
              <a:rPr sz="2400"/>
            </a:br>
            <a:r>
              <a:rPr b="1" lang="en-GB" sz="2400" spc="-1" strike="noStrike" u="sng">
                <a:solidFill>
                  <a:srgbClr val="66cc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ymptoms must be </a:t>
            </a:r>
            <a:r>
              <a:rPr b="1" lang="en-GB" sz="2400" spc="-1" strike="noStrike" u="sng">
                <a:solidFill>
                  <a:srgbClr val="66ccff"/>
                </a:solidFill>
                <a:uFillTx/>
                <a:latin typeface="Arial"/>
              </a:rPr>
              <a:t>pervasiv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hrough more than one aspect of the child’s life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nset of symptoms no later than age 7 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ADHD symptoms in real life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51160" y="1922400"/>
            <a:ext cx="0" cy="3073320"/>
          </a:xfrm>
          <a:prstGeom prst="line">
            <a:avLst/>
          </a:prstGeom>
          <a:ln w="3049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995760" y="1828800"/>
            <a:ext cx="6619680" cy="3459600"/>
            <a:chOff x="995760" y="1828800"/>
            <a:chExt cx="6619680" cy="3459600"/>
          </a:xfrm>
        </p:grpSpPr>
        <p:sp>
          <p:nvSpPr>
            <p:cNvPr id="69" name=""/>
            <p:cNvSpPr/>
            <p:nvPr/>
          </p:nvSpPr>
          <p:spPr>
            <a:xfrm>
              <a:off x="3211920" y="1909800"/>
              <a:ext cx="0" cy="3072960"/>
            </a:xfrm>
            <a:prstGeom prst="line">
              <a:avLst/>
            </a:prstGeom>
            <a:ln w="3049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995760" y="1828800"/>
              <a:ext cx="139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66"/>
                  </a:solidFill>
                  <a:latin typeface="Arial Black"/>
                </a:rPr>
                <a:t>Childre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227240" y="417744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66"/>
                  </a:solidFill>
                  <a:latin typeface="Arial Black"/>
                </a:rPr>
                <a:t>Adul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58600" y="1840320"/>
              <a:ext cx="3156840" cy="34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Motor hyperactivit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Aggressivenes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Low frustration toleran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Impulsivenes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Easily distracte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Inattentivenes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Shifts activiti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Easily bore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Impatien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Restlessnes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380880" y="599760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7T12:41:00Z</dcterms:created>
  <dc:creator>Coghill</dc:creator>
  <dc:description/>
  <dc:language>en-US</dc:language>
  <cp:lastModifiedBy>SIPBS</cp:lastModifiedBy>
  <dcterms:modified xsi:type="dcterms:W3CDTF">2009-02-05T09:55:39Z</dcterms:modified>
  <cp:revision>45</cp:revision>
  <dc:subject/>
  <dc:title>Slide 1</dc:title>
</cp:coreProperties>
</file>