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9D8-4202-4D96-BF45-D3D634BC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AAA-896B-4C35-AE81-855A588D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229-570D-4E1C-AC7F-BE018793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027-9C3B-45F5-9477-32A6336A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B40-D047-4780-B200-B4F25AA9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316-836C-4625-B6E1-D42C1880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B0A-136F-45C8-8EC9-CAED875C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960-95D1-470D-BAA2-7246E119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B8B-06B7-4BAF-BB4F-59EE2A56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14C2-D7CC-484B-8342-BB369912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F94-977C-407F-8026-34E7AA1F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2167-C7B9-4260-90CE-73C4ABFC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1352-6467-4D73-9208-D5354FF637B0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prof.co.uk/baddies%2520.jpg&amp;imgrefurl=http://www.madprof.co.uk/chara.htm&amp;usg=__FDOOwwdLOJEVog2dREIwL1xfXhc=&amp;h=400&amp;w=658&amp;sz=101&amp;hl=en&amp;start=17&amp;tbnid=svycf_mPiIpehM:&amp;tbnh=84&amp;tbnw=138&amp;prev=/images%3Fq%3Dbaddies%26gbv%3D2%26hl%3Den%26safe%3Dactiv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cc"/>
                </a:solidFill>
                <a:uFillTx/>
                <a:latin typeface="Times New Roman"/>
              </a:rPr>
              <a:t>This Evening’s Programme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Arial"/>
              </a:rPr>
              <a:t>To extend teachers understanding of the role of medication in the support of children with ADHD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13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st Medication: Reading Test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Most people go to the park for pleasure. They can walk, play games like football and rugby, have picnics or just sit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relax Children can enjoy themselves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Some people go to the park to work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ardeners cut the grass, trim the trees and bushes and pull out weeds. In spring they plant flowers. In summer when it’s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warm and 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endants look after the games areas. One of their jobs is to collect money from people who want to play on the putting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reen, on the bowling green and on the tennis courts. If there is a boating pond, the attendant not only has to collect money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but also has to look after the boats 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Read straight through 7 minutes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9840" y="330660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Self Image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Stacy) 7 year old newly medicated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…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since my tablets, I don’t hit my mum, I’m a good girl now”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Ben) 8 year old newly medicate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I got tablets to make me good at my work, want to see my sums?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315200" y="4572000"/>
            <a:ext cx="142884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467480" y="1600200"/>
            <a:ext cx="10191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The Fo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666880"/>
            <a:ext cx="636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ide Effects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ore tummy, sore head, longer sluggish reaction times, suppressed appetite, weight loss, growth problems, tics, mood swings, rebound behaviour, dizziness, insomnia and increased anxiety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6211" t="0" r="6835" b="12135"/>
          <a:stretch/>
        </p:blipFill>
        <p:spPr>
          <a:xfrm>
            <a:off x="5181480" y="213372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hort Acting Medica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Rebound 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266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elf Image: 14 year 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Mark) “I’m not taking the pills anymore, they're just about adults trying to control me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John) “I like being hyper, I’m more of a laugh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5880" y="3808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eachers who think that medication 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FINA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AN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ONLY ANSWE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We are part of a package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ow can we help?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952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Understand the individua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en better manage the learning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nd symptoms/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34320" y="1143000"/>
            <a:ext cx="1752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ADHD can be divided into 3 broad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atten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yperactiv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mpuls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Medication: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 or 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is presentation is based on my experience of four years working exclusively with pupils with a diagnosis of  ADHD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2039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mmon Tra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short term memor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boredom thresh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rain that thinks interesting/random stuff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esperate need to share interesting/random stuff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peer relationship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self esteem (especially as they get older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ost ADHD pupils will have a co-morbid disorder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pecific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Global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velopmental Coordination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ppositional Defian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Conduc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Autism / Asperger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Tics and Tourette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bsessive Compulsive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Emotional problems and low self estee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pression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ensory integration problem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Your relationship with the kid is what will influence him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T’S ALL ABOUT YOU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061" t="0" r="0" b="3055"/>
          <a:stretch/>
        </p:blipFill>
        <p:spPr>
          <a:xfrm>
            <a:off x="5524560" y="0"/>
            <a:ext cx="3619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ADHD Friendly Strategi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Understand and accept the legitimacy of the disorde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Know/understand your kid’s individual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ditional  needs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ovide doodle book/fiddle toy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here to set and explained rul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One instruction or write down instruction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DO NOT NEGOTIATE (on their terms)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edication Reduc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ctivity Level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yperact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mpulsivity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ncreas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oncentration Spa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ability to cope with school work and socialise with frien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781" t="18763" r="2781" b="21868"/>
          <a:stretch/>
        </p:blipFill>
        <p:spPr>
          <a:xfrm>
            <a:off x="4038480" y="2057400"/>
            <a:ext cx="38862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e medication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(Jim) had a diagnosis of ADHD (sub-type inattentive)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learning difficulty of a dyslexic nature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upportive family who valued educatio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Good relationship with the school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 SEB type issues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4240080"/>
            <a:ext cx="31240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e was given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wo ‘beginning sentences’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and a list of key wor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26.8.08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(50 mins. to complete below)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It was a very dark and stormy night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. And it was rain hive and.  Wind was gusts and thunder and. Lightening was crashing dow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fter he had stolen his neighbour’s car, John Cheese was driving through the storm.  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The island called Sarah  her was planned to. Hide it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00200"/>
            <a:ext cx="914400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 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ost Medication 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No ‘beginning sentences’, one key word – autobiography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057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Post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09.09.08 (10 mins to complete below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utobiograph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 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My name is (Jim) I was born on 13 of 9 in 1997.  I was born in St Johns my parents are Denise and peter my dad is a bus driver.  I have 2 brothers and a sister.  I also here pets a dog, budgie, rabbit and 5 gold fish.  My hobby is footbal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Read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Most people go to the park for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pleasure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.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 They can walk, play games like football and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rugby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, have picnics or just sit and relax. Children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an enjoy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hemselve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Some people go to the park to work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Gardeners cut the grass, trim the </a:t>
            </a: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rees</a:t>
            </a:r>
            <a:r>
              <a:rPr b="1" i="1" lang="en-GB" sz="1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bushes and pull out weeds. In spring they plant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flower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n summer when it’s warm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Attendant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look after the games areas. One of their jobs is to collect money from people who want to play on the putting green, on the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bowling green and on the tennis courts. If there is a boating pond, the attendant not only has to collect money but also has to look after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boats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Times New Roman"/>
              </a:rPr>
              <a:t>Bold/underlined denotes where the kid: told me a story or was unable to read/sound out or was distracted.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48006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3:20:56Z</dcterms:created>
  <dc:creator>Elizabeth smiths</dc:creator>
  <dc:description/>
  <dc:language>en-US</dc:language>
  <cp:lastModifiedBy>SIPBS</cp:lastModifiedBy>
  <dcterms:modified xsi:type="dcterms:W3CDTF">2009-02-05T09:54:35Z</dcterms:modified>
  <cp:revision>9</cp:revision>
  <dc:subject/>
  <dc:title>PowerPoint Presentation</dc:title>
</cp:coreProperties>
</file>