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E67-B597-4005-8344-5E0D3106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6C2-A6F6-4B08-B962-061FC715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88F-A74A-45F8-B754-27A99237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224-9EB2-487B-BF8B-3B554DDA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3E3-DDF5-4DE3-8B07-511DC470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27CD-7D8A-4BFB-B8C5-217775BD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87E-FB6E-4A76-B767-77115102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687-FA53-4AB2-A492-2DC5BEA3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5B8-D820-4F32-8544-E17C38E7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FB6-8413-4FFE-ADDD-BA60944F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428-2D8E-45AC-8A4D-5197ED86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2F3-811A-49D7-BB92-45673052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ACD4-FB92-4BCD-AC4A-EBF80451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EF0F-813E-4B26-81AE-B3D26D9B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FD14-B0D6-4F2A-9E35-D005FFA4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1B4D-4161-4630-83C6-85D6A27D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3A4B-F05A-4A05-8B32-0C5B7AF3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84CD-FBB7-4EC2-A96E-B5A2F576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9647-D8E0-485C-A2B9-1783F81A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56E9-C9FD-4357-86C7-10D765C5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C8EF-8255-40EE-AF0F-FAEB949E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892C-DED6-4507-BCAE-393B71D8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691B-499C-4786-8F76-E2462977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CA42-B91A-4763-B86B-780E5DF5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B3D8-FF17-42CB-A692-8F52CE8B6D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9F03-43CD-4125-8037-088B67EA7D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3560" y="4633560"/>
            <a:ext cx="81676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azala Akram. MPH. MRPharm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cturer, Strathclyde Institute of Pharmacy &amp; Biomedical Sciences     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nior Clinical Pharmacist, Child Psychiatry, NHS GG &amp; Clyd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9640" y="522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096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mediate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ed to be taken 2 - 3 times a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ustained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nce a day, (before scho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fferent SR brands have different durations of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certa XL  (12 hou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quasym XL, Medikinet XL (8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timal response to medication depends on manipulation of dosage, timing and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463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reater potency than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mediate release tablets on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dose usually in afterno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well tolerated: side effects more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67440" y="4089240"/>
            <a:ext cx="1640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4377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tomoxetine (Stratter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160" y="1631880"/>
            <a:ext cx="43275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n 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or twice a day d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 abuse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t effective in brain areas associated with reinforc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dominal pain or 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creased appe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rritability, mood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24480" y="1677960"/>
            <a:ext cx="4497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onger time for effect (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are, but more serious 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icidal thoughts, 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ve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diac proble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591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 line thera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3246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clon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sedation, dizziness,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depressant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(rarely used in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imipramin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dry mouth, blurred vision, const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re, but more serious effects: cardiac problems,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040" y="318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Response to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1631520"/>
            <a:ext cx="80960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Usually by rating scales or check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eedback to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ating scales us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Teacher Rating Scale (CT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Global Index-teacher (CGI-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DQ (conduct problems, emotional symptoms, hyperactivity, peer relationships, pro-social behavio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amiliarise yourself with local procedure: what is your expected contrib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member - checklists are only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504360"/>
            <a:ext cx="8096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680" y="1577880"/>
            <a:ext cx="8664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If at school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at is the local policy regarding administration of med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o administers the medicat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Procedure for recording administration / dispensing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afe secure storage: is the medicine in the                original labelled child proof contain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s administration supervi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4920" y="4557600"/>
            <a:ext cx="1546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0960" y="6570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 (con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987560"/>
            <a:ext cx="843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s window of time during which the medication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a dose is mi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the child accidentally takes an extra d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f child refuses the med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ide effects are evident, who do you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rugs &amp; alcohol can interact with medication; if suspected, 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3280" y="2664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Non compliance with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" y="1442880"/>
            <a:ext cx="8613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conven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Difficult swallowing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adequate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ttitudes: reluctance to take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DHD 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ppositional/defia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or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asy distrac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0040" y="455400"/>
            <a:ext cx="80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ditional points to rememb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498680"/>
            <a:ext cx="8569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may feel awkward taking medic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children respond to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mptom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You are not on your own</a:t>
            </a: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Arial Narrow"/>
              </a:rPr>
              <a:t>Additional support is available from local educational services or CAM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426960"/>
            <a:ext cx="8096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Internet sources of information on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479240"/>
            <a:ext cx="8324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nhs24.com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ealth Information &amp; Self Care advic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om NHS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addis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ational ADHD information &amp; support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mind.org.uk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ntal health charit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rcpsych.ac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yal College of Psychiat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besttreatment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MJ Publishing Group Best Trea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//premium.netdoktor.com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Online Health por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26320" y="482112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680" y="597960"/>
            <a:ext cx="66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 of biological basis of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ole of med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scription of different type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 and limit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ources of inform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34200" y="4202280"/>
            <a:ext cx="221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561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Biological basis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631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normality in processing incoming stimu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efective inhibitory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ifficulty sustaining attention, organising, ‘following through’ and problem 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riad of inattention, hyperactivity &amp;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1-5% prevalence,  30% chronic (adultho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lated problems: disruptive behaviours, emotional                     disorders, develop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94600" y="3540240"/>
            <a:ext cx="1585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7400" y="573120"/>
            <a:ext cx="809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HD in the classro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840" y="1589040"/>
          <a:ext cx="91281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9040"/>
                    <a:ext cx="91281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576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y use medic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0400"/>
            <a:ext cx="84200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dication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gulates the release of neurotransmitters that process arousal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Medication improves information processing and symptoms of inattention, impulsivity and hyperactiv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ollow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distra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in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hyp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thinks before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51680" y="3998880"/>
            <a:ext cx="2193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1720" y="55512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at medication won’t 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798560"/>
            <a:ext cx="8337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re AD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 intelligence/academic performance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t may increase child's capacity for learning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nge the child's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n ‘addict’ or substance abuser in later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 “zombie”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should not appear blunted, sedated or un-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71240"/>
            <a:ext cx="8096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Type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6640" y="1463760"/>
            <a:ext cx="85849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sycho-stimul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methylphenidate (Ritali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dexamphetamine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(Dexedrine)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atomoxetine (Stratter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ed when stimulants are ineffective or intole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: Other (usually antihypertensive or antidepress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to augment therapy or if no response to other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ually initiated by specialist (psychiatrist or paediatrician)</a:t>
            </a: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e are habit forming or addictive = NO WITHDRAW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ADHD symptoms will return wh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680" y="2757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3720" y="1560240"/>
            <a:ext cx="82821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ed in 1950s, licensed for hyperactivity in 1957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fficacy &amp; safety demonstrated in &gt;100 R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cilitate action of neurotransm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e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15 minutes after taking a d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r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PH = 4 hours, DEX= 6 h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D POM: Controlled Drug Prescription Only Medicine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re storage and handling requirements</a:t>
            </a: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ontroversial (abuse?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ute of administration and potency unlikely to produce euphor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 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857240"/>
            <a:ext cx="8559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owth retardation (height &amp; weigh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rdiac effects (blood pressure &amp; heart rat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nsom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norex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dominal pai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dness/low mood &amp; mood sw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rrit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ead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ics (nervous movemen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IPBS</cp:lastModifiedBy>
  <dcterms:modified xsi:type="dcterms:W3CDTF">2009-02-05T09:51:25Z</dcterms:modified>
  <cp:revision>83</cp:revision>
  <dc:subject/>
  <dc:title>PowerPoint Presentation</dc:title>
</cp:coreProperties>
</file>