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A4D0-BE82-4A76-83D3-D1EDFA1EB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60% of childhood ADHD continues into adulthoo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Baren M. ADHD in adolescents: Will you know it when you see it? Contemporary Pediatrics 2002; 19: 124-14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056040" y="39852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210960" y="1025640"/>
            <a:ext cx="3811680" cy="69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al i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o indicate evidence from behavioural genetics for a genetic link with AD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’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stu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ADHD in first-degree relatives of ADHD probands than in relatives of control individuals.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II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% vs 4.6% (1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IIR: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% vs 8% (2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V (derived from DSM-IIIR): 24% vs 6% 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ADHD in second-degree relatives (4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other mental disorders, eg antisocial disorders, depression, anxiety disorders, drug or alcohol dependence (2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option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18% ADHD in biological parents of ADHD probands, 6% in adoptive parents of ADHD probands and 3% in biological parents of non-ADHD probands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win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51% concordance of ADHD diagnosis in monozygotic and 33% concordance in dizygotic twins (6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enetic-model fitting: parent-rated hyperactivity and inattention scores in population samples of twins were substantially heritable, with heritability estimates ranging from 0.65-0.91 (7-11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eritability estimate’ = proportion of the variance of the trait in the general population accounted for by (additive) gene effec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056040" y="39852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10960" y="1025280"/>
            <a:ext cx="3811680" cy="70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al i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HD may also be acquired and/ or modulated by certain biologic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’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strong association between maternal lifestyle factors in pregnancy and ADHD risk. Nicotine exposure is most evident, but intrauterine alcohol exposure also seems to show a dose-response relationship. ADHD is the dominant psychopathological feature observed in children with fetal alcohol syndrome (although these children exhibit a wide array of psychopathology) and children suffering fetal alcohol effects (a minor variant of the syndrome with less severe dysmorphic features) also experience long-lasting attention defic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natal exposure to nicotine does not lead to a dysmorphic syndrome but it does lead to reduced birth we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natal and perinatal risk factors, most notably prematurity and low birth weight, correlate with ADHD, but the association is not exclus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od allergies pertain to a small minority of ADHD children and have led to the development of the so-called ‘oligogenic’ diet. However, this is very complicated, difficult to implement effectively and suitable only for a few selected cases (it may now even be discredited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tribution of each biological factor is difficult to determine in any individual ca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B. Mothers who share ADHD-related genes with their offspring are more likely to smoke and drink alcohol while pregnant (passive gene-environment correlation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B857-BAD0-4C1E-8092-1009A2FA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46F9-4F90-4720-86BE-4D848C95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35E0-7775-406E-8C94-3C10B369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543B-DDDA-466A-AB3A-4F7838BB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4477-318E-4C91-91F7-1B2453C6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E1EF-17E5-4430-B4F9-F382A97B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ACEF-BCCC-4003-92A4-8D81CEBF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45D4-644B-4B35-9114-32E7AA15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11D9-FED5-4730-982D-89A891D1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CF87-E904-4EB5-A3AD-5B2EC32E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D904-0C05-46F7-B89E-7E4E02D5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BDE0-BB1D-4CC3-BFA2-F3BB493C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2AF3-C905-4F1D-8907-3CBAEA0DA8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Actually, Didnt Have Discipl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484360" y="1052640"/>
          <a:ext cx="4608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052640"/>
                    <a:ext cx="4608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ADHD symptoms in real lif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440" y="3276720"/>
            <a:ext cx="8466120" cy="1600200"/>
          </a:xfrm>
          <a:prstGeom prst="rightArrow">
            <a:avLst>
              <a:gd name="adj1" fmla="val 50000"/>
              <a:gd name="adj2" fmla="val 132267"/>
            </a:avLst>
          </a:prstGeom>
          <a:noFill/>
          <a:ln w="76320">
            <a:solidFill>
              <a:srgbClr val="ffa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560" y="37551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re-school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Adolescent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 Ad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66760" y="4052160"/>
            <a:ext cx="79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rimary School-age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  College-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143000" y="3200400"/>
            <a:ext cx="7920" cy="45720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70480" y="3200400"/>
            <a:ext cx="0" cy="45720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543800" y="3200400"/>
            <a:ext cx="0" cy="38088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641680" y="449532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824440" y="449532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4480" y="2467800"/>
            <a:ext cx="14472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Behaviour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sturb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4320" y="4876560"/>
            <a:ext cx="3657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Behavioural disturb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fficulty with social inter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1996920"/>
            <a:ext cx="388620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fficulty with social inter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Legal issues, smoking </a:t>
            </a:r>
            <a:br>
              <a:rPr sz="1800"/>
            </a:b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nd inj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48360" y="4841640"/>
            <a:ext cx="3657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Occupational difficul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Injury/acc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1677600"/>
            <a:ext cx="42674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Occupational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Relationship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Injury/acc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bf1"/>
                </a:solidFill>
                <a:latin typeface="Arial"/>
              </a:rPr>
              <a:t>So..What causes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39640" y="1413000"/>
          <a:ext cx="7921800" cy="5075280"/>
        </p:xfrm>
        <a:graphic>
          <a:graphicData uri="http://schemas.openxmlformats.org/drawingml/2006/table">
            <a:tbl>
              <a:tblPr/>
              <a:tblGrid>
                <a:gridCol w="7921800"/>
              </a:tblGrid>
              <a:tr h="98928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herited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f9c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 risk of ADHD and other mental disorders in the relatives of pati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f9c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er incidence of ADHD in biological parents than in adoptive par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o...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structur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ces in volume, corresponding with seve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activ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d activity in frontal lobe, parietal cort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atum, cerebell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function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articular problem with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xecutive function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maintaining attention and focus, working memory, impulse control) - links the problems described by St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95640" y="2060640"/>
            <a:ext cx="819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1800" y="371628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422100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re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1800" y="47973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6520" y="2060640"/>
            <a:ext cx="8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ellow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8880" y="2637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8880" y="314172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Test your executive (frontal lobe) function – stroop test</a:t>
            </a:r>
            <a:br>
              <a:rPr sz="4000"/>
            </a:br>
            <a:r>
              <a:rPr b="0" lang="en-GB" sz="1600" spc="-1" strike="noStrike">
                <a:solidFill>
                  <a:srgbClr val="e3ebf1"/>
                </a:solidFill>
                <a:latin typeface="Arial"/>
              </a:rPr>
              <a:t>Quickly read out the colour of each word (the colour, not the word)</a:t>
            </a:r>
            <a:endParaRPr b="0" lang="en-US" sz="1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2060640"/>
            <a:ext cx="819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Blue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Brain activi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oop test in ADHD: failure of frontal lobe ‘executive function’, (with compensatory activity in a different brain reg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55640" y="2060640"/>
          <a:ext cx="7488360" cy="4525560"/>
        </p:xfrm>
        <a:graphic>
          <a:graphicData uri="http://schemas.openxmlformats.org/drawingml/2006/table">
            <a:tbl>
              <a:tblPr/>
              <a:tblGrid>
                <a:gridCol w="3499200"/>
                <a:gridCol w="420480"/>
                <a:gridCol w="3568680"/>
              </a:tblGrid>
              <a:tr h="38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m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H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bf1"/>
                </a:solidFill>
                <a:latin typeface="Arial"/>
              </a:rPr>
              <a:t>So...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1374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The child‘s environmen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-263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Problems during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Fetal exposure to nicotine, (+ other drugs?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Extreme prematurity and low birth 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Brain disorders (eg infections, trau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Low maternal fish oil consump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-263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tachment’ problems, chaotic behavioural controls, dietary content and ‘modern lif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y all make ADHD wor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y make mild ADHD more seve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nce environmental changes alone may be enough to cause mild symptoms of ADHD – but unlikely to be enough to cause severe for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525080" cy="4138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03280" y="148428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(Gaussian) distribution curve - birth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378936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378936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low – (probl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high – (probl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15" name="Oval 7"/>
          <p:cNvSpPr/>
          <p:nvPr/>
        </p:nvSpPr>
        <p:spPr>
          <a:xfrm>
            <a:off x="1258920" y="530064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Normal distribution of inherited executive function 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19" name="Oval 7"/>
          <p:cNvSpPr/>
          <p:nvPr/>
        </p:nvSpPr>
        <p:spPr>
          <a:xfrm>
            <a:off x="2268360" y="4724280"/>
            <a:ext cx="71460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Low average inherited executive function ability +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5013360"/>
            <a:ext cx="719280" cy="503280"/>
          </a:xfrm>
          <a:prstGeom prst="leftArrow">
            <a:avLst>
              <a:gd name="adj1" fmla="val 50000"/>
              <a:gd name="adj2" fmla="val 3573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high blood pressure? 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24" name="Oval 7"/>
          <p:cNvSpPr/>
          <p:nvPr/>
        </p:nvSpPr>
        <p:spPr>
          <a:xfrm>
            <a:off x="6372360" y="530064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Normal distribution of inherited blood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Attention Deficit Hyperactivity Disord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484360" y="1052640"/>
          <a:ext cx="4608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052640"/>
                    <a:ext cx="4608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high blood pressure? 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28" name="Oval 7"/>
          <p:cNvSpPr/>
          <p:nvPr/>
        </p:nvSpPr>
        <p:spPr>
          <a:xfrm>
            <a:off x="5435640" y="465300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High average inherited blood pressure +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0720" y="4941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o…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inly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us nurture, but usually less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t – parents of an ADHD child more likely to have ADHD themselves, and so will be have higher risk of problems of their 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 sometimes environmental change can be enough, but in severe cases, usually not – just like high blood pressu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agnosis depends to an extent on where we decide to place the threshold on the normal distribution curve – just like high blood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GN’s recommendations for assessment for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atient/carer int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ild/young person intervie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nai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ycho-educational assess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 examin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cillary (physical, psychiatric and psychological) assess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ayside, the above take place via specialist interviews of child and family, school questionnaires, school observations, screening for related diagnoses, before diagnosis confirm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means ADHD assessment should be done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carefull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and by people with the correct experience, skills and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and so usually not GP’s, only occasionally Paediatricans, and mainly CAMHS clinicia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skill is not just in ticking diagnosis boxes but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Achieving the correct threshold for dia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Recognising other potential causes of ADHD-like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Assessing severity and deciding on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imitato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rmal (spiri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rmal (naugh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xiety or Mood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tachment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cs/Touret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arning dis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H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iri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utism spectr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urette’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ld tic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ting disord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hion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manag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ducation of all conce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ent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acher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ld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eatment of other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 initiation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 monitoring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Why do we need to talk about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DHD remains under-diagnosed and untreated in many patient groups and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ubt still exists as to the validity of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auses and effects of ADHD are often questio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people believe medication is unnecessary and over-prescrib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sk:Benefit Rati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s of diagnos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belling, stigma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empowering parent and c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solving responsibility for boundary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cation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cation side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sk:Benefit Rati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nefits of diagno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tigmati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owering parent and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solving responsibility for ‘failed’ boundary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self este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family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cognitive and psychosocial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ss failure in adult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tter parenting of next gen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Overall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ppropriate assessment and management of ADHD, (including the use of medication) continues to be an important way of moderating both current and future problems associated with the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reful assessment is required to achieve the right ratio of benefits and risks – as with any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873520" y="1600200"/>
            <a:ext cx="339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4976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70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62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3076560" cy="3433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George Still, 1902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bed 62 children with ‘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ficits in inhibitory volition, moral control and sustained atten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ggested that these problems were causally related to each other and to the same underlying brain-based proble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speculated that these children had particular difficulty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sponse inhib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r a ‘cortical disconnection syndrome’ (he was probably 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– current diagnosi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Developmentally inappropriate levels of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Inattention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Hyperactivity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Impulsivity </a:t>
            </a:r>
            <a:br>
              <a:rPr sz="2800"/>
            </a:b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mptoms must have persisted for at least 6 months, and be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significantl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impairing</a:t>
            </a:r>
            <a:br>
              <a:rPr sz="2400"/>
            </a:b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mptoms must be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pervas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rough more than one aspect of the child’s life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set of symptoms no later than age 7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ADHD symptoms in real lif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51160" y="1922400"/>
            <a:ext cx="0" cy="3073320"/>
          </a:xfrm>
          <a:prstGeom prst="line">
            <a:avLst/>
          </a:prstGeom>
          <a:ln w="30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95760" y="1828800"/>
            <a:ext cx="6619680" cy="3459600"/>
            <a:chOff x="995760" y="1828800"/>
            <a:chExt cx="6619680" cy="3459600"/>
          </a:xfrm>
        </p:grpSpPr>
        <p:sp>
          <p:nvSpPr>
            <p:cNvPr id="69" name=""/>
            <p:cNvSpPr/>
            <p:nvPr/>
          </p:nvSpPr>
          <p:spPr>
            <a:xfrm>
              <a:off x="3211920" y="1909800"/>
              <a:ext cx="0" cy="3072960"/>
            </a:xfrm>
            <a:prstGeom prst="line">
              <a:avLst/>
            </a:prstGeom>
            <a:ln w="3049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95760" y="182880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Arial Black"/>
                </a:rPr>
                <a:t>Childre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27240" y="417744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Arial Black"/>
                </a:rPr>
                <a:t>Adul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58600" y="1840320"/>
              <a:ext cx="315684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Motor hyperactiv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Aggress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Low frustration toleran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mpuls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Easily distract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nattent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Shifts activit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Easily bor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mpati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Restless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80880" y="59976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2:41:00Z</dcterms:created>
  <dc:creator>Coghill</dc:creator>
  <dc:description/>
  <dc:language>en-US</dc:language>
  <cp:lastModifiedBy>SIPBS</cp:lastModifiedBy>
  <dcterms:modified xsi:type="dcterms:W3CDTF">2009-02-05T09:55:39Z</dcterms:modified>
  <cp:revision>45</cp:revision>
  <dc:subject/>
  <dc:title>Slide 1</dc:title>
</cp:coreProperties>
</file>