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8.wmf" ContentType="image/x-wmf"/>
  <Override PartName="/ppt/media/image33.jpeg" ContentType="image/jpeg"/>
  <Override PartName="/ppt/media/image5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5.wmf" ContentType="image/x-wmf"/>
  <Override PartName="/ppt/media/image16.wmf" ContentType="image/x-wmf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7330-F806-4C3A-9303-04419196C0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2A2D-0ED8-488B-838D-94D44B6BA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43F8-B1C3-4D62-B178-B1AA9A99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880D-F5D0-4892-86DC-5F3252C1C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25D3-B406-4C70-8491-1CC2A548D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6FC8-059A-4729-8EC8-6263167A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A6FC-9DD9-411D-9633-15C82558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4C5E-F3E6-40F3-8F78-AE46C15E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730C-ED3C-45F3-AECC-4D9A946C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661D-1426-413E-99A9-1C8DAD45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A8F1-9C46-4E94-8BF8-FDDF7E08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0341-ADEB-4FCB-84EA-A41CF958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0D87-39DF-47EE-82A3-B5E6738E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24DD-30DF-49C2-A90F-8525CDAC7B8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2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DNA" descr=""/>
          <p:cNvPicPr/>
          <p:nvPr/>
        </p:nvPicPr>
        <p:blipFill>
          <a:blip r:embed="rId2"/>
          <a:stretch/>
        </p:blipFill>
        <p:spPr>
          <a:xfrm>
            <a:off x="3886200" y="3581280"/>
            <a:ext cx="1351080" cy="2210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1447920" y="762120"/>
            <a:ext cx="647676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A Novel Approach to DNA Detection using SER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14400" y="8380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ifferent spectra obtained when different dienes used with the same dye maleimide – great possibilities for multiple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14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3962520"/>
          <a:ext cx="3886200" cy="2414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962520"/>
                    <a:ext cx="388620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99096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5744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6208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495680" y="3962520"/>
          <a:ext cx="4648320" cy="2514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962520"/>
                    <a:ext cx="46483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7238880" y="3429000"/>
          <a:ext cx="1600200" cy="144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8880" y="3429000"/>
                    <a:ext cx="160020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581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T dye maleim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3429000"/>
          <a:ext cx="1676520" cy="15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3429000"/>
                    <a:ext cx="167652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733920" y="1752480"/>
          <a:ext cx="1766880" cy="131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33920" y="1752480"/>
                    <a:ext cx="176688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715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fur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3200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butadie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514240" y="3200400"/>
            <a:ext cx="11430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3200400"/>
            <a:ext cx="11430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71600" y="6094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143000" y="304920"/>
          <a:ext cx="259092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04920"/>
                    <a:ext cx="259092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 rot="5405400">
            <a:off x="2552760" y="32385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809880" y="1676520"/>
            <a:ext cx="4616640" cy="3376440"/>
            <a:chOff x="3809880" y="1676520"/>
            <a:chExt cx="4616640" cy="3376440"/>
          </a:xfrm>
        </p:grpSpPr>
        <p:graphicFrame>
          <p:nvGraphicFramePr>
            <p:cNvPr id="181" name=""/>
            <p:cNvGraphicFramePr/>
            <p:nvPr/>
          </p:nvGraphicFramePr>
          <p:xfrm>
            <a:off x="3809880" y="167652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167652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3" name=""/>
            <p:cNvGraphicFramePr/>
            <p:nvPr/>
          </p:nvGraphicFramePr>
          <p:xfrm>
            <a:off x="7772400" y="167652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167652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5" name=""/>
          <p:cNvSpPr/>
          <p:nvPr/>
        </p:nvSpPr>
        <p:spPr>
          <a:xfrm>
            <a:off x="3809880" y="228600"/>
            <a:ext cx="3810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, 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DNA" descr=""/>
          <p:cNvPicPr/>
          <p:nvPr/>
        </p:nvPicPr>
        <p:blipFill>
          <a:blip r:embed="rId8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38080" y="5486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VA-Ag surface additionally investigated by Electron Microprobe – elemental analysis of the su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808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438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NE RING TO BIND THEM, ONE RING TO RULE THEM 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frodo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4191120" cy="336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3048120" y="1143000"/>
          <a:ext cx="3392280" cy="35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143000"/>
                    <a:ext cx="339228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lecular Beac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84080" y="4648320"/>
            <a:ext cx="7543800" cy="521640"/>
            <a:chOff x="784080" y="4648320"/>
            <a:chExt cx="7543800" cy="521640"/>
          </a:xfrm>
        </p:grpSpPr>
        <p:sp>
          <p:nvSpPr>
            <p:cNvPr id="196" name=""/>
            <p:cNvSpPr/>
            <p:nvPr/>
          </p:nvSpPr>
          <p:spPr>
            <a:xfrm rot="16200000">
              <a:off x="405540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200000">
              <a:off x="4244400" y="47250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6200000">
              <a:off x="435996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6200000">
              <a:off x="4548960" y="47250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466488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4853880" y="48009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4080" y="48672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538440" y="1407960"/>
            <a:ext cx="2057400" cy="2554920"/>
            <a:chOff x="3538440" y="1407960"/>
            <a:chExt cx="2057400" cy="2554920"/>
          </a:xfrm>
        </p:grpSpPr>
        <p:grpSp>
          <p:nvGrpSpPr>
            <p:cNvPr id="204" name=""/>
            <p:cNvGrpSpPr/>
            <p:nvPr/>
          </p:nvGrpSpPr>
          <p:grpSpPr>
            <a:xfrm>
              <a:off x="3538440" y="1407960"/>
              <a:ext cx="2057400" cy="2477880"/>
              <a:chOff x="3538440" y="1407960"/>
              <a:chExt cx="2057400" cy="2477880"/>
            </a:xfrm>
          </p:grpSpPr>
          <p:sp>
            <p:nvSpPr>
              <p:cNvPr id="205" name=""/>
              <p:cNvSpPr/>
              <p:nvPr/>
            </p:nvSpPr>
            <p:spPr>
              <a:xfrm rot="16200000">
                <a:off x="4035960" y="18846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6200000">
                <a:off x="4224960" y="176724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6200000">
                <a:off x="4340880" y="18068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6200000">
                <a:off x="4529520" y="1766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200000">
                <a:off x="4645440" y="180648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6200000">
                <a:off x="4834440" y="18432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63680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6084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56084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3680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56084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3680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4484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26852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26852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34484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26852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4484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538440" y="1407960"/>
                <a:ext cx="2057400" cy="1752480"/>
              </a:xfrm>
              <a:prstGeom prst="blockArc">
                <a:avLst>
                  <a:gd name="adj1" fmla="val 6773535"/>
                  <a:gd name="adj2" fmla="val 4026465"/>
                  <a:gd name="adj3" fmla="val 1509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5400000">
                <a:off x="3678840" y="3213720"/>
                <a:ext cx="1028880" cy="3031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5400000">
                <a:off x="4418280" y="3219840"/>
                <a:ext cx="1028520" cy="303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4919760" y="3625560"/>
              <a:ext cx="342720" cy="337320"/>
              <a:chOff x="4919760" y="3625560"/>
              <a:chExt cx="342720" cy="337320"/>
            </a:xfrm>
          </p:grpSpPr>
          <p:sp>
            <p:nvSpPr>
              <p:cNvPr id="227" name=""/>
              <p:cNvSpPr/>
              <p:nvPr/>
            </p:nvSpPr>
            <p:spPr>
              <a:xfrm>
                <a:off x="4932360" y="36478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91976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919680" y="3625560"/>
              <a:ext cx="342720" cy="337320"/>
              <a:chOff x="3919680" y="3625560"/>
              <a:chExt cx="342720" cy="337320"/>
            </a:xfrm>
          </p:grpSpPr>
          <p:sp>
            <p:nvSpPr>
              <p:cNvPr id="230" name=""/>
              <p:cNvSpPr/>
              <p:nvPr/>
            </p:nvSpPr>
            <p:spPr>
              <a:xfrm>
                <a:off x="3919680" y="36478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91968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3417840" y="1909800"/>
            <a:ext cx="2323800" cy="1900800"/>
            <a:chOff x="3417840" y="1909800"/>
            <a:chExt cx="2323800" cy="1900800"/>
          </a:xfrm>
        </p:grpSpPr>
        <p:grpSp>
          <p:nvGrpSpPr>
            <p:cNvPr id="233" name=""/>
            <p:cNvGrpSpPr/>
            <p:nvPr/>
          </p:nvGrpSpPr>
          <p:grpSpPr>
            <a:xfrm>
              <a:off x="3529080" y="1909800"/>
              <a:ext cx="2058480" cy="1828080"/>
              <a:chOff x="3529080" y="1909800"/>
              <a:chExt cx="2058480" cy="1828080"/>
            </a:xfrm>
          </p:grpSpPr>
          <p:sp>
            <p:nvSpPr>
              <p:cNvPr id="234" name=""/>
              <p:cNvSpPr/>
              <p:nvPr/>
            </p:nvSpPr>
            <p:spPr>
              <a:xfrm rot="16200000">
                <a:off x="4026600" y="233244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6200000">
                <a:off x="4215600" y="22147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331520" y="225468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520520" y="2214720"/>
                <a:ext cx="2282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636440" y="225468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825080" y="22910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529080" y="1909800"/>
                <a:ext cx="2057400" cy="1752480"/>
              </a:xfrm>
              <a:prstGeom prst="blockArc">
                <a:avLst>
                  <a:gd name="adj1" fmla="val 11000679"/>
                  <a:gd name="adj2" fmla="val 21399321"/>
                  <a:gd name="adj3" fmla="val 14292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3529080" y="2709720"/>
                <a:ext cx="531720" cy="1028160"/>
                <a:chOff x="3529080" y="2709720"/>
                <a:chExt cx="531720" cy="102816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3832200" y="28234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755880" y="29757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755880" y="3128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832200" y="32806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755880" y="343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832200" y="35856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5400000">
                  <a:off x="3166560" y="3072240"/>
                  <a:ext cx="102816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5064120" y="2709720"/>
                <a:ext cx="523440" cy="1028160"/>
                <a:chOff x="5064120" y="2709720"/>
                <a:chExt cx="523440" cy="10281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140080" y="28173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064120" y="2969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064120" y="31222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140080" y="32742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64120" y="3426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140080" y="3579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5400000">
                  <a:off x="4921560" y="3071880"/>
                  <a:ext cx="102816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7" name=""/>
            <p:cNvGrpSpPr/>
            <p:nvPr/>
          </p:nvGrpSpPr>
          <p:grpSpPr>
            <a:xfrm>
              <a:off x="3417840" y="3473280"/>
              <a:ext cx="342720" cy="337320"/>
              <a:chOff x="3417840" y="3473280"/>
              <a:chExt cx="342720" cy="337320"/>
            </a:xfrm>
          </p:grpSpPr>
          <p:sp>
            <p:nvSpPr>
              <p:cNvPr id="258" name=""/>
              <p:cNvSpPr/>
              <p:nvPr/>
            </p:nvSpPr>
            <p:spPr>
              <a:xfrm>
                <a:off x="3417840" y="3495240"/>
                <a:ext cx="318600" cy="31392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41784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5398920" y="3473280"/>
              <a:ext cx="342720" cy="337320"/>
              <a:chOff x="5398920" y="3473280"/>
              <a:chExt cx="342720" cy="337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411520" y="349524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9892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3112920" y="2362320"/>
            <a:ext cx="3009600" cy="1752480"/>
            <a:chOff x="3112920" y="2362320"/>
            <a:chExt cx="3009600" cy="1752480"/>
          </a:xfrm>
        </p:grpSpPr>
        <p:grpSp>
          <p:nvGrpSpPr>
            <p:cNvPr id="264" name=""/>
            <p:cNvGrpSpPr/>
            <p:nvPr/>
          </p:nvGrpSpPr>
          <p:grpSpPr>
            <a:xfrm>
              <a:off x="3204720" y="2362320"/>
              <a:ext cx="2772000" cy="1752480"/>
              <a:chOff x="3204720" y="2362320"/>
              <a:chExt cx="2772000" cy="1752480"/>
            </a:xfrm>
          </p:grpSpPr>
          <p:sp>
            <p:nvSpPr>
              <p:cNvPr id="265" name=""/>
              <p:cNvSpPr/>
              <p:nvPr/>
            </p:nvSpPr>
            <p:spPr>
              <a:xfrm rot="16200000">
                <a:off x="4037400" y="278532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6200000">
                <a:off x="4226040" y="26672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6200000">
                <a:off x="4341960" y="270720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6200000">
                <a:off x="4530960" y="266760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6200000">
                <a:off x="4646880" y="270756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6200000">
                <a:off x="4835880" y="274392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539520" y="2362320"/>
                <a:ext cx="2057040" cy="1752480"/>
              </a:xfrm>
              <a:prstGeom prst="blockArc">
                <a:avLst>
                  <a:gd name="adj1" fmla="val 12222482"/>
                  <a:gd name="adj2" fmla="val 20177518"/>
                  <a:gd name="adj3" fmla="val 14861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204720" y="2831040"/>
                <a:ext cx="870120" cy="1086480"/>
                <a:chOff x="3204720" y="2831040"/>
                <a:chExt cx="870120" cy="1086480"/>
              </a:xfrm>
            </p:grpSpPr>
            <p:sp>
              <p:nvSpPr>
                <p:cNvPr id="273" name=""/>
                <p:cNvSpPr/>
                <p:nvPr/>
              </p:nvSpPr>
              <p:spPr>
                <a:xfrm rot="1512000">
                  <a:off x="3841200" y="3108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1512000">
                  <a:off x="3707280" y="321372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1512000">
                  <a:off x="3642480" y="3351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1512000">
                  <a:off x="3646440" y="35222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1512000">
                  <a:off x="3512880" y="362736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1512000">
                  <a:off x="3516840" y="3798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6912600">
                  <a:off x="3045960" y="3209400"/>
                  <a:ext cx="102852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5138640" y="2833200"/>
                <a:ext cx="838080" cy="1046520"/>
                <a:chOff x="5138640" y="2833200"/>
                <a:chExt cx="838080" cy="1046520"/>
              </a:xfrm>
            </p:grpSpPr>
            <p:sp>
              <p:nvSpPr>
                <p:cNvPr id="281" name=""/>
                <p:cNvSpPr/>
                <p:nvPr/>
              </p:nvSpPr>
              <p:spPr>
                <a:xfrm rot="19857000">
                  <a:off x="5142240" y="3084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19857000">
                  <a:off x="5149800" y="3254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19857000">
                  <a:off x="5223960" y="338724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rot="19857000">
                  <a:off x="5364000" y="34837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rot="19857000">
                  <a:off x="5371560" y="3653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19857000">
                  <a:off x="5512320" y="3750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3657000">
                  <a:off x="5079960" y="320436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"/>
            <p:cNvGrpSpPr/>
            <p:nvPr/>
          </p:nvGrpSpPr>
          <p:grpSpPr>
            <a:xfrm>
              <a:off x="3112920" y="3587760"/>
              <a:ext cx="342720" cy="337320"/>
              <a:chOff x="3112920" y="3587760"/>
              <a:chExt cx="342720" cy="337320"/>
            </a:xfrm>
          </p:grpSpPr>
          <p:sp>
            <p:nvSpPr>
              <p:cNvPr id="289" name=""/>
              <p:cNvSpPr/>
              <p:nvPr/>
            </p:nvSpPr>
            <p:spPr>
              <a:xfrm>
                <a:off x="3112920" y="36100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12920" y="35877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779800" y="3511440"/>
              <a:ext cx="342720" cy="337320"/>
              <a:chOff x="5779800" y="3511440"/>
              <a:chExt cx="342720" cy="337320"/>
            </a:xfrm>
          </p:grpSpPr>
          <p:sp>
            <p:nvSpPr>
              <p:cNvPr id="292" name=""/>
              <p:cNvSpPr/>
              <p:nvPr/>
            </p:nvSpPr>
            <p:spPr>
              <a:xfrm>
                <a:off x="5792400" y="353376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79800" y="351144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"/>
          <p:cNvGrpSpPr/>
          <p:nvPr/>
        </p:nvGrpSpPr>
        <p:grpSpPr>
          <a:xfrm>
            <a:off x="2362320" y="3809880"/>
            <a:ext cx="4381200" cy="1752480"/>
            <a:chOff x="2362320" y="3809880"/>
            <a:chExt cx="4381200" cy="1752480"/>
          </a:xfrm>
        </p:grpSpPr>
        <p:grpSp>
          <p:nvGrpSpPr>
            <p:cNvPr id="295" name=""/>
            <p:cNvGrpSpPr/>
            <p:nvPr/>
          </p:nvGrpSpPr>
          <p:grpSpPr>
            <a:xfrm>
              <a:off x="2483640" y="3809880"/>
              <a:ext cx="4162320" cy="1752480"/>
              <a:chOff x="2483640" y="3809880"/>
              <a:chExt cx="4162320" cy="1752480"/>
            </a:xfrm>
          </p:grpSpPr>
          <p:sp>
            <p:nvSpPr>
              <p:cNvPr id="296" name=""/>
              <p:cNvSpPr/>
              <p:nvPr/>
            </p:nvSpPr>
            <p:spPr>
              <a:xfrm rot="16200000">
                <a:off x="4053600" y="41864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6200000">
                <a:off x="4242600" y="40690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6200000">
                <a:off x="435852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6200000">
                <a:off x="4547160" y="406872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6200000">
                <a:off x="466308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6200000">
                <a:off x="4852080" y="41454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576520" y="38098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2483640" y="3871080"/>
                <a:ext cx="1390320" cy="767880"/>
                <a:chOff x="2483640" y="3871080"/>
                <a:chExt cx="1390320" cy="767880"/>
              </a:xfrm>
            </p:grpSpPr>
            <p:sp>
              <p:nvSpPr>
                <p:cNvPr id="304" name=""/>
                <p:cNvSpPr/>
                <p:nvPr/>
              </p:nvSpPr>
              <p:spPr>
                <a:xfrm rot="4734000">
                  <a:off x="3308760" y="4335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4734000">
                  <a:off x="3145320" y="4289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4734000">
                  <a:off x="2995920" y="4320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4734000">
                  <a:off x="2860920" y="442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4734000">
                  <a:off x="2696040" y="4377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rot="4734000">
                  <a:off x="2561040" y="4482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10134000">
                  <a:off x="2500200" y="399852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5241240" y="3861360"/>
                <a:ext cx="1404720" cy="755280"/>
                <a:chOff x="5241240" y="3861360"/>
                <a:chExt cx="1404720" cy="755280"/>
              </a:xfrm>
            </p:grpSpPr>
            <p:sp>
              <p:nvSpPr>
                <p:cNvPr id="312" name=""/>
                <p:cNvSpPr/>
                <p:nvPr/>
              </p:nvSpPr>
              <p:spPr>
                <a:xfrm rot="16936200">
                  <a:off x="5598000" y="42544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6936200">
                  <a:off x="5730120" y="4361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16936200">
                  <a:off x="5879160" y="4394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16936200">
                  <a:off x="6044400" y="4351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16936200">
                  <a:off x="6177600" y="4459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rot="16936200">
                  <a:off x="6342840" y="4416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rot="736200">
                  <a:off x="5257800" y="400356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9" name=""/>
            <p:cNvGrpSpPr/>
            <p:nvPr/>
          </p:nvGrpSpPr>
          <p:grpSpPr>
            <a:xfrm>
              <a:off x="2362320" y="3900600"/>
              <a:ext cx="347760" cy="337320"/>
              <a:chOff x="2362320" y="3900600"/>
              <a:chExt cx="347760" cy="337320"/>
            </a:xfrm>
          </p:grpSpPr>
          <p:sp>
            <p:nvSpPr>
              <p:cNvPr id="320" name=""/>
              <p:cNvSpPr/>
              <p:nvPr/>
            </p:nvSpPr>
            <p:spPr>
              <a:xfrm>
                <a:off x="236232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367000" y="390060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400800" y="3900600"/>
              <a:ext cx="342720" cy="337320"/>
              <a:chOff x="6400800" y="3900600"/>
              <a:chExt cx="342720" cy="337320"/>
            </a:xfrm>
          </p:grpSpPr>
          <p:sp>
            <p:nvSpPr>
              <p:cNvPr id="323" name=""/>
              <p:cNvSpPr/>
              <p:nvPr/>
            </p:nvSpPr>
            <p:spPr>
              <a:xfrm>
                <a:off x="641340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00800" y="39006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2844720" y="2819520"/>
            <a:ext cx="3467160" cy="1752480"/>
            <a:chOff x="2844720" y="2819520"/>
            <a:chExt cx="3467160" cy="1752480"/>
          </a:xfrm>
        </p:grpSpPr>
        <p:grpSp>
          <p:nvGrpSpPr>
            <p:cNvPr id="326" name=""/>
            <p:cNvGrpSpPr/>
            <p:nvPr/>
          </p:nvGrpSpPr>
          <p:grpSpPr>
            <a:xfrm>
              <a:off x="2960280" y="2819520"/>
              <a:ext cx="3198960" cy="1752480"/>
              <a:chOff x="2960280" y="2819520"/>
              <a:chExt cx="3198960" cy="1752480"/>
            </a:xfrm>
          </p:grpSpPr>
          <p:sp>
            <p:nvSpPr>
              <p:cNvPr id="327" name=""/>
              <p:cNvSpPr/>
              <p:nvPr/>
            </p:nvSpPr>
            <p:spPr>
              <a:xfrm rot="16200000">
                <a:off x="4039560" y="324216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200000">
                <a:off x="422856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200000">
                <a:off x="4344480" y="31644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6200000">
                <a:off x="453348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200000">
                <a:off x="4649040" y="316404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00000">
                <a:off x="4838040" y="32011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24600" y="2819520"/>
                <a:ext cx="2420640" cy="1752480"/>
              </a:xfrm>
              <a:prstGeom prst="blockArc">
                <a:avLst>
                  <a:gd name="adj1" fmla="val 13102124"/>
                  <a:gd name="adj2" fmla="val 19297876"/>
                  <a:gd name="adj3" fmla="val 1541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2960280" y="3144240"/>
                <a:ext cx="1008360" cy="1061280"/>
                <a:chOff x="2960280" y="3144240"/>
                <a:chExt cx="1008360" cy="1061280"/>
              </a:xfrm>
            </p:grpSpPr>
            <p:sp>
              <p:nvSpPr>
                <p:cNvPr id="335" name=""/>
                <p:cNvSpPr/>
                <p:nvPr/>
              </p:nvSpPr>
              <p:spPr>
                <a:xfrm rot="2533800">
                  <a:off x="3744720" y="3499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2533800">
                  <a:off x="3585600" y="3560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rot="2533800">
                  <a:off x="3483360" y="367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2533800">
                  <a:off x="3437640" y="3837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2533800">
                  <a:off x="3278520" y="389952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2533800">
                  <a:off x="3232800" y="4063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7933800">
                  <a:off x="2903760" y="3475080"/>
                  <a:ext cx="102852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176440" y="3118680"/>
                <a:ext cx="982800" cy="965160"/>
                <a:chOff x="5176440" y="3118680"/>
                <a:chExt cx="982800" cy="965160"/>
              </a:xfrm>
            </p:grpSpPr>
            <p:sp>
              <p:nvSpPr>
                <p:cNvPr id="343" name=""/>
                <p:cNvSpPr/>
                <p:nvPr/>
              </p:nvSpPr>
              <p:spPr>
                <a:xfrm rot="18729600">
                  <a:off x="5166000" y="3425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18729600">
                  <a:off x="5228280" y="358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18729600">
                  <a:off x="5340960" y="3686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18729600">
                  <a:off x="5504760" y="3732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18729600">
                  <a:off x="5567040" y="3890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8729600">
                  <a:off x="5730840" y="39369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2529600">
                  <a:off x="5161680" y="34243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2844720" y="3701880"/>
              <a:ext cx="343080" cy="337320"/>
              <a:chOff x="2844720" y="3701880"/>
              <a:chExt cx="343080" cy="337320"/>
            </a:xfrm>
          </p:grpSpPr>
          <p:sp>
            <p:nvSpPr>
              <p:cNvPr id="351" name=""/>
              <p:cNvSpPr/>
              <p:nvPr/>
            </p:nvSpPr>
            <p:spPr>
              <a:xfrm>
                <a:off x="2844720" y="37242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44720" y="370188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969160" y="3581280"/>
              <a:ext cx="342720" cy="337320"/>
              <a:chOff x="5969160" y="3581280"/>
              <a:chExt cx="342720" cy="337320"/>
            </a:xfrm>
          </p:grpSpPr>
          <p:sp>
            <p:nvSpPr>
              <p:cNvPr id="354" name=""/>
              <p:cNvSpPr/>
              <p:nvPr/>
            </p:nvSpPr>
            <p:spPr>
              <a:xfrm>
                <a:off x="5981760" y="36036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969160" y="3581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2055960" y="2741400"/>
            <a:ext cx="4585680" cy="1974600"/>
            <a:chOff x="2055960" y="2741400"/>
            <a:chExt cx="4585680" cy="1974600"/>
          </a:xfrm>
        </p:grpSpPr>
        <p:grpSp>
          <p:nvGrpSpPr>
            <p:cNvPr id="357" name=""/>
            <p:cNvGrpSpPr/>
            <p:nvPr/>
          </p:nvGrpSpPr>
          <p:grpSpPr>
            <a:xfrm>
              <a:off x="2456640" y="2741400"/>
              <a:ext cx="4164120" cy="1974600"/>
              <a:chOff x="2456640" y="2741400"/>
              <a:chExt cx="4164120" cy="1974600"/>
            </a:xfrm>
          </p:grpSpPr>
          <p:sp>
            <p:nvSpPr>
              <p:cNvPr id="358" name=""/>
              <p:cNvSpPr/>
              <p:nvPr/>
            </p:nvSpPr>
            <p:spPr>
              <a:xfrm rot="16200000">
                <a:off x="4062960" y="45295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6200000">
                <a:off x="425196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6200000">
                <a:off x="4367880" y="451512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6200000">
                <a:off x="455652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6200000">
                <a:off x="4672440" y="45151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6200000">
                <a:off x="4861440" y="455148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2541240" y="2740680"/>
                <a:ext cx="3962520" cy="175212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2456640" y="3852360"/>
                <a:ext cx="1390680" cy="710640"/>
                <a:chOff x="2456640" y="3852360"/>
                <a:chExt cx="1390680" cy="710640"/>
              </a:xfrm>
            </p:grpSpPr>
            <p:sp>
              <p:nvSpPr>
                <p:cNvPr id="366" name=""/>
                <p:cNvSpPr/>
                <p:nvPr/>
              </p:nvSpPr>
              <p:spPr>
                <a:xfrm rot="6124800">
                  <a:off x="3174480" y="44060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rot="6124800">
                  <a:off x="3042360" y="42994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rot="6124800">
                  <a:off x="2893320" y="42681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6124800">
                  <a:off x="2728440" y="43099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rot="6124800">
                  <a:off x="2594880" y="4203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6124800">
                  <a:off x="2429640" y="42462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rot="11525400">
                  <a:off x="2473200" y="3990600"/>
                  <a:ext cx="13572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5220000" y="3747600"/>
                <a:ext cx="1400760" cy="723240"/>
                <a:chOff x="5220000" y="3747600"/>
                <a:chExt cx="1400760" cy="723240"/>
              </a:xfrm>
            </p:grpSpPr>
            <p:sp>
              <p:nvSpPr>
                <p:cNvPr id="374" name=""/>
                <p:cNvSpPr/>
                <p:nvPr/>
              </p:nvSpPr>
              <p:spPr>
                <a:xfrm rot="15196800">
                  <a:off x="5670000" y="428400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rot="15196800">
                  <a:off x="5837040" y="43135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rot="15196800">
                  <a:off x="5983560" y="42703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rot="15196800">
                  <a:off x="6107040" y="4152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15196800">
                  <a:off x="6275880" y="4182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15196800">
                  <a:off x="6399720" y="40651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rot="20596800">
                  <a:off x="5234400" y="3938400"/>
                  <a:ext cx="13716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6298920" y="3547800"/>
              <a:ext cx="342720" cy="337320"/>
              <a:chOff x="6298920" y="3547800"/>
              <a:chExt cx="342720" cy="337320"/>
            </a:xfrm>
          </p:grpSpPr>
          <p:sp>
            <p:nvSpPr>
              <p:cNvPr id="382" name=""/>
              <p:cNvSpPr/>
              <p:nvPr/>
            </p:nvSpPr>
            <p:spPr>
              <a:xfrm>
                <a:off x="6311520" y="356976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98920" y="35478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2055960" y="3350880"/>
              <a:ext cx="966600" cy="972720"/>
              <a:chOff x="2055960" y="3350880"/>
              <a:chExt cx="966600" cy="972720"/>
            </a:xfrm>
          </p:grpSpPr>
          <p:sp>
            <p:nvSpPr>
              <p:cNvPr id="385" name=""/>
              <p:cNvSpPr/>
              <p:nvPr/>
            </p:nvSpPr>
            <p:spPr>
              <a:xfrm>
                <a:off x="2055960" y="3350880"/>
                <a:ext cx="966600" cy="972720"/>
              </a:xfrm>
              <a:prstGeom prst="sun">
                <a:avLst>
                  <a:gd name="adj" fmla="val 33333"/>
                </a:avLst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387520" y="366012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7" name=""/>
          <p:cNvGrpSpPr/>
          <p:nvPr/>
        </p:nvGrpSpPr>
        <p:grpSpPr>
          <a:xfrm>
            <a:off x="2446200" y="3352680"/>
            <a:ext cx="4233600" cy="1752480"/>
            <a:chOff x="2446200" y="3352680"/>
            <a:chExt cx="4233600" cy="1752480"/>
          </a:xfrm>
        </p:grpSpPr>
        <p:grpSp>
          <p:nvGrpSpPr>
            <p:cNvPr id="388" name=""/>
            <p:cNvGrpSpPr/>
            <p:nvPr/>
          </p:nvGrpSpPr>
          <p:grpSpPr>
            <a:xfrm>
              <a:off x="2545920" y="3352680"/>
              <a:ext cx="4018320" cy="1752480"/>
              <a:chOff x="2545920" y="3352680"/>
              <a:chExt cx="4018320" cy="1752480"/>
            </a:xfrm>
          </p:grpSpPr>
          <p:sp>
            <p:nvSpPr>
              <p:cNvPr id="389" name=""/>
              <p:cNvSpPr/>
              <p:nvPr/>
            </p:nvSpPr>
            <p:spPr>
              <a:xfrm rot="16200000">
                <a:off x="4048560" y="36928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6200000">
                <a:off x="423756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200000">
                <a:off x="4353120" y="364176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6200000">
                <a:off x="454212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6200000">
                <a:off x="4658040" y="364212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6200000">
                <a:off x="4847040" y="36784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71480" y="33526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2545920" y="3396600"/>
                <a:ext cx="1337760" cy="1077120"/>
                <a:chOff x="2545920" y="3396600"/>
                <a:chExt cx="1337760" cy="1077120"/>
              </a:xfrm>
            </p:grpSpPr>
            <p:sp>
              <p:nvSpPr>
                <p:cNvPr id="397" name=""/>
                <p:cNvSpPr/>
                <p:nvPr/>
              </p:nvSpPr>
              <p:spPr>
                <a:xfrm rot="3694200">
                  <a:off x="3399840" y="3955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rot="3694200">
                  <a:off x="3230280" y="39600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3694200">
                  <a:off x="3096360" y="403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rot="3694200">
                  <a:off x="2998080" y="4172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rot="3694200">
                  <a:off x="2827080" y="4177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rot="3694200">
                  <a:off x="2729520" y="4317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rot="9094200">
                  <a:off x="2535840" y="370116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5221080" y="3424680"/>
                <a:ext cx="1343160" cy="1024560"/>
                <a:chOff x="5221080" y="3424680"/>
                <a:chExt cx="1343160" cy="1024560"/>
              </a:xfrm>
            </p:grpSpPr>
            <p:sp>
              <p:nvSpPr>
                <p:cNvPr id="405" name=""/>
                <p:cNvSpPr/>
                <p:nvPr/>
              </p:nvSpPr>
              <p:spPr>
                <a:xfrm rot="17967600">
                  <a:off x="5517360" y="39186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rot="17967600">
                  <a:off x="5611680" y="4059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rot="17967600">
                  <a:off x="5744160" y="4135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rot="17967600">
                  <a:off x="5914800" y="4143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17967600">
                  <a:off x="6009840" y="4285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17967600">
                  <a:off x="6180480" y="4293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rot="1767600">
                  <a:off x="5206680" y="374220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2" name=""/>
            <p:cNvGrpSpPr/>
            <p:nvPr/>
          </p:nvGrpSpPr>
          <p:grpSpPr>
            <a:xfrm>
              <a:off x="6337080" y="3881160"/>
              <a:ext cx="342720" cy="337320"/>
              <a:chOff x="6337080" y="3881160"/>
              <a:chExt cx="342720" cy="337320"/>
            </a:xfrm>
          </p:grpSpPr>
          <p:sp>
            <p:nvSpPr>
              <p:cNvPr id="413" name=""/>
              <p:cNvSpPr/>
              <p:nvPr/>
            </p:nvSpPr>
            <p:spPr>
              <a:xfrm>
                <a:off x="6349680" y="39034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7080" y="38811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446200" y="3805200"/>
              <a:ext cx="347040" cy="337320"/>
              <a:chOff x="2446200" y="3805200"/>
              <a:chExt cx="347040" cy="337320"/>
            </a:xfrm>
          </p:grpSpPr>
          <p:sp>
            <p:nvSpPr>
              <p:cNvPr id="416" name=""/>
              <p:cNvSpPr/>
              <p:nvPr/>
            </p:nvSpPr>
            <p:spPr>
              <a:xfrm>
                <a:off x="2446200" y="382752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450520" y="38052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609480" y="5486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: residual fluorescence due to the insufficient quenc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" y="1981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Quenchers (azo dyes): DABCYL, BH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05720" y="106668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plication in genetics, disease diagnostics, new drug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7819920" y="410544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1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ERR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Beac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52480" y="4876920"/>
            <a:ext cx="7543800" cy="521640"/>
            <a:chOff x="852480" y="4876920"/>
            <a:chExt cx="7543800" cy="521640"/>
          </a:xfrm>
        </p:grpSpPr>
        <p:sp>
          <p:nvSpPr>
            <p:cNvPr id="424" name=""/>
            <p:cNvSpPr/>
            <p:nvPr/>
          </p:nvSpPr>
          <p:spPr>
            <a:xfrm rot="16200000">
              <a:off x="412380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6200000">
              <a:off x="4312800" y="49536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442836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617360" y="49536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73328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4922280" y="50295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52480" y="50958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415320" y="1536840"/>
            <a:ext cx="5003640" cy="2963880"/>
            <a:chOff x="3415320" y="1536840"/>
            <a:chExt cx="5003640" cy="2963880"/>
          </a:xfrm>
        </p:grpSpPr>
        <p:grpSp>
          <p:nvGrpSpPr>
            <p:cNvPr id="432" name=""/>
            <p:cNvGrpSpPr/>
            <p:nvPr/>
          </p:nvGrpSpPr>
          <p:grpSpPr>
            <a:xfrm>
              <a:off x="3415320" y="1536840"/>
              <a:ext cx="2826360" cy="2341800"/>
              <a:chOff x="3415320" y="1536840"/>
              <a:chExt cx="2826360" cy="234180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3415320" y="1536840"/>
                <a:ext cx="2718000" cy="2341800"/>
                <a:chOff x="3415320" y="1536840"/>
                <a:chExt cx="2718000" cy="2341800"/>
              </a:xfrm>
            </p:grpSpPr>
            <p:sp>
              <p:nvSpPr>
                <p:cNvPr id="434" name=""/>
                <p:cNvSpPr/>
                <p:nvPr/>
              </p:nvSpPr>
              <p:spPr>
                <a:xfrm rot="11429400">
                  <a:off x="3889080" y="29800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1429400">
                  <a:off x="3836880" y="28069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1429400">
                  <a:off x="3867840" y="266616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11429400">
                  <a:off x="3892320" y="250704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11429400">
                  <a:off x="3923280" y="23662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11429400">
                  <a:off x="4022280" y="2221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16829400">
                  <a:off x="5089680" y="2620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rot="16829400">
                  <a:off x="5225760" y="2723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rot="16829400">
                  <a:off x="5375520" y="27504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rot="16829400">
                  <a:off x="5539320" y="27036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16829400">
                  <a:off x="5675400" y="28062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6829400">
                  <a:off x="5838840" y="2758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rot="16829400">
                  <a:off x="5036760" y="2907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16829400">
                  <a:off x="5172480" y="3010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rot="16829400">
                  <a:off x="5322240" y="3037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16829400">
                  <a:off x="5486040" y="29908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rot="16829400">
                  <a:off x="5622120" y="3093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rot="16829400">
                  <a:off x="5785560" y="30459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rot="16829400">
                  <a:off x="3435480" y="1831320"/>
                  <a:ext cx="2057400" cy="1752480"/>
                </a:xfrm>
                <a:prstGeom prst="blockArc">
                  <a:avLst>
                    <a:gd name="adj1" fmla="val 6773535"/>
                    <a:gd name="adj2" fmla="val 4026465"/>
                    <a:gd name="adj3" fmla="val 1509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629400">
                  <a:off x="4944600" y="3120840"/>
                  <a:ext cx="102888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629400">
                  <a:off x="5085720" y="23947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5847480" y="2268360"/>
                <a:ext cx="394200" cy="398520"/>
                <a:chOff x="5847480" y="2268360"/>
                <a:chExt cx="394200" cy="398520"/>
              </a:xfrm>
            </p:grpSpPr>
            <p:sp>
              <p:nvSpPr>
                <p:cNvPr id="456" name=""/>
                <p:cNvSpPr/>
                <p:nvPr/>
              </p:nvSpPr>
              <p:spPr>
                <a:xfrm rot="16829400">
                  <a:off x="5895360" y="23115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rot="16829400">
                  <a:off x="5873040" y="2298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5665320" y="3251880"/>
                <a:ext cx="394200" cy="398520"/>
                <a:chOff x="5665320" y="3251880"/>
                <a:chExt cx="394200" cy="398520"/>
              </a:xfrm>
            </p:grpSpPr>
            <p:sp>
              <p:nvSpPr>
                <p:cNvPr id="459" name=""/>
                <p:cNvSpPr/>
                <p:nvPr/>
              </p:nvSpPr>
              <p:spPr>
                <a:xfrm rot="16829400">
                  <a:off x="5711400" y="33073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rot="16829400">
                  <a:off x="5690880" y="32821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1" name=""/>
            <p:cNvSpPr/>
            <p:nvPr/>
          </p:nvSpPr>
          <p:spPr>
            <a:xfrm rot="20439600">
              <a:off x="5943600" y="220968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3362040" y="1905480"/>
            <a:ext cx="4649400" cy="2688840"/>
            <a:chOff x="3362040" y="1905480"/>
            <a:chExt cx="4649400" cy="2688840"/>
          </a:xfrm>
        </p:grpSpPr>
        <p:grpSp>
          <p:nvGrpSpPr>
            <p:cNvPr id="463" name=""/>
            <p:cNvGrpSpPr/>
            <p:nvPr/>
          </p:nvGrpSpPr>
          <p:grpSpPr>
            <a:xfrm>
              <a:off x="3362040" y="1905480"/>
              <a:ext cx="2543400" cy="2688840"/>
              <a:chOff x="3362040" y="1905480"/>
              <a:chExt cx="2543400" cy="268884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3362040" y="1905480"/>
                <a:ext cx="2422440" cy="2559240"/>
                <a:chOff x="3362040" y="1905480"/>
                <a:chExt cx="2422440" cy="2559240"/>
              </a:xfrm>
            </p:grpSpPr>
            <p:sp>
              <p:nvSpPr>
                <p:cNvPr id="465" name=""/>
                <p:cNvSpPr/>
                <p:nvPr/>
              </p:nvSpPr>
              <p:spPr>
                <a:xfrm rot="12001800">
                  <a:off x="3866760" y="33512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rot="12001800">
                  <a:off x="3843720" y="3165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rot="12001800">
                  <a:off x="3898080" y="303768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rot="12001800">
                  <a:off x="3947760" y="28792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rot="12001800">
                  <a:off x="4002120" y="275148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rot="12001800">
                  <a:off x="4124160" y="26193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17401800">
                  <a:off x="3508920" y="2295720"/>
                  <a:ext cx="2057400" cy="1752480"/>
                </a:xfrm>
                <a:prstGeom prst="blockArc">
                  <a:avLst>
                    <a:gd name="adj1" fmla="val 11000679"/>
                    <a:gd name="adj2" fmla="val 21399321"/>
                    <a:gd name="adj3" fmla="val 14292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2" name=""/>
                <p:cNvGrpSpPr/>
                <p:nvPr/>
              </p:nvGrpSpPr>
              <p:grpSpPr>
                <a:xfrm>
                  <a:off x="4113720" y="3651840"/>
                  <a:ext cx="1074600" cy="812880"/>
                  <a:chOff x="4113720" y="3651840"/>
                  <a:chExt cx="1074600" cy="81288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17401800">
                    <a:off x="4284000" y="3734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7401800">
                    <a:off x="4401000" y="38584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17401800">
                    <a:off x="4544280" y="39106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rot="17401800">
                    <a:off x="4713120" y="38912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17401800">
                    <a:off x="4830480" y="4015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7401800">
                    <a:off x="5000040" y="3995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rot="1201800">
                    <a:off x="4134240" y="3994560"/>
                    <a:ext cx="102816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4714560" y="2178360"/>
                  <a:ext cx="1069920" cy="763200"/>
                  <a:chOff x="4714560" y="2178360"/>
                  <a:chExt cx="1069920" cy="76320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rot="17401800">
                    <a:off x="4726080" y="2503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rot="17401800">
                    <a:off x="4843080" y="2627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17401800">
                    <a:off x="4986720" y="26794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rot="17401800">
                    <a:off x="5155560" y="2660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rot="17401800">
                    <a:off x="5272560" y="27838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17401800">
                    <a:off x="5441760" y="2764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rot="1201800">
                    <a:off x="4735440" y="2345040"/>
                    <a:ext cx="102816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8" name=""/>
              <p:cNvGrpSpPr/>
              <p:nvPr/>
            </p:nvGrpSpPr>
            <p:grpSpPr>
              <a:xfrm>
                <a:off x="4792680" y="4156920"/>
                <a:ext cx="434160" cy="437400"/>
                <a:chOff x="4792680" y="4156920"/>
                <a:chExt cx="434160" cy="437400"/>
              </a:xfrm>
            </p:grpSpPr>
            <p:sp>
              <p:nvSpPr>
                <p:cNvPr id="489" name=""/>
                <p:cNvSpPr/>
                <p:nvPr/>
              </p:nvSpPr>
              <p:spPr>
                <a:xfrm rot="17401800">
                  <a:off x="4855680" y="4232880"/>
                  <a:ext cx="31860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rot="17401800">
                  <a:off x="4838400" y="4206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5471280" y="2295360"/>
                <a:ext cx="434160" cy="437400"/>
                <a:chOff x="5471280" y="2295360"/>
                <a:chExt cx="434160" cy="437400"/>
              </a:xfrm>
            </p:grpSpPr>
            <p:sp>
              <p:nvSpPr>
                <p:cNvPr id="492" name=""/>
                <p:cNvSpPr/>
                <p:nvPr/>
              </p:nvSpPr>
              <p:spPr>
                <a:xfrm rot="17401800">
                  <a:off x="5538960" y="235980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rot="17401800">
                  <a:off x="5517000" y="234504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4" name=""/>
            <p:cNvSpPr/>
            <p:nvPr/>
          </p:nvSpPr>
          <p:spPr>
            <a:xfrm rot="20734200">
              <a:off x="5589720" y="217044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334680" y="2068560"/>
            <a:ext cx="5160600" cy="2813400"/>
            <a:chOff x="3334680" y="2068560"/>
            <a:chExt cx="5160600" cy="2813400"/>
          </a:xfrm>
        </p:grpSpPr>
        <p:grpSp>
          <p:nvGrpSpPr>
            <p:cNvPr id="496" name=""/>
            <p:cNvGrpSpPr/>
            <p:nvPr/>
          </p:nvGrpSpPr>
          <p:grpSpPr>
            <a:xfrm>
              <a:off x="3334680" y="2068560"/>
              <a:ext cx="2980080" cy="2588040"/>
              <a:chOff x="3334680" y="2068560"/>
              <a:chExt cx="2980080" cy="258804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3334680" y="2068560"/>
                <a:ext cx="2795400" cy="2541240"/>
                <a:chOff x="3334680" y="2068560"/>
                <a:chExt cx="2795400" cy="2541240"/>
              </a:xfrm>
            </p:grpSpPr>
            <p:sp>
              <p:nvSpPr>
                <p:cNvPr id="498" name=""/>
                <p:cNvSpPr/>
                <p:nvPr/>
              </p:nvSpPr>
              <p:spPr>
                <a:xfrm rot="14418000">
                  <a:off x="3975120" y="312948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4418000">
                  <a:off x="4085280" y="2950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rot="14418000">
                  <a:off x="4201200" y="2910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rot="14418000">
                  <a:off x="4350240" y="280008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4418000">
                  <a:off x="4466160" y="276012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14418000">
                  <a:off x="4653000" y="271512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19818000">
                  <a:off x="3633480" y="2462760"/>
                  <a:ext cx="2057040" cy="1752480"/>
                </a:xfrm>
                <a:prstGeom prst="blockArc">
                  <a:avLst>
                    <a:gd name="adj1" fmla="val 12222482"/>
                    <a:gd name="adj2" fmla="val 20177518"/>
                    <a:gd name="adj3" fmla="val 14861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3656160" y="3420000"/>
                  <a:ext cx="604440" cy="1049040"/>
                  <a:chOff x="3656160" y="3420000"/>
                  <a:chExt cx="604440" cy="104904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21330000">
                    <a:off x="3970080" y="35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21330000">
                    <a:off x="3905640" y="3682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rot="21330000">
                    <a:off x="3917880" y="38343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rot="21330000">
                    <a:off x="4005720" y="39801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21330000">
                    <a:off x="3941640" y="4137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rot="21330000">
                    <a:off x="4029840" y="428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rot="5130600">
                    <a:off x="3332880" y="3792960"/>
                    <a:ext cx="102852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5093640" y="2536560"/>
                  <a:ext cx="1036440" cy="871920"/>
                  <a:chOff x="5093640" y="2536560"/>
                  <a:chExt cx="1036440" cy="87192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rot="18075000">
                    <a:off x="5087880" y="2858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rot="18075000">
                    <a:off x="5178600" y="30027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18075000">
                    <a:off x="5308920" y="30816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rot="18075000">
                    <a:off x="5478480" y="30960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rot="18075000">
                    <a:off x="5569200" y="3240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8075000">
                    <a:off x="5739120" y="3254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rot="1875000">
                    <a:off x="5097600" y="278100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3571200" y="4193640"/>
                <a:ext cx="464760" cy="462960"/>
                <a:chOff x="3571200" y="4193640"/>
                <a:chExt cx="464760" cy="462960"/>
              </a:xfrm>
            </p:grpSpPr>
            <p:sp>
              <p:nvSpPr>
                <p:cNvPr id="522" name=""/>
                <p:cNvSpPr/>
                <p:nvPr/>
              </p:nvSpPr>
              <p:spPr>
                <a:xfrm rot="19818000">
                  <a:off x="3638880" y="42829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9818000">
                  <a:off x="3632040" y="42562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850000" y="2805840"/>
                <a:ext cx="464760" cy="462960"/>
                <a:chOff x="5850000" y="2805840"/>
                <a:chExt cx="464760" cy="462960"/>
              </a:xfrm>
            </p:grpSpPr>
            <p:sp>
              <p:nvSpPr>
                <p:cNvPr id="525" name=""/>
                <p:cNvSpPr/>
                <p:nvPr/>
              </p:nvSpPr>
              <p:spPr>
                <a:xfrm rot="19818000">
                  <a:off x="5928840" y="28893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9818000">
                  <a:off x="5910840" y="28684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 rot="20439600">
              <a:off x="6019920" y="259056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051000" y="2020680"/>
            <a:ext cx="5753160" cy="2815920"/>
            <a:chOff x="3051000" y="2020680"/>
            <a:chExt cx="5753160" cy="2815920"/>
          </a:xfrm>
        </p:grpSpPr>
        <p:grpSp>
          <p:nvGrpSpPr>
            <p:cNvPr id="529" name=""/>
            <p:cNvGrpSpPr/>
            <p:nvPr/>
          </p:nvGrpSpPr>
          <p:grpSpPr>
            <a:xfrm>
              <a:off x="3051000" y="2437560"/>
              <a:ext cx="3376440" cy="2389680"/>
              <a:chOff x="3051000" y="2437560"/>
              <a:chExt cx="3376440" cy="2389680"/>
            </a:xfrm>
          </p:grpSpPr>
          <p:grpSp>
            <p:nvGrpSpPr>
              <p:cNvPr id="530" name=""/>
              <p:cNvGrpSpPr/>
              <p:nvPr/>
            </p:nvGrpSpPr>
            <p:grpSpPr>
              <a:xfrm>
                <a:off x="3222000" y="2437560"/>
                <a:ext cx="3026880" cy="2389680"/>
                <a:chOff x="3222000" y="2437560"/>
                <a:chExt cx="3026880" cy="2389680"/>
              </a:xfrm>
            </p:grpSpPr>
            <p:sp>
              <p:nvSpPr>
                <p:cNvPr id="531" name=""/>
                <p:cNvSpPr/>
                <p:nvPr/>
              </p:nvSpPr>
              <p:spPr>
                <a:xfrm rot="15168000">
                  <a:off x="4060800" y="329940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5168000">
                  <a:off x="4208040" y="3141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15168000">
                  <a:off x="4329000" y="31348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15168000">
                  <a:off x="4499280" y="3051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15168000">
                  <a:off x="4620240" y="30448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rot="15168000">
                  <a:off x="4812840" y="3034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rot="20568000">
                  <a:off x="3453480" y="2755800"/>
                  <a:ext cx="2420640" cy="1752480"/>
                </a:xfrm>
                <a:prstGeom prst="blockArc">
                  <a:avLst>
                    <a:gd name="adj1" fmla="val 13102124"/>
                    <a:gd name="adj2" fmla="val 19297876"/>
                    <a:gd name="adj3" fmla="val 1541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3222000" y="3366720"/>
                  <a:ext cx="868680" cy="1086120"/>
                  <a:chOff x="3222000" y="3366720"/>
                  <a:chExt cx="868680" cy="108612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rot="1501800">
                    <a:off x="3857040" y="3642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rot="1501800">
                    <a:off x="3723480" y="374832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rot="1501800">
                    <a:off x="3658680" y="38865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rot="1501800">
                    <a:off x="3663720" y="4057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501800">
                    <a:off x="3530160" y="416268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rot="1501800">
                    <a:off x="3534840" y="43333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6902400">
                    <a:off x="3062520" y="3745080"/>
                    <a:ext cx="102852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5188320" y="2826000"/>
                  <a:ext cx="1060560" cy="808200"/>
                  <a:chOff x="5188320" y="2826000"/>
                  <a:chExt cx="1060560" cy="80820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17697600">
                    <a:off x="5192640" y="3151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7697600">
                    <a:off x="5299200" y="3285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rot="17697600">
                    <a:off x="5437080" y="3349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rot="17697600">
                    <a:off x="5607000" y="3344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7697600">
                    <a:off x="5713560" y="34776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rot="17697600">
                    <a:off x="5883480" y="3473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rot="1497600">
                    <a:off x="5204160" y="302868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4" name=""/>
              <p:cNvGrpSpPr/>
              <p:nvPr/>
            </p:nvGrpSpPr>
            <p:grpSpPr>
              <a:xfrm>
                <a:off x="3051000" y="4036320"/>
                <a:ext cx="427320" cy="423720"/>
                <a:chOff x="3051000" y="4036320"/>
                <a:chExt cx="427320" cy="423720"/>
              </a:xfrm>
            </p:grpSpPr>
            <p:sp>
              <p:nvSpPr>
                <p:cNvPr id="555" name=""/>
                <p:cNvSpPr/>
                <p:nvPr/>
              </p:nvSpPr>
              <p:spPr>
                <a:xfrm rot="20568000">
                  <a:off x="3097080" y="410472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rot="20568000">
                  <a:off x="3093120" y="407952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6000120" y="2997360"/>
                <a:ext cx="427320" cy="423720"/>
                <a:chOff x="6000120" y="2997360"/>
                <a:chExt cx="427320" cy="423720"/>
              </a:xfrm>
            </p:grpSpPr>
            <p:sp>
              <p:nvSpPr>
                <p:cNvPr id="558" name=""/>
                <p:cNvSpPr/>
                <p:nvPr/>
              </p:nvSpPr>
              <p:spPr>
                <a:xfrm rot="20568000">
                  <a:off x="6058080" y="306180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20568000">
                  <a:off x="6042240" y="30405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0" name=""/>
            <p:cNvSpPr/>
            <p:nvPr/>
          </p:nvSpPr>
          <p:spPr>
            <a:xfrm rot="19816800">
              <a:off x="6248520" y="243792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2487600" y="2178360"/>
            <a:ext cx="6654240" cy="3098520"/>
            <a:chOff x="2487600" y="2178360"/>
            <a:chExt cx="6654240" cy="3098520"/>
          </a:xfrm>
        </p:grpSpPr>
        <p:grpSp>
          <p:nvGrpSpPr>
            <p:cNvPr id="562" name=""/>
            <p:cNvGrpSpPr/>
            <p:nvPr/>
          </p:nvGrpSpPr>
          <p:grpSpPr>
            <a:xfrm>
              <a:off x="2487600" y="3182400"/>
              <a:ext cx="4251600" cy="2094480"/>
              <a:chOff x="2487600" y="3182400"/>
              <a:chExt cx="4251600" cy="209448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2570400" y="3182400"/>
                <a:ext cx="4101120" cy="2094480"/>
                <a:chOff x="2570400" y="3182400"/>
                <a:chExt cx="4101120" cy="2094480"/>
              </a:xfrm>
            </p:grpSpPr>
            <p:sp>
              <p:nvSpPr>
                <p:cNvPr id="564" name=""/>
                <p:cNvSpPr/>
                <p:nvPr/>
              </p:nvSpPr>
              <p:spPr>
                <a:xfrm rot="15897000">
                  <a:off x="4074480" y="372672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rot="15897000">
                  <a:off x="4254840" y="3623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rot="15897000">
                  <a:off x="4373280" y="364896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15897000">
                  <a:off x="4557960" y="3596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15897000">
                  <a:off x="4677120" y="36226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rot="15897000">
                  <a:off x="4868640" y="3645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rot="21297000">
                  <a:off x="2639520" y="3353400"/>
                  <a:ext cx="3962160" cy="175248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1" name=""/>
                <p:cNvGrpSpPr/>
                <p:nvPr/>
              </p:nvGrpSpPr>
              <p:grpSpPr>
                <a:xfrm>
                  <a:off x="2605680" y="3472200"/>
                  <a:ext cx="1299240" cy="1150200"/>
                  <a:chOff x="2605680" y="3472200"/>
                  <a:chExt cx="1299240" cy="115020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 rot="3391200">
                    <a:off x="3451680" y="4049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rot="3391200">
                    <a:off x="3282840" y="4068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rot="3391200">
                    <a:off x="3156120" y="41536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rot="3391200">
                    <a:off x="3070440" y="4299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rot="3391200">
                    <a:off x="2900520" y="43203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rot="3391200">
                    <a:off x="2815920" y="44690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rot="8791200">
                    <a:off x="2576520" y="3821040"/>
                    <a:ext cx="13572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5239440" y="3356640"/>
                  <a:ext cx="1374120" cy="948600"/>
                  <a:chOff x="5239440" y="3356640"/>
                  <a:chExt cx="1374120" cy="94860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 rot="17664600">
                    <a:off x="5557680" y="3825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rot="17664600">
                    <a:off x="5663880" y="3958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rot="17664600">
                    <a:off x="5802480" y="40219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17664600">
                    <a:off x="5973120" y="40147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rot="17664600">
                    <a:off x="6080400" y="4148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rot="17664600">
                    <a:off x="6251040" y="4141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1464600">
                    <a:off x="5240520" y="3626280"/>
                    <a:ext cx="13716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7" name=""/>
              <p:cNvGrpSpPr/>
              <p:nvPr/>
            </p:nvGrpSpPr>
            <p:grpSpPr>
              <a:xfrm>
                <a:off x="6368040" y="3696120"/>
                <a:ext cx="371160" cy="366120"/>
                <a:chOff x="6368040" y="3696120"/>
                <a:chExt cx="371160" cy="366120"/>
              </a:xfrm>
            </p:grpSpPr>
            <p:sp>
              <p:nvSpPr>
                <p:cNvPr id="588" name=""/>
                <p:cNvSpPr/>
                <p:nvPr/>
              </p:nvSpPr>
              <p:spPr>
                <a:xfrm rot="21297000">
                  <a:off x="6395400" y="373284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rot="21297000">
                  <a:off x="6382080" y="37105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2487600" y="3962520"/>
                <a:ext cx="373320" cy="366120"/>
                <a:chOff x="2487600" y="3962520"/>
                <a:chExt cx="373320" cy="366120"/>
              </a:xfrm>
            </p:grpSpPr>
            <p:sp>
              <p:nvSpPr>
                <p:cNvPr id="591" name=""/>
                <p:cNvSpPr/>
                <p:nvPr/>
              </p:nvSpPr>
              <p:spPr>
                <a:xfrm rot="21297000">
                  <a:off x="2500560" y="400068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rot="21297000">
                  <a:off x="2503800" y="39769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3" name=""/>
            <p:cNvSpPr/>
            <p:nvPr/>
          </p:nvSpPr>
          <p:spPr>
            <a:xfrm rot="18996600">
              <a:off x="6553080" y="2666520"/>
              <a:ext cx="2210040" cy="1981080"/>
            </a:xfrm>
            <a:prstGeom prst="hexagon">
              <a:avLst>
                <a:gd name="adj" fmla="val 27889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2438280" y="1858320"/>
            <a:ext cx="6418440" cy="3551400"/>
            <a:chOff x="2438280" y="1858320"/>
            <a:chExt cx="6418440" cy="3551400"/>
          </a:xfrm>
        </p:grpSpPr>
        <p:grpSp>
          <p:nvGrpSpPr>
            <p:cNvPr id="595" name=""/>
            <p:cNvGrpSpPr/>
            <p:nvPr/>
          </p:nvGrpSpPr>
          <p:grpSpPr>
            <a:xfrm>
              <a:off x="2438280" y="3657600"/>
              <a:ext cx="4381200" cy="1752120"/>
              <a:chOff x="2438280" y="3657600"/>
              <a:chExt cx="4381200" cy="175212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2559960" y="3657600"/>
                <a:ext cx="4161960" cy="1752120"/>
                <a:chOff x="2559960" y="3657600"/>
                <a:chExt cx="4161960" cy="1752120"/>
              </a:xfrm>
            </p:grpSpPr>
            <p:sp>
              <p:nvSpPr>
                <p:cNvPr id="597" name=""/>
                <p:cNvSpPr/>
                <p:nvPr/>
              </p:nvSpPr>
              <p:spPr>
                <a:xfrm rot="16200000">
                  <a:off x="4129560" y="40338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rot="16200000">
                  <a:off x="4318560" y="39164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rot="16200000">
                  <a:off x="443448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rot="16200000">
                  <a:off x="4623480" y="391644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rot="16200000">
                  <a:off x="473904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rot="16200000">
                  <a:off x="4928040" y="39927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652480" y="3657600"/>
                  <a:ext cx="396216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4" name=""/>
                <p:cNvGrpSpPr/>
                <p:nvPr/>
              </p:nvGrpSpPr>
              <p:grpSpPr>
                <a:xfrm>
                  <a:off x="2559960" y="3718080"/>
                  <a:ext cx="1389960" cy="767520"/>
                  <a:chOff x="2559960" y="3718080"/>
                  <a:chExt cx="1389960" cy="76752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 rot="4734000">
                    <a:off x="3384720" y="4182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rot="4734000">
                    <a:off x="3221280" y="41367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4734000">
                    <a:off x="3071880" y="4167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rot="4734000">
                    <a:off x="2936880" y="42699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rot="4734000">
                    <a:off x="2772000" y="4224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4734000">
                    <a:off x="2637000" y="4329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rot="10134000">
                    <a:off x="2576160" y="384552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5317200" y="3708720"/>
                  <a:ext cx="1404720" cy="754920"/>
                  <a:chOff x="5317200" y="3708720"/>
                  <a:chExt cx="1404720" cy="75492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 rot="16936200">
                    <a:off x="5673960" y="4101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16936200">
                    <a:off x="5806080" y="4208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6936200">
                    <a:off x="5955120" y="42415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6936200">
                    <a:off x="6120360" y="4198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rot="16936200">
                    <a:off x="6253560" y="4306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rot="16936200">
                    <a:off x="6418800" y="4263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rot="736200">
                    <a:off x="5333760" y="385092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0" name=""/>
              <p:cNvGrpSpPr/>
              <p:nvPr/>
            </p:nvGrpSpPr>
            <p:grpSpPr>
              <a:xfrm>
                <a:off x="2438280" y="3747960"/>
                <a:ext cx="347760" cy="337320"/>
                <a:chOff x="2438280" y="3747960"/>
                <a:chExt cx="347760" cy="33732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43828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442960" y="374796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6476760" y="3747960"/>
                <a:ext cx="342720" cy="337320"/>
                <a:chOff x="6476760" y="3747960"/>
                <a:chExt cx="342720" cy="33732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648936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476760" y="37479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6" name=""/>
            <p:cNvSpPr/>
            <p:nvPr/>
          </p:nvSpPr>
          <p:spPr>
            <a:xfrm rot="17422200">
              <a:off x="6438600" y="224820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2133720" y="1747440"/>
            <a:ext cx="6589800" cy="3122640"/>
            <a:chOff x="2133720" y="1747440"/>
            <a:chExt cx="6589800" cy="3122640"/>
          </a:xfrm>
        </p:grpSpPr>
        <p:grpSp>
          <p:nvGrpSpPr>
            <p:cNvPr id="628" name=""/>
            <p:cNvGrpSpPr/>
            <p:nvPr/>
          </p:nvGrpSpPr>
          <p:grpSpPr>
            <a:xfrm>
              <a:off x="2133720" y="2895480"/>
              <a:ext cx="4585680" cy="1974600"/>
              <a:chOff x="2133720" y="2895480"/>
              <a:chExt cx="4585680" cy="1974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2534400" y="2895480"/>
                <a:ext cx="4164120" cy="1974600"/>
                <a:chOff x="2534400" y="2895480"/>
                <a:chExt cx="4164120" cy="1974600"/>
              </a:xfrm>
            </p:grpSpPr>
            <p:sp>
              <p:nvSpPr>
                <p:cNvPr id="630" name=""/>
                <p:cNvSpPr/>
                <p:nvPr/>
              </p:nvSpPr>
              <p:spPr>
                <a:xfrm rot="16200000">
                  <a:off x="4140720" y="4683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rot="16200000">
                  <a:off x="432972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6200000">
                  <a:off x="4445640" y="466920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rot="16200000">
                  <a:off x="463428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rot="16200000">
                  <a:off x="4750200" y="46692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6200000">
                  <a:off x="4939200" y="4705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2619000" y="2894760"/>
                  <a:ext cx="396252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7" name=""/>
                <p:cNvGrpSpPr/>
                <p:nvPr/>
              </p:nvGrpSpPr>
              <p:grpSpPr>
                <a:xfrm>
                  <a:off x="2534400" y="4006440"/>
                  <a:ext cx="1390680" cy="710640"/>
                  <a:chOff x="2534400" y="4006440"/>
                  <a:chExt cx="1390680" cy="71064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 rot="6124800">
                    <a:off x="3252240" y="45601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6124800">
                    <a:off x="3120120" y="44535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rot="6124800">
                    <a:off x="2971080" y="4422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rot="6124800">
                    <a:off x="2806200" y="446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6124800">
                    <a:off x="2672640" y="43570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rot="6124800">
                    <a:off x="2507400" y="44002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rot="11525400">
                    <a:off x="2550960" y="414468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5297760" y="3901680"/>
                  <a:ext cx="1400760" cy="723240"/>
                  <a:chOff x="5297760" y="3901680"/>
                  <a:chExt cx="1400760" cy="72324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 rot="15196800">
                    <a:off x="5747760" y="4438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rot="15196800">
                    <a:off x="5914800" y="44676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rot="15196800">
                    <a:off x="6061320" y="44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rot="15196800">
                    <a:off x="6184800" y="43070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rot="15196800">
                    <a:off x="6353640" y="43369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rot="15196800">
                    <a:off x="6477480" y="42192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rot="20596800">
                    <a:off x="5312160" y="409248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6376680" y="3701880"/>
                <a:ext cx="342720" cy="337320"/>
                <a:chOff x="6376680" y="3701880"/>
                <a:chExt cx="342720" cy="33732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6389280" y="372384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376680" y="37018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2133720" y="3504960"/>
                <a:ext cx="966600" cy="972720"/>
                <a:chOff x="2133720" y="3504960"/>
                <a:chExt cx="966600" cy="97272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2133720" y="3504960"/>
                  <a:ext cx="966600" cy="972720"/>
                </a:xfrm>
                <a:prstGeom prst="sun">
                  <a:avLst>
                    <a:gd name="adj" fmla="val 33333"/>
                  </a:avLst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465280" y="381420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9" name=""/>
            <p:cNvSpPr/>
            <p:nvPr/>
          </p:nvSpPr>
          <p:spPr>
            <a:xfrm rot="20439600">
              <a:off x="6248160" y="205740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60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914400" y="5715000"/>
            <a:ext cx="7772400" cy="8254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s excellent quenchers, silver nanoparticles contribute additionally to the quench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2362320" y="304920"/>
            <a:ext cx="5029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838080" y="1066680"/>
          <a:ext cx="5562720" cy="266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066680"/>
                    <a:ext cx="55627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685800" y="3886200"/>
          <a:ext cx="5638680" cy="2971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886200"/>
                    <a:ext cx="56386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7162920" y="1143000"/>
          <a:ext cx="1447560" cy="19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2920" y="1143000"/>
                    <a:ext cx="14475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7315200" y="4191120"/>
          <a:ext cx="1219320" cy="228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15200" y="4191120"/>
                    <a:ext cx="1219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"/>
          <p:cNvSpPr/>
          <p:nvPr/>
        </p:nvSpPr>
        <p:spPr>
          <a:xfrm>
            <a:off x="2743200" y="8380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osed beacon on the Ag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153280" y="32767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477120" y="3429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rget D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5880" y="1371600"/>
            <a:ext cx="9144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 flipV="1">
            <a:off x="6400440" y="5334120"/>
            <a:ext cx="76212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88092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8" name=""/>
          <p:cNvGraphicFramePr/>
          <p:nvPr/>
        </p:nvGraphicFramePr>
        <p:xfrm>
          <a:off x="762120" y="990720"/>
          <a:ext cx="7677000" cy="4790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990720"/>
                    <a:ext cx="767700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220968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724280" y="1523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base misma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0120" y="175248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352680" y="1752480"/>
            <a:ext cx="53352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990720" y="304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beacon in the presence of control and single base mismatched oli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3520" y="5715000"/>
            <a:ext cx="8381880" cy="82548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cellent specificity for target DNA, range of SERRS dyes available for labelling, many possible quencher-flurophore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90720" y="685800"/>
            <a:ext cx="251460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" y="1371600"/>
            <a:ext cx="8153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and detected at 10</a:t>
            </a:r>
            <a:r>
              <a:rPr b="0" lang="en-GB" sz="2400" spc="-1" strike="noStrike" baseline="30000">
                <a:solidFill>
                  <a:srgbClr val="ffff00"/>
                </a:solidFill>
                <a:latin typeface="Times New Roman"/>
              </a:rPr>
              <a:t>-17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D THE MOST IMPORTA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8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838080" cy="137160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609480" y="5257800"/>
            <a:ext cx="8153640" cy="8380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525780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olecular beacons designed  enabling the new advances in bio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4495680"/>
            <a:ext cx="3047760" cy="1610280"/>
            <a:chOff x="685800" y="4495680"/>
            <a:chExt cx="3047760" cy="1610280"/>
          </a:xfrm>
        </p:grpSpPr>
        <p:sp>
          <p:nvSpPr>
            <p:cNvPr id="58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4724280"/>
              <a:ext cx="2844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reduced 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1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3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25416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2" name="hr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3962520" cy="22860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 flipV="1">
            <a:off x="2590920" y="456840"/>
            <a:ext cx="129528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86200" y="152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jilj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181480" y="228600"/>
            <a:ext cx="3657600" cy="67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0 things to know about  Croat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230 is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7 National Pa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5  Top Models at the mo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Successful in sport (football, handball, skiing, waterpolo champio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wo Nobel Prize Winners in Chemis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One Wimbeldon Win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he Home country of  the T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Goran Visnj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Leading centre for animated mov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excellent cuis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907320" y="285768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7" name="grb-small" descr=""/>
          <p:cNvPicPr/>
          <p:nvPr/>
        </p:nvPicPr>
        <p:blipFill>
          <a:blip r:embed="rId3"/>
          <a:stretch/>
        </p:blipFill>
        <p:spPr>
          <a:xfrm>
            <a:off x="0" y="0"/>
            <a:ext cx="903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8" name=""/>
          <p:cNvGraphicFramePr/>
          <p:nvPr/>
        </p:nvGraphicFramePr>
        <p:xfrm>
          <a:off x="304920" y="3124080"/>
          <a:ext cx="2133360" cy="160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3124080"/>
                    <a:ext cx="21333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0" name="lighthouse" descr=""/>
          <p:cNvPicPr/>
          <p:nvPr/>
        </p:nvPicPr>
        <p:blipFill>
          <a:blip r:embed="rId6"/>
          <a:stretch/>
        </p:blipFill>
        <p:spPr>
          <a:xfrm>
            <a:off x="228600" y="4876920"/>
            <a:ext cx="2343240" cy="1703160"/>
          </a:xfrm>
          <a:prstGeom prst="rect">
            <a:avLst/>
          </a:prstGeom>
          <a:ln w="0">
            <a:noFill/>
          </a:ln>
        </p:spPr>
      </p:pic>
      <p:pic>
        <p:nvPicPr>
          <p:cNvPr id="701" name="fallsfromabove" descr=""/>
          <p:cNvPicPr/>
          <p:nvPr/>
        </p:nvPicPr>
        <p:blipFill>
          <a:blip r:embed="rId7"/>
          <a:stretch/>
        </p:blipFill>
        <p:spPr>
          <a:xfrm>
            <a:off x="2666880" y="3200400"/>
            <a:ext cx="24289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5029200"/>
            <a:ext cx="784836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609480"/>
            <a:ext cx="723888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457200"/>
            <a:ext cx="762012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 (BT)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DNA" descr=""/>
          <p:cNvPicPr/>
          <p:nvPr/>
        </p:nvPicPr>
        <p:blipFill>
          <a:blip r:embed="rId4"/>
          <a:stretch/>
        </p:blipFill>
        <p:spPr>
          <a:xfrm>
            <a:off x="0" y="228600"/>
            <a:ext cx="121932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52480" y="6095880"/>
            <a:ext cx="586764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4 different BT dye maleimides synthes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09480" y="2133720"/>
          <a:ext cx="5029200" cy="23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133720"/>
                    <a:ext cx="50292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 rot="20046000">
            <a:off x="7086240" y="2057040"/>
            <a:ext cx="29196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876920" y="2666880"/>
          <a:ext cx="3209760" cy="133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2666880"/>
                    <a:ext cx="320976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 rot="5458800">
            <a:off x="5837040" y="2772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25909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04920"/>
            <a:ext cx="72388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2120" y="44197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difed with butadiene phosphoramidate during automated sy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743200" y="5638680"/>
          <a:ext cx="5715000" cy="63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5638680"/>
                    <a:ext cx="57150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394000" y="5326200"/>
          <a:ext cx="5958000" cy="138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94000" y="5326200"/>
                    <a:ext cx="595800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 rot="5458800">
            <a:off x="2865240" y="5058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429000" y="5562720"/>
          <a:ext cx="1447920" cy="27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5562720"/>
                    <a:ext cx="144792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0"/>
            <a:ext cx="8153280" cy="15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DNA" descr=""/>
          <p:cNvPicPr/>
          <p:nvPr/>
        </p:nvPicPr>
        <p:blipFill>
          <a:blip r:embed="rId5"/>
          <a:stretch/>
        </p:blipFill>
        <p:spPr>
          <a:xfrm>
            <a:off x="0" y="3808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489800">
            <a:off x="6854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32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5120" y="4572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Detection of Labelled Oli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58672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6019920"/>
            <a:ext cx="320040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cted in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uncan Graham</cp:lastModifiedBy>
  <dcterms:modified xsi:type="dcterms:W3CDTF">2003-06-18T09:51:24Z</dcterms:modified>
  <cp:revision>52</cp:revision>
  <dc:subject/>
  <dc:title>PowerPoint Presentation</dc:title>
</cp:coreProperties>
</file>