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25C6-8C37-400F-80E3-5BF75F0D7D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2C6C-0D5F-4DC5-977A-660F5F99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83AD-2308-4032-9835-AA44FE5B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70E8-1D47-4F68-827C-228A7578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58F9-DE18-41CE-AF75-C37CDFF2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A9B7-598D-4339-AE5E-3006FC1B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A633-5B6C-4367-9230-BED12CB2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75B4-B528-4822-BC0F-E33F69F3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67D6-7CBC-41BE-95F2-8A02F7E7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8467-D289-4FC3-AC08-7A87CC99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06B5-7FEB-4632-A1E4-C8949FC1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B5C0-A30A-4F30-8C69-9B2F998C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7ABA-DC03-416B-914F-D394FC85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4C80-F3C1-4AB9-A62B-F14C97F832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4017960" y="4343400"/>
            <a:ext cx="15987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066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Novel Method of Oligonucleotide Detection Using Diels Alder Cycloaddition and SE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276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ncan Graham, W. Ew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280"/>
            <a:ext cx="7391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 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rest" descr="The University of Strathclyde in Glasgow"/>
          <p:cNvPicPr/>
          <p:nvPr/>
        </p:nvPicPr>
        <p:blipFill>
          <a:blip r:embed="rId5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89800">
            <a:off x="4568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53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041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685800"/>
            <a:ext cx="3886200" cy="83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ein and DNA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8288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09880"/>
            <a:ext cx="731520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384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has to be rough, resistant to the assay conditions, stable with time and give reproducible SE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62120" y="304920"/>
          <a:ext cx="259056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920"/>
                    <a:ext cx="25905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405400">
            <a:off x="2171880" y="36957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743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mapping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9880" y="2514600"/>
            <a:ext cx="4616640" cy="3376440"/>
            <a:chOff x="3809880" y="2514600"/>
            <a:chExt cx="4616640" cy="3376440"/>
          </a:xfrm>
        </p:grpSpPr>
        <p:graphicFrame>
          <p:nvGraphicFramePr>
            <p:cNvPr id="183" name=""/>
            <p:cNvGraphicFramePr/>
            <p:nvPr/>
          </p:nvGraphicFramePr>
          <p:xfrm>
            <a:off x="3809880" y="251460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51460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772400" y="251460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251460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7" name="crest" descr="The University of Strathclyde in Glasgow"/>
          <p:cNvPicPr/>
          <p:nvPr/>
        </p:nvPicPr>
        <p:blipFill>
          <a:blip r:embed="rId8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62520" y="45720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80880"/>
            <a:ext cx="716256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 Microprobe Analysis (EMP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milar in design to SEM, but better for analysis of light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meca SX100 instr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3048120"/>
          <a:ext cx="4267440" cy="29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048120"/>
                    <a:ext cx="42674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19720" y="16002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 WDS and 1 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ectr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886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ary electron image of Ag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990720" y="1828800"/>
          <a:ext cx="3581280" cy="33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358128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800600" y="1828800"/>
          <a:ext cx="3405240" cy="33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1828800"/>
                    <a:ext cx="3405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2193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map, 15kV,10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map, 15kV, 10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6094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and oxygen maps per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no iron found (goo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990720" y="1295280"/>
          <a:ext cx="29718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990720" y="685800"/>
            <a:ext cx="41907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 of a damaged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895480"/>
          <a:ext cx="4343400" cy="33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95480"/>
                    <a:ext cx="43434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2704680" y="4838760"/>
            <a:ext cx="1295640" cy="609480"/>
          </a:xfrm>
          <a:custGeom>
            <a:avLst/>
            <a:gdLst>
              <a:gd name="textAreaLeft" fmla="*/ 432000 w 1295640"/>
              <a:gd name="textAreaRight" fmla="*/ 1109880 w 12956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1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685800"/>
            <a:ext cx="236196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 maleimide desig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4495680"/>
            <a:ext cx="3047760" cy="1244520"/>
            <a:chOff x="685800" y="4495680"/>
            <a:chExt cx="3047760" cy="1244520"/>
          </a:xfrm>
        </p:grpSpPr>
        <p:sp>
          <p:nvSpPr>
            <p:cNvPr id="60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4724280"/>
              <a:ext cx="28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3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762120"/>
            <a:ext cx="3429000" cy="99036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76520" y="1905120"/>
            <a:ext cx="380880" cy="838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981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pir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W. E.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3526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Duncan G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istry is largely experimental scie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1828800"/>
            <a:ext cx="1523880" cy="30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182880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Antonio Gron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Robert Mar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Andrew M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lum McH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chel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xis En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Inorganic and Raman Groups at th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26668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209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362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981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man sca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533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95280" y="2743200"/>
            <a:ext cx="3200400" cy="685800"/>
            <a:chOff x="1295280" y="2743200"/>
            <a:chExt cx="3200400" cy="685800"/>
          </a:xfrm>
        </p:grpSpPr>
        <p:sp>
          <p:nvSpPr>
            <p:cNvPr id="78" name=""/>
            <p:cNvSpPr/>
            <p:nvPr/>
          </p:nvSpPr>
          <p:spPr>
            <a:xfrm>
              <a:off x="3809880" y="2743200"/>
              <a:ext cx="685800" cy="685800"/>
            </a:xfrm>
            <a:prstGeom prst="flowChartConnector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289548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2819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15280" y="1600200"/>
            <a:ext cx="3846240" cy="1293480"/>
            <a:chOff x="4715280" y="1600200"/>
            <a:chExt cx="3846240" cy="1293480"/>
          </a:xfrm>
        </p:grpSpPr>
        <p:sp>
          <p:nvSpPr>
            <p:cNvPr id="82" name=""/>
            <p:cNvSpPr/>
            <p:nvPr/>
          </p:nvSpPr>
          <p:spPr>
            <a:xfrm rot="20011200">
              <a:off x="4724280" y="220932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1600200"/>
              <a:ext cx="254160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yleigh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39320" y="3506760"/>
            <a:ext cx="3685680" cy="1423080"/>
            <a:chOff x="4639320" y="3506760"/>
            <a:chExt cx="3685680" cy="1423080"/>
          </a:xfrm>
        </p:grpSpPr>
        <p:sp>
          <p:nvSpPr>
            <p:cNvPr id="85" name=""/>
            <p:cNvSpPr/>
            <p:nvPr/>
          </p:nvSpPr>
          <p:spPr>
            <a:xfrm flipV="1" rot="1588800">
              <a:off x="4648320" y="380880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4114800"/>
              <a:ext cx="23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man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371600" y="4876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brational spectros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ak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Enhanced Resonance Raman Spectrosc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120" y="1905120"/>
            <a:ext cx="762120" cy="1143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95840" y="1779120"/>
            <a:ext cx="466920" cy="1318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4114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rface enhanc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ecule adsorbed on a roughened  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 increase in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gnal sensitive to the orientation of  a  lig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76720"/>
            <a:ext cx="3657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onance Ra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ser frequency coincides or approaches the frequency of an electronic 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4572000"/>
            <a:ext cx="784872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9480"/>
            <a:ext cx="7543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848720" y="152280"/>
            <a:ext cx="111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143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7200"/>
            <a:ext cx="77724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*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3124080"/>
          <a:ext cx="502920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24080"/>
                    <a:ext cx="5029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20046000">
            <a:off x="7303680" y="3284640"/>
            <a:ext cx="29232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3962520"/>
          <a:ext cx="3210120" cy="133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962520"/>
                    <a:ext cx="32101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5458800">
            <a:off x="6141960" y="406836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86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762120"/>
            <a:ext cx="72388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r Duncan Graham</cp:lastModifiedBy>
  <dcterms:modified xsi:type="dcterms:W3CDTF">2002-09-05T12:12:52Z</dcterms:modified>
  <cp:revision>23</cp:revision>
  <dc:subject/>
  <dc:title>PowerPoint Presentation</dc:title>
</cp:coreProperties>
</file>