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0.xml.rels" ContentType="application/vnd.openxmlformats-package.relationships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8.wmf" ContentType="image/x-wmf"/>
  <Override PartName="/ppt/media/image13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wmf" ContentType="image/x-wmf"/>
  <Override PartName="/ppt/media/image15.wmf" ContentType="image/x-wmf"/>
  <Override PartName="/ppt/media/image2.png" ContentType="image/png"/>
  <Override PartName="/ppt/media/image4.png" ContentType="image/png"/>
  <Override PartName="/ppt/media/image11.png" ContentType="image/png"/>
  <Override PartName="/ppt/media/image6.wmf" ContentType="image/x-wmf"/>
  <Override PartName="/ppt/media/image7.wmf" ContentType="image/x-wmf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92194-AB97-4C5E-B7CA-853E2C88BA8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askdjsao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67DB7-7964-4975-A4FB-D90010815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E9FC0-F72F-43C7-A6EC-2DF841B38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72096-5C47-4CAC-A116-E15E8B68C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B039E-4FD4-4E18-8450-710E0BCA0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60FED-216F-417A-9AE0-AC1989203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27D41-85E3-4897-B1AD-55CCA5E57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E2C63-583A-4FF8-8414-7C2C76792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6EDDC-E21A-4C1D-9879-1021F5CCB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4FA7A-6F70-40A8-8437-F38C566B0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DD178-4281-4577-8341-56C5C3326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D0F22-68CD-4C77-804B-685C5377C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C9DCD-89BC-49F1-9FBE-92F307645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E9B92-ED02-41AC-8A43-E6670442353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8.wmf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2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13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6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8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7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7924680" y="220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9" name="crest" descr="The University of Strathclyde in Glasgow"/>
          <p:cNvPicPr/>
          <p:nvPr/>
        </p:nvPicPr>
        <p:blipFill>
          <a:blip r:embed="rId2"/>
          <a:stretch/>
        </p:blipFill>
        <p:spPr>
          <a:xfrm>
            <a:off x="4017960" y="4343400"/>
            <a:ext cx="1598760" cy="17524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685800" y="1066680"/>
            <a:ext cx="8001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A Novel Method of Oligonucleotide Detection Using Diels Alder Cycloaddition and SER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828800" y="327672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Ljiljana Fruk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Duncan Graham, W. Ewen Smi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1905120" y="2286000"/>
            <a:ext cx="447480" cy="380880"/>
          </a:xfrm>
          <a:prstGeom prst="flowChartConnector">
            <a:avLst/>
          </a:prstGeom>
          <a:solidFill>
            <a:srgbClr val="ffff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 rot="1815000">
            <a:off x="4038120" y="1447920"/>
            <a:ext cx="366840" cy="1218960"/>
          </a:xfrm>
          <a:custGeom>
            <a:avLst/>
            <a:gdLst/>
            <a:ahLst/>
            <a:rect l="l" t="t" r="r" b="b"/>
            <a:pathLst>
              <a:path w="180" h="1080">
                <a:moveTo>
                  <a:pt x="180" y="1080"/>
                </a:moveTo>
                <a:cubicBezTo>
                  <a:pt x="90" y="1020"/>
                  <a:pt x="0" y="960"/>
                  <a:pt x="0" y="900"/>
                </a:cubicBezTo>
                <a:cubicBezTo>
                  <a:pt x="0" y="840"/>
                  <a:pt x="180" y="780"/>
                  <a:pt x="180" y="720"/>
                </a:cubicBezTo>
                <a:cubicBezTo>
                  <a:pt x="180" y="660"/>
                  <a:pt x="0" y="600"/>
                  <a:pt x="0" y="540"/>
                </a:cubicBezTo>
                <a:cubicBezTo>
                  <a:pt x="0" y="480"/>
                  <a:pt x="180" y="420"/>
                  <a:pt x="180" y="360"/>
                </a:cubicBezTo>
                <a:cubicBezTo>
                  <a:pt x="180" y="300"/>
                  <a:pt x="0" y="240"/>
                  <a:pt x="0" y="180"/>
                </a:cubicBezTo>
                <a:cubicBezTo>
                  <a:pt x="0" y="120"/>
                  <a:pt x="150" y="30"/>
                  <a:pt x="180" y="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200400" y="2438280"/>
            <a:ext cx="563400" cy="2192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rot="12367200">
            <a:off x="6180840" y="1296360"/>
            <a:ext cx="295560" cy="1143000"/>
          </a:xfrm>
          <a:custGeom>
            <a:avLst/>
            <a:gdLst/>
            <a:ahLst/>
            <a:rect l="l" t="t" r="r" b="b"/>
            <a:pathLst>
              <a:path w="180" h="1080">
                <a:moveTo>
                  <a:pt x="180" y="1080"/>
                </a:moveTo>
                <a:cubicBezTo>
                  <a:pt x="90" y="1020"/>
                  <a:pt x="0" y="960"/>
                  <a:pt x="0" y="900"/>
                </a:cubicBezTo>
                <a:cubicBezTo>
                  <a:pt x="0" y="840"/>
                  <a:pt x="180" y="780"/>
                  <a:pt x="180" y="720"/>
                </a:cubicBezTo>
                <a:cubicBezTo>
                  <a:pt x="180" y="660"/>
                  <a:pt x="0" y="600"/>
                  <a:pt x="0" y="540"/>
                </a:cubicBezTo>
                <a:cubicBezTo>
                  <a:pt x="0" y="480"/>
                  <a:pt x="180" y="420"/>
                  <a:pt x="180" y="360"/>
                </a:cubicBezTo>
                <a:cubicBezTo>
                  <a:pt x="180" y="300"/>
                  <a:pt x="0" y="240"/>
                  <a:pt x="0" y="180"/>
                </a:cubicBezTo>
                <a:cubicBezTo>
                  <a:pt x="0" y="120"/>
                  <a:pt x="150" y="30"/>
                  <a:pt x="180" y="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38680" y="2286000"/>
            <a:ext cx="447840" cy="409680"/>
          </a:xfrm>
          <a:prstGeom prst="flowChartConnector">
            <a:avLst/>
          </a:prstGeom>
          <a:solidFill>
            <a:srgbClr val="8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590920" y="236232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343400" y="2438280"/>
            <a:ext cx="900000" cy="5040"/>
          </a:xfrm>
          <a:prstGeom prst="line">
            <a:avLst/>
          </a:prstGeom>
          <a:ln w="64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324480" y="3809880"/>
            <a:ext cx="2590920" cy="7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1 Oligo fura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2 Oligo cycloadduct</a:t>
            </a:r>
            <a:r>
              <a:rPr b="0" lang="en-GB" sz="5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33520" y="152280"/>
            <a:ext cx="7391160" cy="13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Diels Alder Cycloaddition of the Dye to Oligonucleoti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n phosphate buffer (pH = 5.5), 30% CH</a:t>
            </a:r>
            <a:r>
              <a:rPr b="0" lang="en-US" sz="2000" spc="-1" strike="noStrike" baseline="-30000">
                <a:solidFill>
                  <a:srgbClr val="ffff00"/>
                </a:solidFill>
                <a:latin typeface="Times New Roman"/>
                <a:ea typeface="Times New Roman"/>
              </a:rPr>
              <a:t>3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N, 40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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2743200" y="2895480"/>
          <a:ext cx="3971880" cy="36864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43200" y="2895480"/>
                    <a:ext cx="3971880" cy="36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"/>
          <p:cNvSpPr/>
          <p:nvPr/>
        </p:nvSpPr>
        <p:spPr>
          <a:xfrm>
            <a:off x="685800" y="31240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HPLC tr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rot="5335800">
            <a:off x="1294920" y="3809880"/>
            <a:ext cx="838080" cy="533160"/>
          </a:xfrm>
          <a:custGeom>
            <a:avLst/>
            <a:gdLst>
              <a:gd name="textAreaLeft" fmla="*/ 279360 w 838080"/>
              <a:gd name="textAreaRight" fmla="*/ 717840 w 838080"/>
              <a:gd name="textAreaTop" fmla="*/ 307080 h 533160"/>
              <a:gd name="textAreaBottom" fmla="*/ 45684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7" name="crest" descr="The University of Strathclyde in Glasgow"/>
          <p:cNvPicPr/>
          <p:nvPr/>
        </p:nvPicPr>
        <p:blipFill>
          <a:blip r:embed="rId5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 flipV="1">
            <a:off x="1219320" y="3809880"/>
            <a:ext cx="175248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489800">
            <a:off x="456840" y="762120"/>
            <a:ext cx="1295280" cy="685800"/>
          </a:xfrm>
          <a:prstGeom prst="lightningBol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3124080" y="3505320"/>
            <a:ext cx="1371600" cy="7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219320" y="3733920"/>
            <a:ext cx="1752480" cy="7596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371600" y="1828800"/>
            <a:ext cx="1371600" cy="1905120"/>
            <a:chOff x="1371600" y="1828800"/>
            <a:chExt cx="1371600" cy="1905120"/>
          </a:xfrm>
        </p:grpSpPr>
        <p:sp>
          <p:nvSpPr>
            <p:cNvPr id="153" name=""/>
            <p:cNvSpPr/>
            <p:nvPr/>
          </p:nvSpPr>
          <p:spPr>
            <a:xfrm>
              <a:off x="1371600" y="1828800"/>
              <a:ext cx="304920" cy="1523880"/>
            </a:xfrm>
            <a:custGeom>
              <a:avLst/>
              <a:gdLst/>
              <a:ahLst/>
              <a:rect l="l" t="t" r="r" b="b"/>
              <a:pathLst>
                <a:path w="180" h="1080">
                  <a:moveTo>
                    <a:pt x="180" y="1080"/>
                  </a:moveTo>
                  <a:cubicBezTo>
                    <a:pt x="90" y="1020"/>
                    <a:pt x="0" y="960"/>
                    <a:pt x="0" y="900"/>
                  </a:cubicBezTo>
                  <a:cubicBezTo>
                    <a:pt x="0" y="840"/>
                    <a:pt x="180" y="780"/>
                    <a:pt x="180" y="720"/>
                  </a:cubicBezTo>
                  <a:cubicBezTo>
                    <a:pt x="180" y="660"/>
                    <a:pt x="0" y="600"/>
                    <a:pt x="0" y="540"/>
                  </a:cubicBezTo>
                  <a:cubicBezTo>
                    <a:pt x="0" y="480"/>
                    <a:pt x="180" y="420"/>
                    <a:pt x="180" y="360"/>
                  </a:cubicBezTo>
                  <a:cubicBezTo>
                    <a:pt x="180" y="300"/>
                    <a:pt x="0" y="240"/>
                    <a:pt x="0" y="180"/>
                  </a:cubicBezTo>
                  <a:cubicBezTo>
                    <a:pt x="0" y="120"/>
                    <a:pt x="150" y="30"/>
                    <a:pt x="180" y="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286000" y="1828800"/>
              <a:ext cx="228600" cy="1523880"/>
            </a:xfrm>
            <a:custGeom>
              <a:avLst/>
              <a:gdLst/>
              <a:ahLst/>
              <a:rect l="l" t="t" r="r" b="b"/>
              <a:pathLst>
                <a:path w="180" h="1080">
                  <a:moveTo>
                    <a:pt x="180" y="1080"/>
                  </a:moveTo>
                  <a:cubicBezTo>
                    <a:pt x="90" y="1020"/>
                    <a:pt x="0" y="960"/>
                    <a:pt x="0" y="900"/>
                  </a:cubicBezTo>
                  <a:cubicBezTo>
                    <a:pt x="0" y="840"/>
                    <a:pt x="180" y="780"/>
                    <a:pt x="180" y="720"/>
                  </a:cubicBezTo>
                  <a:cubicBezTo>
                    <a:pt x="180" y="660"/>
                    <a:pt x="0" y="600"/>
                    <a:pt x="0" y="540"/>
                  </a:cubicBezTo>
                  <a:cubicBezTo>
                    <a:pt x="0" y="480"/>
                    <a:pt x="180" y="420"/>
                    <a:pt x="180" y="360"/>
                  </a:cubicBezTo>
                  <a:cubicBezTo>
                    <a:pt x="180" y="300"/>
                    <a:pt x="0" y="240"/>
                    <a:pt x="0" y="180"/>
                  </a:cubicBezTo>
                  <a:cubicBezTo>
                    <a:pt x="0" y="120"/>
                    <a:pt x="150" y="30"/>
                    <a:pt x="180" y="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447920" y="3352680"/>
              <a:ext cx="380880" cy="381240"/>
            </a:xfrm>
            <a:prstGeom prst="flowChartConnector">
              <a:avLst/>
            </a:prstGeom>
            <a:solidFill>
              <a:srgbClr val="808000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362320" y="3352680"/>
              <a:ext cx="380880" cy="381240"/>
            </a:xfrm>
            <a:prstGeom prst="flowChartConnector">
              <a:avLst/>
            </a:prstGeom>
            <a:solidFill>
              <a:srgbClr val="808000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1828800" y="4114800"/>
            <a:ext cx="380880" cy="533520"/>
          </a:xfrm>
          <a:prstGeom prst="downArrow">
            <a:avLst>
              <a:gd name="adj1" fmla="val 50000"/>
              <a:gd name="adj2" fmla="val 35019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295280" y="480060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g -PVA dis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9" name="crest" descr="The University of Strathclyde in Glasgow"/>
          <p:cNvPicPr/>
          <p:nvPr/>
        </p:nvPicPr>
        <p:blipFill>
          <a:blip r:embed="rId2"/>
          <a:stretch/>
        </p:blipFill>
        <p:spPr>
          <a:xfrm>
            <a:off x="7620120" y="304920"/>
            <a:ext cx="104112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0" name=""/>
          <p:cNvGraphicFramePr/>
          <p:nvPr/>
        </p:nvGraphicFramePr>
        <p:xfrm>
          <a:off x="4724280" y="1523880"/>
          <a:ext cx="4027680" cy="4191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3880"/>
                    <a:ext cx="4027680" cy="41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ERRS substrat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62120" y="1600200"/>
            <a:ext cx="52578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Mainly used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ilver collo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reproducibility in the short period of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ime (ageing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85800" y="3962520"/>
            <a:ext cx="71629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cold deposited silver fil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roughness lost with 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urface susceptible to da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5" name="crest" descr="The University of Strathclyde in Glasgow"/>
          <p:cNvPicPr/>
          <p:nvPr/>
        </p:nvPicPr>
        <p:blipFill>
          <a:blip r:embed="rId4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2438280" y="685800"/>
            <a:ext cx="3886200" cy="8380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rotein and DNA array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038480" y="1828800"/>
            <a:ext cx="457200" cy="1371600"/>
          </a:xfrm>
          <a:prstGeom prst="downArrow">
            <a:avLst>
              <a:gd name="adj1" fmla="val 50000"/>
              <a:gd name="adj2" fmla="val 75000"/>
            </a:avLst>
          </a:prstGeom>
          <a:solidFill>
            <a:srgbClr val="00cc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19320" y="3809880"/>
            <a:ext cx="7315200" cy="121932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143000" y="4038480"/>
            <a:ext cx="7674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urface has to be rough, resistant to the assay conditions, stable with time and give reproducible SER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0" name="crest" descr="The University of Strathclyde in Glasgow"/>
          <p:cNvPicPr/>
          <p:nvPr/>
        </p:nvPicPr>
        <p:blipFill>
          <a:blip r:embed="rId2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609480" y="609480"/>
            <a:ext cx="579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g-PVA dis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990720" y="1600200"/>
            <a:ext cx="7010280" cy="175248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622520" y="2430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371600" y="1981080"/>
            <a:ext cx="6248520" cy="15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g NO</a:t>
            </a:r>
            <a:r>
              <a:rPr b="0" lang="en-US" sz="2000" spc="-1" strike="noStrike" baseline="-30000">
                <a:solidFill>
                  <a:srgbClr val="ffff00"/>
                </a:solidFill>
                <a:latin typeface="Times New Roman"/>
                <a:ea typeface="Times New Roman"/>
              </a:rPr>
              <a:t>3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n polyvinylalcohol (PVA) solution (5% in H</a:t>
            </a:r>
            <a:r>
              <a:rPr b="0" lang="en-US" sz="2000" spc="-1" strike="noStrike" baseline="-30000">
                <a:solidFill>
                  <a:srgbClr val="ffff00"/>
                </a:solidFill>
                <a:latin typeface="Times New Roman"/>
                <a:ea typeface="Times New Roman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pin coated on the glass discs, dried and reduced with saturated FeSO</a:t>
            </a:r>
            <a:r>
              <a:rPr b="0" lang="en-US" sz="2000" spc="-1" strike="noStrike" baseline="-30000">
                <a:solidFill>
                  <a:srgbClr val="ffff00"/>
                </a:solidFill>
                <a:latin typeface="Times New Roman"/>
                <a:ea typeface="Times New Roman"/>
              </a:rPr>
              <a:t>4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solution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990720" y="4114800"/>
            <a:ext cx="7391160" cy="119124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ERRS maps done to check the reproducibility of the signal over the larger area of the substrate. BT maleimide dye adsorbed on the surf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6" name="crest" descr="The University of Strathclyde in Glasgow"/>
          <p:cNvPicPr/>
          <p:nvPr/>
        </p:nvPicPr>
        <p:blipFill>
          <a:blip r:embed="rId2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7" name=""/>
          <p:cNvGraphicFramePr/>
          <p:nvPr/>
        </p:nvGraphicFramePr>
        <p:xfrm>
          <a:off x="762120" y="304920"/>
          <a:ext cx="2590560" cy="2307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304920"/>
                    <a:ext cx="2590560" cy="23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9" name=""/>
          <p:cNvSpPr/>
          <p:nvPr/>
        </p:nvSpPr>
        <p:spPr>
          <a:xfrm rot="5405400">
            <a:off x="2171880" y="3695760"/>
            <a:ext cx="838080" cy="1371600"/>
          </a:xfrm>
          <a:custGeom>
            <a:avLst/>
            <a:gdLst>
              <a:gd name="textAreaLeft" fmla="*/ 279360 w 838080"/>
              <a:gd name="textAreaRight" fmla="*/ 717840 w 838080"/>
              <a:gd name="textAreaTop" fmla="*/ 789840 h 1371600"/>
              <a:gd name="textAreaBottom" fmla="*/ 117504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62120" y="2743200"/>
            <a:ext cx="2590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urface mapping 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209680" y="50292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3D ma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3809880" y="2514600"/>
            <a:ext cx="4616640" cy="3376440"/>
            <a:chOff x="3809880" y="2514600"/>
            <a:chExt cx="4616640" cy="3376440"/>
          </a:xfrm>
        </p:grpSpPr>
        <p:graphicFrame>
          <p:nvGraphicFramePr>
            <p:cNvPr id="183" name=""/>
            <p:cNvGraphicFramePr/>
            <p:nvPr/>
          </p:nvGraphicFramePr>
          <p:xfrm>
            <a:off x="3809880" y="2514600"/>
            <a:ext cx="3962520" cy="337644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84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3809880" y="2514600"/>
                      <a:ext cx="3962520" cy="3376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85" name=""/>
            <p:cNvGraphicFramePr/>
            <p:nvPr/>
          </p:nvGraphicFramePr>
          <p:xfrm>
            <a:off x="7772400" y="2514600"/>
            <a:ext cx="654120" cy="335268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186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7772400" y="2514600"/>
                      <a:ext cx="654120" cy="3352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187" name="crest" descr="The University of Strathclyde in Glasgow"/>
          <p:cNvPicPr/>
          <p:nvPr/>
        </p:nvPicPr>
        <p:blipFill>
          <a:blip r:embed="rId8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3962520" y="457200"/>
            <a:ext cx="31240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514 nm las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3 accum, 3 se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400x400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304920" y="380880"/>
            <a:ext cx="7162560" cy="261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Electron Microprobe Analysis (EMPA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similar in design to SEM, but better for analysis of light elem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Cameca SX100 instru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          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838080" y="3048120"/>
          <a:ext cx="4267440" cy="2957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38080" y="3048120"/>
                    <a:ext cx="4267440" cy="29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92" name="crest" descr="The University of Strathclyde in Glasgow"/>
          <p:cNvPicPr/>
          <p:nvPr/>
        </p:nvPicPr>
        <p:blipFill>
          <a:blip r:embed="rId4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4419720" y="1600200"/>
            <a:ext cx="38862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3 WDS and 1 ED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pectrome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91120" y="2133720"/>
            <a:ext cx="685800" cy="152280"/>
          </a:xfrm>
          <a:prstGeom prst="rightArrow">
            <a:avLst>
              <a:gd name="adj1" fmla="val 50000"/>
              <a:gd name="adj2" fmla="val 112589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410080" y="3886200"/>
            <a:ext cx="327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econdary electron image of Ag-PVA dis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6" name=""/>
          <p:cNvGraphicFramePr/>
          <p:nvPr/>
        </p:nvGraphicFramePr>
        <p:xfrm>
          <a:off x="990720" y="1828800"/>
          <a:ext cx="3581280" cy="3338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90720" y="1828800"/>
                    <a:ext cx="3581280" cy="333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8" name=""/>
          <p:cNvGraphicFramePr/>
          <p:nvPr/>
        </p:nvGraphicFramePr>
        <p:xfrm>
          <a:off x="4800600" y="1828800"/>
          <a:ext cx="3405240" cy="33526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800600" y="1828800"/>
                    <a:ext cx="340524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0" name=""/>
          <p:cNvSpPr/>
          <p:nvPr/>
        </p:nvSpPr>
        <p:spPr>
          <a:xfrm>
            <a:off x="1219320" y="55627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g map, 15kV,10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257800" y="563868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O map, 15kV, 10 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2" name="crest" descr="The University of Strathclyde in Glasgow"/>
          <p:cNvPicPr/>
          <p:nvPr/>
        </p:nvPicPr>
        <p:blipFill>
          <a:blip r:embed="rId6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914400" y="609480"/>
            <a:ext cx="51055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ilver and oxygen maps perform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- no iron found (good!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4" name=""/>
          <p:cNvGraphicFramePr/>
          <p:nvPr/>
        </p:nvGraphicFramePr>
        <p:xfrm>
          <a:off x="990720" y="1295280"/>
          <a:ext cx="2971800" cy="2971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90720" y="1295280"/>
                    <a:ext cx="297180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"/>
          <p:cNvSpPr/>
          <p:nvPr/>
        </p:nvSpPr>
        <p:spPr>
          <a:xfrm>
            <a:off x="990720" y="685800"/>
            <a:ext cx="4190760" cy="4597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ERRS map of a damaged dis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4343400" y="2895480"/>
          <a:ext cx="4343400" cy="3343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343400" y="2895480"/>
                    <a:ext cx="4343400" cy="334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9" name="crest" descr="The University of Strathclyde in Glasgow"/>
          <p:cNvPicPr/>
          <p:nvPr/>
        </p:nvPicPr>
        <p:blipFill>
          <a:blip r:embed="rId6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 rot="5400000">
            <a:off x="2704680" y="4838760"/>
            <a:ext cx="1295640" cy="609480"/>
          </a:xfrm>
          <a:custGeom>
            <a:avLst/>
            <a:gdLst>
              <a:gd name="textAreaLeft" fmla="*/ 432000 w 1295640"/>
              <a:gd name="textAreaRight" fmla="*/ 1109880 w 1295640"/>
              <a:gd name="textAreaTop" fmla="*/ 351000 h 609480"/>
              <a:gd name="textAreaBottom" fmla="*/ 52200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648320" y="175248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514 n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crest" descr="The University of Strathclyde in Glasgow"/>
          <p:cNvPicPr/>
          <p:nvPr/>
        </p:nvPicPr>
        <p:blipFill>
          <a:blip r:embed="rId2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533520" y="685800"/>
            <a:ext cx="2361960" cy="58140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onclusion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09480" y="2057400"/>
            <a:ext cx="8153640" cy="28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BT dye maleimide design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Novel SERRS active substrates characteris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Oligo successfully labelled with SERRS active dy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SERRS spectra of dye maleimide differs from spectra of oligo cycloadduct enabling the analysis of the oligo </a:t>
            </a:r>
            <a:r>
              <a:rPr b="0" i="1" lang="en-GB" sz="2400" spc="-1" strike="noStrike">
                <a:solidFill>
                  <a:srgbClr val="ffff00"/>
                </a:solidFill>
                <a:latin typeface="Times New Roman"/>
              </a:rPr>
              <a:t>in situ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and in the presence of the starting material without separatio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7924680" y="220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3" name="crest" descr="The University of Strathclyde in Glasgow"/>
          <p:cNvPicPr/>
          <p:nvPr/>
        </p:nvPicPr>
        <p:blipFill>
          <a:blip r:embed="rId2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990720" y="762120"/>
            <a:ext cx="59436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ost human genome er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identification of genetic disea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733920" y="1828800"/>
            <a:ext cx="228600" cy="609480"/>
          </a:xfrm>
          <a:prstGeom prst="downArrow">
            <a:avLst>
              <a:gd name="adj1" fmla="val 50000"/>
              <a:gd name="adj2" fmla="val 66654"/>
            </a:avLst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09480" y="243828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creening of large number of DNA sequences – DNA arrays (fluorescence used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9880" y="3200400"/>
            <a:ext cx="228600" cy="762120"/>
          </a:xfrm>
          <a:prstGeom prst="downArrow">
            <a:avLst>
              <a:gd name="adj1" fmla="val 50000"/>
              <a:gd name="adj2" fmla="val 83346"/>
            </a:avLst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124080" y="403848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roble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685800" y="4495680"/>
            <a:ext cx="3047760" cy="1244520"/>
            <a:chOff x="685800" y="4495680"/>
            <a:chExt cx="3047760" cy="1244520"/>
          </a:xfrm>
        </p:grpSpPr>
        <p:sp>
          <p:nvSpPr>
            <p:cNvPr id="60" name=""/>
            <p:cNvSpPr/>
            <p:nvPr/>
          </p:nvSpPr>
          <p:spPr>
            <a:xfrm>
              <a:off x="3327480" y="4495680"/>
              <a:ext cx="406080" cy="457200"/>
            </a:xfrm>
            <a:custGeom>
              <a:avLst/>
              <a:gdLst>
                <a:gd name="textAreaLeft" fmla="*/ 54360 w 406080"/>
                <a:gd name="textAreaRight" fmla="*/ 351720 w 406080"/>
                <a:gd name="textAreaTop" fmla="*/ 79920 h 457200"/>
                <a:gd name="textAreaBottom" fmla="*/ 33156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5800" y="4724280"/>
              <a:ext cx="284472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Complex chemistry,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biological activity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4267080" y="4495680"/>
            <a:ext cx="4190760" cy="1496160"/>
            <a:chOff x="4267080" y="4495680"/>
            <a:chExt cx="4190760" cy="1496160"/>
          </a:xfrm>
        </p:grpSpPr>
        <p:sp>
          <p:nvSpPr>
            <p:cNvPr id="63" name=""/>
            <p:cNvSpPr/>
            <p:nvPr/>
          </p:nvSpPr>
          <p:spPr>
            <a:xfrm>
              <a:off x="4267080" y="4495680"/>
              <a:ext cx="304560" cy="457200"/>
            </a:xfrm>
            <a:custGeom>
              <a:avLst/>
              <a:gdLst>
                <a:gd name="textAreaLeft" fmla="*/ 40680 w 304560"/>
                <a:gd name="textAreaRight" fmla="*/ 263880 w 304560"/>
                <a:gd name="textAreaTop" fmla="*/ 79920 h 457200"/>
                <a:gd name="textAreaBottom" fmla="*/ 33156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647960" y="4800600"/>
              <a:ext cx="38098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00"/>
                  </a:solidFill>
                  <a:latin typeface="Times New Roman"/>
                </a:rPr>
                <a:t>Separation of a label and labelled oligo prior to detec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crest" descr="The University of Strathclyde in Glasgow"/>
          <p:cNvPicPr/>
          <p:nvPr/>
        </p:nvPicPr>
        <p:blipFill>
          <a:blip r:embed="rId2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685800" y="762120"/>
            <a:ext cx="3429000" cy="990360"/>
          </a:xfrm>
          <a:prstGeom prst="foldedCorner">
            <a:avLst>
              <a:gd name="adj" fmla="val 12500"/>
            </a:avLst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838080" y="990720"/>
            <a:ext cx="426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cknowledgm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H="1">
            <a:off x="1676520" y="1905120"/>
            <a:ext cx="380880" cy="838080"/>
          </a:xfrm>
          <a:prstGeom prst="line">
            <a:avLst/>
          </a:prstGeom>
          <a:ln w="190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133720" y="1981080"/>
            <a:ext cx="1523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Inspiration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09480" y="28954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rof. W. E. Smi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85800" y="3352680"/>
            <a:ext cx="44197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r. Duncan Graha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Chemistry is largely experimental science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886200" y="1828800"/>
            <a:ext cx="1523880" cy="304920"/>
          </a:xfrm>
          <a:prstGeom prst="line">
            <a:avLst/>
          </a:prstGeom>
          <a:ln w="190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791320" y="1828800"/>
            <a:ext cx="3124080" cy="45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r. Antonio Grond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r. Robert Mart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rof. Andrew Mil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Callum McHug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Rachel Brow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lexis Enrigh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Both Inorganic and Raman Groups at the Univers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838080" y="19051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Ide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267080" y="14479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Fu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038480" y="19051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Fac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1219320" y="2438280"/>
            <a:ext cx="68580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olutio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urface Enhanced Resonance Raman Scattering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6" name="crest" descr="The University of Strathclyde in Glasgow"/>
          <p:cNvPicPr/>
          <p:nvPr/>
        </p:nvPicPr>
        <p:blipFill>
          <a:blip r:embed="rId2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2590920" y="2666880"/>
            <a:ext cx="761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066680" y="26668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838080" y="2209680"/>
            <a:ext cx="2210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962520" y="2209680"/>
            <a:ext cx="182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676520" y="2362320"/>
            <a:ext cx="761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752480" y="19810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1600" y="68580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Raman scatter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924680" y="220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620120" y="533520"/>
            <a:ext cx="99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6" name="crest" descr="The University of Strathclyde in Glasgow"/>
          <p:cNvPicPr/>
          <p:nvPr/>
        </p:nvPicPr>
        <p:blipFill>
          <a:blip r:embed="rId2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  <p:grpSp>
        <p:nvGrpSpPr>
          <p:cNvPr id="77" name=""/>
          <p:cNvGrpSpPr/>
          <p:nvPr/>
        </p:nvGrpSpPr>
        <p:grpSpPr>
          <a:xfrm>
            <a:off x="1295280" y="2743200"/>
            <a:ext cx="3200400" cy="685800"/>
            <a:chOff x="1295280" y="2743200"/>
            <a:chExt cx="3200400" cy="685800"/>
          </a:xfrm>
        </p:grpSpPr>
        <p:sp>
          <p:nvSpPr>
            <p:cNvPr id="78" name=""/>
            <p:cNvSpPr/>
            <p:nvPr/>
          </p:nvSpPr>
          <p:spPr>
            <a:xfrm>
              <a:off x="3809880" y="2743200"/>
              <a:ext cx="685800" cy="685800"/>
            </a:xfrm>
            <a:prstGeom prst="flowChartConnector">
              <a:avLst/>
            </a:prstGeom>
            <a:solidFill>
              <a:srgbClr val="33cc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057400" y="2895480"/>
              <a:ext cx="1447920" cy="381240"/>
            </a:xfrm>
            <a:prstGeom prst="rightArrow">
              <a:avLst>
                <a:gd name="adj1" fmla="val 50000"/>
                <a:gd name="adj2" fmla="val 94948"/>
              </a:avLst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95280" y="2819520"/>
              <a:ext cx="685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h</a:t>
              </a:r>
              <a:r>
                <a:rPr b="0" lang="en-US" sz="24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</a:t>
              </a:r>
              <a:r>
                <a:rPr b="0" lang="en-US" sz="2400" spc="-1" strike="noStrike" baseline="-25000">
                  <a:solidFill>
                    <a:srgbClr val="ffff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4715280" y="1600200"/>
            <a:ext cx="3846240" cy="1293480"/>
            <a:chOff x="4715280" y="1600200"/>
            <a:chExt cx="3846240" cy="1293480"/>
          </a:xfrm>
        </p:grpSpPr>
        <p:sp>
          <p:nvSpPr>
            <p:cNvPr id="82" name=""/>
            <p:cNvSpPr/>
            <p:nvPr/>
          </p:nvSpPr>
          <p:spPr>
            <a:xfrm rot="20011200">
              <a:off x="4724280" y="2209320"/>
              <a:ext cx="1447920" cy="381240"/>
            </a:xfrm>
            <a:prstGeom prst="rightArrow">
              <a:avLst>
                <a:gd name="adj1" fmla="val 50000"/>
                <a:gd name="adj2" fmla="val 94948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019920" y="1600200"/>
              <a:ext cx="2541600" cy="81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h</a:t>
              </a:r>
              <a:r>
                <a:rPr b="0" lang="en-US" sz="24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</a:t>
              </a:r>
              <a:r>
                <a:rPr b="0" lang="en-US" sz="2400" spc="-1" strike="noStrike" baseline="-25000">
                  <a:solidFill>
                    <a:srgbClr val="ffff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Times New Roman"/>
                </a:rPr>
                <a:t>Rayleigh scattering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4639320" y="3506760"/>
            <a:ext cx="3685680" cy="1423080"/>
            <a:chOff x="4639320" y="3506760"/>
            <a:chExt cx="3685680" cy="1423080"/>
          </a:xfrm>
        </p:grpSpPr>
        <p:sp>
          <p:nvSpPr>
            <p:cNvPr id="85" name=""/>
            <p:cNvSpPr/>
            <p:nvPr/>
          </p:nvSpPr>
          <p:spPr>
            <a:xfrm flipV="1" rot="1588800">
              <a:off x="4648320" y="3808800"/>
              <a:ext cx="1447920" cy="381240"/>
            </a:xfrm>
            <a:prstGeom prst="rightArrow">
              <a:avLst>
                <a:gd name="adj1" fmla="val 50000"/>
                <a:gd name="adj2" fmla="val 94948"/>
              </a:avLst>
            </a:pr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019920" y="4114800"/>
              <a:ext cx="2305080" cy="81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h</a:t>
              </a:r>
              <a:r>
                <a:rPr b="0" lang="en-US" sz="24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</a:t>
              </a:r>
              <a:r>
                <a:rPr b="0" lang="en-US" sz="2400" spc="-1" strike="noStrike" baseline="-25000">
                  <a:solidFill>
                    <a:srgbClr val="ffff00"/>
                  </a:solidFill>
                  <a:latin typeface="Times New Roman"/>
                </a:rPr>
                <a:t>o </a:t>
              </a:r>
              <a:r>
                <a:rPr b="0" lang="en-US" sz="24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</a:t>
              </a: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</a:t>
              </a:r>
              <a:r>
                <a:rPr b="0" lang="en-US" sz="2400" spc="-1" strike="noStrike" baseline="-25000">
                  <a:solidFill>
                    <a:srgbClr val="ffff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Times New Roman"/>
                </a:rPr>
                <a:t>Raman scattering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7" name=""/>
          <p:cNvSpPr/>
          <p:nvPr/>
        </p:nvSpPr>
        <p:spPr>
          <a:xfrm>
            <a:off x="1371600" y="4876920"/>
            <a:ext cx="4572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Vibrational spectroscop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Weak proces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urface Enhanced Resonance Raman Spectroscop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1752120" y="1905120"/>
            <a:ext cx="762120" cy="1143000"/>
          </a:xfrm>
          <a:prstGeom prst="line">
            <a:avLst/>
          </a:prstGeom>
          <a:ln w="190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595840" y="1779120"/>
            <a:ext cx="466920" cy="131868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3276720"/>
            <a:ext cx="4114800" cy="29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Surface enhancement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molecule adsorbed on a roughened   surf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large increase in sig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ignal sensitive to the orientation of  a  liga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3276720"/>
            <a:ext cx="3657600" cy="18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Resonance Rama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laser frequency coincides or approaches the frequency of an electronic transi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crest" descr="The University of Strathclyde in Glasgow"/>
          <p:cNvPicPr/>
          <p:nvPr/>
        </p:nvPicPr>
        <p:blipFill>
          <a:blip r:embed="rId6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457200" y="4572000"/>
            <a:ext cx="7848720" cy="1191240"/>
          </a:xfrm>
          <a:prstGeom prst="rect">
            <a:avLst/>
          </a:prstGeom>
          <a:solidFill>
            <a:srgbClr val="8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iologically important molecules including DNA are not SERRS active and have to be labelled with SERRS active species prior to detectio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80880" y="609480"/>
            <a:ext cx="7543800" cy="422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urface Enhanced Resonance Raman Scatter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quires adsorption of the species on the metal surf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ctive species have chromophores that match the laser excitation frequency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(visible laser usually used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luorescence is quench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etection limits lowered compared to other techniqu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6" name="crest" descr="The University of Strathclyde in Glasgow"/>
          <p:cNvPicPr/>
          <p:nvPr/>
        </p:nvPicPr>
        <p:blipFill>
          <a:blip r:embed="rId2"/>
          <a:stretch/>
        </p:blipFill>
        <p:spPr>
          <a:xfrm>
            <a:off x="7848720" y="152280"/>
            <a:ext cx="111096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609480" y="1143000"/>
            <a:ext cx="678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NA has to be labelled with SERRS active spec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752480" y="1676520"/>
            <a:ext cx="381240" cy="609480"/>
          </a:xfrm>
          <a:custGeom>
            <a:avLst/>
            <a:gdLst>
              <a:gd name="textAreaLeft" fmla="*/ 51120 w 381240"/>
              <a:gd name="textAreaRight" fmla="*/ 330120 w 381240"/>
              <a:gd name="textAreaTop" fmla="*/ 106560 h 609480"/>
              <a:gd name="textAreaBottom" fmla="*/ 44208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257800" y="1600200"/>
            <a:ext cx="380880" cy="685800"/>
          </a:xfrm>
          <a:custGeom>
            <a:avLst/>
            <a:gdLst>
              <a:gd name="textAreaLeft" fmla="*/ 50760 w 380880"/>
              <a:gd name="textAreaRight" fmla="*/ 330120 w 38088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057400" y="243828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iels Alder cycloaddi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5053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die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rot="5412000">
            <a:off x="3619440" y="2781360"/>
            <a:ext cx="534960" cy="1982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3429000"/>
            <a:ext cx="2286000" cy="685800"/>
          </a:xfrm>
          <a:prstGeom prst="can">
            <a:avLst>
              <a:gd name="adj" fmla="val 25000"/>
            </a:avLst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cycloadduc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124080" y="3505320"/>
            <a:ext cx="1752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Dienoph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514600" y="3581280"/>
            <a:ext cx="414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33520" y="4191120"/>
            <a:ext cx="236196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Not SERRS active (oligo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895480" y="4191120"/>
            <a:ext cx="228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SERRS active (benzotriazole dy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943600" y="434340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SERRS active olig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029200" y="3809880"/>
            <a:ext cx="8380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0" name="crest" descr="The University of Strathclyde in Glasgow"/>
          <p:cNvPicPr/>
          <p:nvPr/>
        </p:nvPicPr>
        <p:blipFill>
          <a:blip r:embed="rId2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470400" y="2743200"/>
            <a:ext cx="64800" cy="1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9720" bIns="9720" anchor="t">
            <a:spAutoFit/>
          </a:bodyPr>
          <a:p>
            <a:pPr>
              <a:spcBef>
                <a:spcPts val="150"/>
              </a:spcBef>
              <a:buClr>
                <a:srgbClr val="006600"/>
              </a:buClr>
              <a:buFont typeface="Times New Roman"/>
              <a:buChar char="•"/>
              <a:tabLst>
                <a:tab algn="l" pos="192240"/>
                <a:tab algn="l" pos="384120"/>
                <a:tab algn="l" pos="576360"/>
                <a:tab algn="l" pos="768240"/>
                <a:tab algn="l" pos="960480"/>
                <a:tab algn="l" pos="1152360"/>
                <a:tab algn="l" pos="1344600"/>
                <a:tab algn="l" pos="1536840"/>
                <a:tab algn="l" pos="1728720"/>
                <a:tab algn="l" pos="1920960"/>
                <a:tab algn="l" pos="2112840"/>
                <a:tab algn="l" pos="2305080"/>
                <a:tab algn="l" pos="2496960"/>
                <a:tab algn="l" pos="2689200"/>
                <a:tab algn="l" pos="2881440"/>
                <a:tab algn="l" pos="3073320"/>
                <a:tab algn="l" pos="3265560"/>
                <a:tab algn="l" pos="3457440"/>
                <a:tab algn="l" pos="3649680"/>
                <a:tab algn="l" pos="38419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685800" y="3809880"/>
          <a:ext cx="8229600" cy="2124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3809880"/>
                    <a:ext cx="8229600" cy="212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5486400" y="42670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,</a:t>
            </a: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 DC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343400" y="434340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1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4876920"/>
            <a:ext cx="2361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2. Co naphthenate, Ac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09480" y="457200"/>
            <a:ext cx="7772400" cy="268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SERRS active dienophile*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ists of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)  the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ccff99"/>
                </a:solidFill>
                <a:latin typeface="Times New Roman"/>
                <a:ea typeface="Times New Roman"/>
              </a:rPr>
              <a:t>benzotriazole group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 surface attachment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) the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</a:t>
            </a:r>
            <a:r>
              <a:rPr b="0" lang="en-GB" sz="2400" spc="-1" strike="noStrike">
                <a:solidFill>
                  <a:srgbClr val="ccff99"/>
                </a:solidFill>
                <a:latin typeface="Times New Roman"/>
                <a:ea typeface="Times New Roman"/>
              </a:rPr>
              <a:t>chromophore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– azo grou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) the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ccff99"/>
                </a:solidFill>
                <a:latin typeface="Times New Roman"/>
                <a:ea typeface="Times New Roman"/>
              </a:rPr>
              <a:t>maleimide group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undergo  Diels Alder reaction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8" name="crest" descr="The University of Strathclyde in Glasgow"/>
          <p:cNvPicPr/>
          <p:nvPr/>
        </p:nvPicPr>
        <p:blipFill>
          <a:blip r:embed="rId4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762120" y="6400800"/>
            <a:ext cx="4190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33520" y="6095880"/>
            <a:ext cx="7696080" cy="52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*Lj. Fruk, A. Grondin, D. Graham, E. W. Smith: A New Approach to Oligonucleotide Labelling Using Diels Alder  Cycloadditons and SERRS, Chemn. Comm.,2002, 18,2100-210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1" name=""/>
          <p:cNvGraphicFramePr/>
          <p:nvPr/>
        </p:nvGraphicFramePr>
        <p:xfrm>
          <a:off x="609480" y="3124080"/>
          <a:ext cx="5029200" cy="2381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3124080"/>
                    <a:ext cx="5029200" cy="238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 rot="20046000">
            <a:off x="7303680" y="3284640"/>
            <a:ext cx="292320" cy="826920"/>
          </a:xfrm>
          <a:custGeom>
            <a:avLst/>
            <a:gdLst/>
            <a:ahLst/>
            <a:rect l="l" t="t" r="r" b="b"/>
            <a:pathLst>
              <a:path w="180" h="1080">
                <a:moveTo>
                  <a:pt x="180" y="1080"/>
                </a:moveTo>
                <a:cubicBezTo>
                  <a:pt x="90" y="1020"/>
                  <a:pt x="0" y="960"/>
                  <a:pt x="0" y="900"/>
                </a:cubicBezTo>
                <a:cubicBezTo>
                  <a:pt x="0" y="840"/>
                  <a:pt x="180" y="780"/>
                  <a:pt x="180" y="720"/>
                </a:cubicBezTo>
                <a:cubicBezTo>
                  <a:pt x="180" y="660"/>
                  <a:pt x="0" y="600"/>
                  <a:pt x="0" y="540"/>
                </a:cubicBezTo>
                <a:cubicBezTo>
                  <a:pt x="0" y="480"/>
                  <a:pt x="180" y="420"/>
                  <a:pt x="180" y="360"/>
                </a:cubicBezTo>
                <a:cubicBezTo>
                  <a:pt x="180" y="300"/>
                  <a:pt x="0" y="240"/>
                  <a:pt x="0" y="180"/>
                </a:cubicBezTo>
                <a:cubicBezTo>
                  <a:pt x="0" y="120"/>
                  <a:pt x="150" y="30"/>
                  <a:pt x="180" y="0"/>
                </a:cubicBez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5181480" y="3962520"/>
          <a:ext cx="3210120" cy="1334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181480" y="3962520"/>
                    <a:ext cx="3210120" cy="133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"/>
          <p:cNvSpPr/>
          <p:nvPr/>
        </p:nvSpPr>
        <p:spPr>
          <a:xfrm>
            <a:off x="1143000" y="4273560"/>
            <a:ext cx="1066680" cy="1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ffffff"/>
                </a:solidFill>
                <a:latin typeface="Times New Roman"/>
              </a:rPr>
              <a:t>DCM</a:t>
            </a:r>
            <a:endParaRPr b="0" lang="en-US" sz="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 rot="5458800">
            <a:off x="6141960" y="4068360"/>
            <a:ext cx="108000" cy="1266840"/>
          </a:xfrm>
          <a:custGeom>
            <a:avLst/>
            <a:gdLst/>
            <a:ahLst/>
            <a:rect l="l" t="t" r="r" b="b"/>
            <a:pathLst>
              <a:path w="180" h="1080">
                <a:moveTo>
                  <a:pt x="180" y="1080"/>
                </a:moveTo>
                <a:cubicBezTo>
                  <a:pt x="90" y="1020"/>
                  <a:pt x="0" y="960"/>
                  <a:pt x="0" y="900"/>
                </a:cubicBezTo>
                <a:cubicBezTo>
                  <a:pt x="0" y="840"/>
                  <a:pt x="180" y="780"/>
                  <a:pt x="180" y="720"/>
                </a:cubicBezTo>
                <a:cubicBezTo>
                  <a:pt x="180" y="660"/>
                  <a:pt x="0" y="600"/>
                  <a:pt x="0" y="540"/>
                </a:cubicBezTo>
                <a:cubicBezTo>
                  <a:pt x="0" y="480"/>
                  <a:pt x="180" y="420"/>
                  <a:pt x="180" y="360"/>
                </a:cubicBezTo>
                <a:cubicBezTo>
                  <a:pt x="180" y="300"/>
                  <a:pt x="0" y="240"/>
                  <a:pt x="0" y="180"/>
                </a:cubicBezTo>
                <a:cubicBezTo>
                  <a:pt x="0" y="120"/>
                  <a:pt x="150" y="30"/>
                  <a:pt x="180" y="0"/>
                </a:cubicBez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828800" y="4265640"/>
            <a:ext cx="7603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ffffff"/>
                </a:solidFill>
                <a:latin typeface="Times New Roman"/>
              </a:rPr>
              <a:t>2.</a:t>
            </a: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257800" y="388620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CDI, DMF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666880" y="4186080"/>
            <a:ext cx="5040" cy="3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57200" y="762120"/>
            <a:ext cx="7238880" cy="225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Oligonucleotide die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2 base synthetic oligo used - 5’TCTCAACTCG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dified with furan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vi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amino lin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2" name="crest" descr="The University of Strathclyde in Glasgow"/>
          <p:cNvPicPr/>
          <p:nvPr/>
        </p:nvPicPr>
        <p:blipFill>
          <a:blip r:embed="rId6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533520" y="6095880"/>
            <a:ext cx="7696080" cy="52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Lj. Fruk, A. Grondin, D. Graham, E. W. Smith: A New Approach to Oligonucleotide Labelling Using Diels Alder  Cycloadditons and SERRS, Chemn. Comm.,2002, 18,2100-210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4T18:49:49Z</dcterms:created>
  <dc:creator>Dr Duncan Graham</dc:creator>
  <dc:description/>
  <dc:language>en-US</dc:language>
  <cp:lastModifiedBy>Dr Duncan Graham</cp:lastModifiedBy>
  <dcterms:modified xsi:type="dcterms:W3CDTF">2002-09-05T12:12:52Z</dcterms:modified>
  <cp:revision>23</cp:revision>
  <dc:subject/>
  <dc:title>PowerPoint Presentation</dc:title>
</cp:coreProperties>
</file>