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2.png" ContentType="image/png"/>
  <Override PartName="/ppt/media/image4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81F0-A049-40A4-9B80-259C192DCD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09F4-9CF7-473A-AF28-35E55DFD2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16D1-7BF6-454D-A4F4-AD79B4BD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47B8-CD9D-4096-BF78-BB923DC62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0946-910F-4452-ADC1-785700871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EA51-32A1-4674-9F9E-46DC0B65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E8CC-DFFF-4EA6-94F6-3C25A337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E9C5-20EC-462C-8E32-06E9AF9D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1394-3BF1-42A1-8AF6-D3EE0173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1563-8CD1-494A-B990-DD13AA51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7FA8-2FC1-46BC-998C-036C318F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EA24-B3FA-492B-A2E8-1BB13678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6F83-A185-41DA-9F35-139E1BBB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3B94-8A69-4455-BE27-3C2F411674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8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4017960" y="4343400"/>
            <a:ext cx="1598760" cy="1752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" y="10666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 Novel Method of Oligonucleotide Detection Using Diels Alder Cycloaddition and SER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3276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uncan Graham, W. Ew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52280"/>
            <a:ext cx="739116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 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crest" descr="The University of Strathclyde in Glasgow"/>
          <p:cNvPicPr/>
          <p:nvPr/>
        </p:nvPicPr>
        <p:blipFill>
          <a:blip r:embed="rId5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489800">
            <a:off x="4568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53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0411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438280" y="685800"/>
            <a:ext cx="3886200" cy="838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tein and DNA arra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182880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809880"/>
            <a:ext cx="7315200" cy="12193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403848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has to be rough, resistant to the assay conditions, stable with time and give reproducible SER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6094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762120" y="304920"/>
          <a:ext cx="259056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04920"/>
                    <a:ext cx="259056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 rot="5405400">
            <a:off x="2171880" y="36957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7432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mapping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0968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809880" y="2514600"/>
            <a:ext cx="4616640" cy="3376440"/>
            <a:chOff x="3809880" y="2514600"/>
            <a:chExt cx="4616640" cy="3376440"/>
          </a:xfrm>
        </p:grpSpPr>
        <p:graphicFrame>
          <p:nvGraphicFramePr>
            <p:cNvPr id="183" name=""/>
            <p:cNvGraphicFramePr/>
            <p:nvPr/>
          </p:nvGraphicFramePr>
          <p:xfrm>
            <a:off x="3809880" y="251460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251460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7772400" y="251460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251460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87" name="crest" descr="The University of Strathclyde in Glasgow"/>
          <p:cNvPicPr/>
          <p:nvPr/>
        </p:nvPicPr>
        <p:blipFill>
          <a:blip r:embed="rId8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962520" y="457200"/>
            <a:ext cx="3124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04920" y="380880"/>
            <a:ext cx="716256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lectron Microprobe Analysis (EMP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milar in design to SEM, but better for analysis of light el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meca SX100 instru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838080" y="3048120"/>
          <a:ext cx="4267440" cy="295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3048120"/>
                    <a:ext cx="426744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2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419720" y="1600200"/>
            <a:ext cx="3886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 WDS and 1 E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pectrome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91120" y="21337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0080" y="3886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condary electron image of Ag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990720" y="1828800"/>
          <a:ext cx="3581280" cy="333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828800"/>
                    <a:ext cx="3581280" cy="33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800600" y="1828800"/>
          <a:ext cx="3405240" cy="335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1828800"/>
                    <a:ext cx="340524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1219320" y="5562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map, 15kV,10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56386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 map, 15kV, 10 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914400" y="609480"/>
            <a:ext cx="5105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and oxygen maps perform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 no iron found (good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990720" y="1295280"/>
          <a:ext cx="297180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295280"/>
                    <a:ext cx="2971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990720" y="685800"/>
            <a:ext cx="419076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 of a damaged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343400" y="2895480"/>
          <a:ext cx="4343400" cy="334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43400" y="2895480"/>
                    <a:ext cx="434340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rot="5400000">
            <a:off x="2704680" y="4838760"/>
            <a:ext cx="1295640" cy="609480"/>
          </a:xfrm>
          <a:custGeom>
            <a:avLst/>
            <a:gdLst>
              <a:gd name="textAreaLeft" fmla="*/ 432000 w 1295640"/>
              <a:gd name="textAreaRight" fmla="*/ 1109880 w 12956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48320" y="17524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514 n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33520" y="685800"/>
            <a:ext cx="236196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2057400"/>
            <a:ext cx="81536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 maleimide desig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85800" y="4495680"/>
            <a:ext cx="3047760" cy="1244520"/>
            <a:chOff x="685800" y="4495680"/>
            <a:chExt cx="3047760" cy="1244520"/>
          </a:xfrm>
        </p:grpSpPr>
        <p:sp>
          <p:nvSpPr>
            <p:cNvPr id="60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5800" y="4724280"/>
              <a:ext cx="284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3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85800" y="762120"/>
            <a:ext cx="3429000" cy="990360"/>
          </a:xfrm>
          <a:prstGeom prst="foldedCorner">
            <a:avLst>
              <a:gd name="adj" fmla="val 12500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9907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knowledg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676520" y="1905120"/>
            <a:ext cx="380880" cy="8380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19810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spiratio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2895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W. E.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3352680"/>
            <a:ext cx="4419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Duncan Grah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hemistry is largely experimental scienc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1828800"/>
            <a:ext cx="1523880" cy="30492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1320" y="1828800"/>
            <a:ext cx="31240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Antonio Grond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Robert Mart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Andrew Mi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llum McH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achel Br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lexis Enr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oth Inorganic and Raman Groups at the Univer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8080" y="1905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1447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384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90920" y="266688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6668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220968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2209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23623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1981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685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aman scat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0120" y="5335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1295280" y="2743200"/>
            <a:ext cx="3200400" cy="685800"/>
            <a:chOff x="1295280" y="2743200"/>
            <a:chExt cx="3200400" cy="685800"/>
          </a:xfrm>
        </p:grpSpPr>
        <p:sp>
          <p:nvSpPr>
            <p:cNvPr id="78" name=""/>
            <p:cNvSpPr/>
            <p:nvPr/>
          </p:nvSpPr>
          <p:spPr>
            <a:xfrm>
              <a:off x="3809880" y="2743200"/>
              <a:ext cx="685800" cy="685800"/>
            </a:xfrm>
            <a:prstGeom prst="flowChartConnector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057400" y="289548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95280" y="2819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715280" y="1600200"/>
            <a:ext cx="3846240" cy="1293480"/>
            <a:chOff x="4715280" y="1600200"/>
            <a:chExt cx="3846240" cy="1293480"/>
          </a:xfrm>
        </p:grpSpPr>
        <p:sp>
          <p:nvSpPr>
            <p:cNvPr id="82" name=""/>
            <p:cNvSpPr/>
            <p:nvPr/>
          </p:nvSpPr>
          <p:spPr>
            <a:xfrm rot="20011200">
              <a:off x="4724280" y="220932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19920" y="1600200"/>
              <a:ext cx="254160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yleigh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639320" y="3506760"/>
            <a:ext cx="3685680" cy="1423080"/>
            <a:chOff x="4639320" y="3506760"/>
            <a:chExt cx="3685680" cy="1423080"/>
          </a:xfrm>
        </p:grpSpPr>
        <p:sp>
          <p:nvSpPr>
            <p:cNvPr id="85" name=""/>
            <p:cNvSpPr/>
            <p:nvPr/>
          </p:nvSpPr>
          <p:spPr>
            <a:xfrm flipV="1" rot="1588800">
              <a:off x="4648320" y="380880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19920" y="4114800"/>
              <a:ext cx="230508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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man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371600" y="48769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ibrational spectrosco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eak proce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rface Enhanced Resonance Raman Spectroscop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752120" y="1905120"/>
            <a:ext cx="762120" cy="11430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95840" y="1779120"/>
            <a:ext cx="466920" cy="13186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411480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rface enhance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lecule adsorbed on a roughened  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rge increase in sig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gnal sensitive to the orientation of  a  lig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3276720"/>
            <a:ext cx="36576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sonance Ra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ser frequency coincides or approaches the frequency of an electronic tran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4572000"/>
            <a:ext cx="784872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609480"/>
            <a:ext cx="7543800" cy="42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848720" y="152280"/>
            <a:ext cx="1110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09480" y="11430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7200"/>
            <a:ext cx="777240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*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609480" y="3124080"/>
          <a:ext cx="5029200" cy="238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3124080"/>
                    <a:ext cx="502920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 rot="20046000">
            <a:off x="7303680" y="3284640"/>
            <a:ext cx="29232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181480" y="3962520"/>
          <a:ext cx="3210120" cy="1334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81480" y="3962520"/>
                    <a:ext cx="321012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 rot="5458800">
            <a:off x="6141960" y="406836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38862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762120"/>
            <a:ext cx="72388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r Duncan Graham</cp:lastModifiedBy>
  <dcterms:modified xsi:type="dcterms:W3CDTF">2002-09-05T12:12:52Z</dcterms:modified>
  <cp:revision>23</cp:revision>
  <dc:subject/>
  <dc:title>PowerPoint Presentation</dc:title>
</cp:coreProperties>
</file>