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D302-781C-43B9-B504-78165BA2BE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askdjsao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C76-ED60-48BB-A783-A4D1DA5D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D7E9-F61A-4EBF-8FC4-D5ED119A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FD42-CBB0-4188-8D9F-2EAFE4AB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36D7-4075-465B-B798-0A77FD04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D8C8-53C2-4E45-B739-813ADBAA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6B4-5DEF-4B2F-9F58-A827F91E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1FE-20CC-4AB2-89F2-45770D8F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2CC9-204C-4E52-8ABE-1BB9C4B4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F2A0-EEB3-4029-98A8-2638CB18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71A8-58EB-4F70-80C4-85A8242B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B9A-94A2-4E2D-B909-51213DFD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B315-871B-40CE-A6F0-52E31714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7B6A-1612-48AE-A0A3-6CD75C1E15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4017960" y="4343400"/>
            <a:ext cx="15987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1066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 Novel Method of Oligonucleotide Detection Using Diels Alder Cycloaddition and SER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3276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jiljana Fru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uncan Graham, W. Ewen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905120" y="2286000"/>
            <a:ext cx="447480" cy="380880"/>
          </a:xfrm>
          <a:prstGeom prst="flowChartConnector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1815000">
            <a:off x="4038120" y="1447920"/>
            <a:ext cx="366840" cy="121896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2438280"/>
            <a:ext cx="563400" cy="219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2367200">
            <a:off x="6180840" y="1296360"/>
            <a:ext cx="295560" cy="114300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286000"/>
            <a:ext cx="447840" cy="409680"/>
          </a:xfrm>
          <a:prstGeom prst="flowChartConnector">
            <a:avLst/>
          </a:prstGeom>
          <a:solidFill>
            <a:srgbClr val="8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3623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2438280"/>
            <a:ext cx="900000" cy="5040"/>
          </a:xfrm>
          <a:prstGeom prst="line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3809880"/>
            <a:ext cx="2590920" cy="7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1 Oligo fur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2 Oligo cycloadduct</a:t>
            </a:r>
            <a:r>
              <a:rPr b="0" lang="en-GB" sz="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52280"/>
            <a:ext cx="7391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Diels Alder Cycloaddition of the Dye to Oligonucleot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hosphate buffer (pH = 5.5), 30% C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N, 40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743200" y="2895480"/>
          <a:ext cx="3971880" cy="3686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2895480"/>
                    <a:ext cx="397188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8580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PLC 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35800">
            <a:off x="1294920" y="3809880"/>
            <a:ext cx="838080" cy="533160"/>
          </a:xfrm>
          <a:custGeom>
            <a:avLst/>
            <a:gdLst>
              <a:gd name="textAreaLeft" fmla="*/ 279360 w 838080"/>
              <a:gd name="textAreaRight" fmla="*/ 717840 w 83808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crest" descr="The University of Strathclyde in Glasgow"/>
          <p:cNvPicPr/>
          <p:nvPr/>
        </p:nvPicPr>
        <p:blipFill>
          <a:blip r:embed="rId5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219320" y="3809880"/>
            <a:ext cx="1752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89800">
            <a:off x="456840" y="762120"/>
            <a:ext cx="1295280" cy="685800"/>
          </a:xfrm>
          <a:prstGeom prst="lightningBol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24080" y="3505320"/>
            <a:ext cx="1371600" cy="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733920"/>
            <a:ext cx="1752480" cy="7596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71600" y="1828800"/>
            <a:ext cx="1371600" cy="1905120"/>
            <a:chOff x="1371600" y="1828800"/>
            <a:chExt cx="1371600" cy="1905120"/>
          </a:xfrm>
        </p:grpSpPr>
        <p:sp>
          <p:nvSpPr>
            <p:cNvPr id="153" name=""/>
            <p:cNvSpPr/>
            <p:nvPr/>
          </p:nvSpPr>
          <p:spPr>
            <a:xfrm>
              <a:off x="1371600" y="1828800"/>
              <a:ext cx="30492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828800"/>
              <a:ext cx="228600" cy="1523880"/>
            </a:xfrm>
            <a:custGeom>
              <a:avLst/>
              <a:gdLst/>
              <a:ahLst/>
              <a:rect l="l" t="t" r="r" b="b"/>
              <a:pathLst>
                <a:path w="180" h="1080">
                  <a:moveTo>
                    <a:pt x="180" y="1080"/>
                  </a:moveTo>
                  <a:cubicBezTo>
                    <a:pt x="90" y="1020"/>
                    <a:pt x="0" y="960"/>
                    <a:pt x="0" y="900"/>
                  </a:cubicBezTo>
                  <a:cubicBezTo>
                    <a:pt x="0" y="840"/>
                    <a:pt x="180" y="780"/>
                    <a:pt x="180" y="720"/>
                  </a:cubicBezTo>
                  <a:cubicBezTo>
                    <a:pt x="180" y="660"/>
                    <a:pt x="0" y="600"/>
                    <a:pt x="0" y="540"/>
                  </a:cubicBezTo>
                  <a:cubicBezTo>
                    <a:pt x="0" y="480"/>
                    <a:pt x="180" y="420"/>
                    <a:pt x="180" y="360"/>
                  </a:cubicBezTo>
                  <a:cubicBezTo>
                    <a:pt x="180" y="300"/>
                    <a:pt x="0" y="240"/>
                    <a:pt x="0" y="180"/>
                  </a:cubicBezTo>
                  <a:cubicBezTo>
                    <a:pt x="0" y="120"/>
                    <a:pt x="150" y="30"/>
                    <a:pt x="18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3352680"/>
              <a:ext cx="380880" cy="381240"/>
            </a:xfrm>
            <a:prstGeom prst="flowChartConnector">
              <a:avLst/>
            </a:prstGeom>
            <a:solidFill>
              <a:srgbClr val="8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828800" y="411480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48006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04112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724280" y="1523880"/>
          <a:ext cx="4027680" cy="4191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3880"/>
                    <a:ext cx="40276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RRS subst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600200"/>
            <a:ext cx="5257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inly us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coll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producibility in the short period of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me (age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9625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ld deposited silver fil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ughness lost with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susceptible to da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438280" y="685800"/>
            <a:ext cx="3886200" cy="83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tein and DNA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182880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09880"/>
            <a:ext cx="7315200" cy="1219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0384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has to be rough, resistant to the assay conditions, stable with time and give reproducible SER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609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g-PVA dis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600200"/>
            <a:ext cx="7010280" cy="17524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22520" y="24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1981080"/>
            <a:ext cx="6248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g N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 polyvinylalcohol (PVA) solution (5% in H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in coated on the glass discs, dried and reduced with saturated FeSO</a:t>
            </a:r>
            <a:r>
              <a:rPr b="0" lang="en-US" sz="2000" spc="-1" strike="noStrike" baseline="-30000">
                <a:solidFill>
                  <a:srgbClr val="ffff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lu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114800"/>
            <a:ext cx="739116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s done to check the reproducibility of the signal over the larger area of the substrate. BT maleimide dye adsorbed on th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762120" y="304920"/>
          <a:ext cx="2590560" cy="23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04920"/>
                    <a:ext cx="259056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405400">
            <a:off x="2171880" y="3695760"/>
            <a:ext cx="838080" cy="1371600"/>
          </a:xfrm>
          <a:custGeom>
            <a:avLst/>
            <a:gdLst>
              <a:gd name="textAreaLeft" fmla="*/ 279360 w 838080"/>
              <a:gd name="textAreaRight" fmla="*/ 717840 w 8380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74320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rface mapping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 m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09880" y="2514600"/>
            <a:ext cx="4616640" cy="3376440"/>
            <a:chOff x="3809880" y="2514600"/>
            <a:chExt cx="4616640" cy="3376440"/>
          </a:xfrm>
        </p:grpSpPr>
        <p:graphicFrame>
          <p:nvGraphicFramePr>
            <p:cNvPr id="183" name=""/>
            <p:cNvGraphicFramePr/>
            <p:nvPr/>
          </p:nvGraphicFramePr>
          <p:xfrm>
            <a:off x="3809880" y="2514600"/>
            <a:ext cx="3962520" cy="3376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9880" y="2514600"/>
                      <a:ext cx="3962520" cy="337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7772400" y="2514600"/>
            <a:ext cx="654120" cy="335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772400" y="2514600"/>
                      <a:ext cx="654120" cy="33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87" name="crest" descr="The University of Strathclyde in Glasgow"/>
          <p:cNvPicPr/>
          <p:nvPr/>
        </p:nvPicPr>
        <p:blipFill>
          <a:blip r:embed="rId8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962520" y="457200"/>
            <a:ext cx="3124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14 nm la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3 accum, 3 s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400x400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80880"/>
            <a:ext cx="716256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 Microprobe Analysis (EMP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imilar in design to SEM, but better for analysis of light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meca SX100 instr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3048120"/>
          <a:ext cx="4267440" cy="295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048120"/>
                    <a:ext cx="426744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2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419720" y="16002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 WDS and 1 E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pectro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886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condary electron image of Ag-PVA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90720" y="1828800"/>
          <a:ext cx="3581280" cy="33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3581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800600" y="1828800"/>
          <a:ext cx="3405240" cy="33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1828800"/>
                    <a:ext cx="34052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2193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g map, 15kV,10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6386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 map, 15kV, 10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14400" y="609480"/>
            <a:ext cx="510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lver and oxygen maps perform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no iron found (good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990720" y="1295280"/>
          <a:ext cx="297180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95280"/>
                    <a:ext cx="2971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990720" y="685800"/>
            <a:ext cx="419076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ERRS map of a damaged 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343400" y="2895480"/>
          <a:ext cx="4343400" cy="33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895480"/>
                    <a:ext cx="434340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rot="5400000">
            <a:off x="2704680" y="4838760"/>
            <a:ext cx="1295640" cy="609480"/>
          </a:xfrm>
          <a:custGeom>
            <a:avLst/>
            <a:gdLst>
              <a:gd name="textAreaLeft" fmla="*/ 432000 w 1295640"/>
              <a:gd name="textAreaRight" fmla="*/ 1109880 w 12956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48320" y="1752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514 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85800"/>
            <a:ext cx="2361960" cy="5814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clu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057400"/>
            <a:ext cx="8153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T dye maleimide desig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Novel SERRS active substrates character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Oligo successfully labelled with SERRS active dy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RRS spectra of dye maleimide differs from spectra of oligo cycloadduct enabling the analysis of the oligo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in situ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and in the presence of the starting material without separ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90720" y="76212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t human genome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ntification of genetic dise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8288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creening of large number of DNA sequences – DNA arrays (fluorescence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20040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5800" y="4495680"/>
            <a:ext cx="3047760" cy="1244520"/>
            <a:chOff x="685800" y="4495680"/>
            <a:chExt cx="3047760" cy="1244520"/>
          </a:xfrm>
        </p:grpSpPr>
        <p:sp>
          <p:nvSpPr>
            <p:cNvPr id="60" name=""/>
            <p:cNvSpPr/>
            <p:nvPr/>
          </p:nvSpPr>
          <p:spPr>
            <a:xfrm>
              <a:off x="3327480" y="4495680"/>
              <a:ext cx="406080" cy="457200"/>
            </a:xfrm>
            <a:custGeom>
              <a:avLst/>
              <a:gdLst>
                <a:gd name="textAreaLeft" fmla="*/ 54360 w 406080"/>
                <a:gd name="textAreaRight" fmla="*/ 351720 w 4060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5800" y="4724280"/>
              <a:ext cx="284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omplex chemistry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biological activ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267080" y="4495680"/>
            <a:ext cx="4190760" cy="1496160"/>
            <a:chOff x="4267080" y="4495680"/>
            <a:chExt cx="4190760" cy="1496160"/>
          </a:xfrm>
        </p:grpSpPr>
        <p:sp>
          <p:nvSpPr>
            <p:cNvPr id="63" name=""/>
            <p:cNvSpPr/>
            <p:nvPr/>
          </p:nvSpPr>
          <p:spPr>
            <a:xfrm>
              <a:off x="4267080" y="4495680"/>
              <a:ext cx="304560" cy="457200"/>
            </a:xfrm>
            <a:custGeom>
              <a:avLst/>
              <a:gdLst>
                <a:gd name="textAreaLeft" fmla="*/ 40680 w 304560"/>
                <a:gd name="textAreaRight" fmla="*/ 263880 w 30456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960" y="4800600"/>
              <a:ext cx="380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imes New Roman"/>
                </a:rPr>
                <a:t>Separation of a label and labelled oligo prior to de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5800" y="762120"/>
            <a:ext cx="3429000" cy="990360"/>
          </a:xfrm>
          <a:prstGeom prst="foldedCorner">
            <a:avLst>
              <a:gd name="adj" fmla="val 125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9907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knowledg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76520" y="1905120"/>
            <a:ext cx="380880" cy="838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1981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spirat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W. E.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35268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Duncan G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emistry is largely experimental scien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1828800"/>
            <a:ext cx="15238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1828800"/>
            <a:ext cx="3124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Antonio Grond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r. Robert Ma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f. Andrew M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llum McH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achel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exis En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oth Inorganic and Raman Groups at the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d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2438280"/>
            <a:ext cx="685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rface Enhanced Resonance Raman Scatter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26668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666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22096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2209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23623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685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aman scatt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24680" y="220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5335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295280" y="2743200"/>
            <a:ext cx="3200400" cy="685800"/>
            <a:chOff x="1295280" y="2743200"/>
            <a:chExt cx="3200400" cy="685800"/>
          </a:xfrm>
        </p:grpSpPr>
        <p:sp>
          <p:nvSpPr>
            <p:cNvPr id="78" name=""/>
            <p:cNvSpPr/>
            <p:nvPr/>
          </p:nvSpPr>
          <p:spPr>
            <a:xfrm>
              <a:off x="3809880" y="2743200"/>
              <a:ext cx="685800" cy="685800"/>
            </a:xfrm>
            <a:prstGeom prst="flowChartConnector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57400" y="289548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2819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715280" y="1600200"/>
            <a:ext cx="3846240" cy="1293480"/>
            <a:chOff x="4715280" y="1600200"/>
            <a:chExt cx="3846240" cy="1293480"/>
          </a:xfrm>
        </p:grpSpPr>
        <p:sp>
          <p:nvSpPr>
            <p:cNvPr id="82" name=""/>
            <p:cNvSpPr/>
            <p:nvPr/>
          </p:nvSpPr>
          <p:spPr>
            <a:xfrm rot="20011200">
              <a:off x="4724280" y="220932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19920" y="1600200"/>
              <a:ext cx="254160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yleigh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639320" y="3506760"/>
            <a:ext cx="3685680" cy="1423080"/>
            <a:chOff x="4639320" y="3506760"/>
            <a:chExt cx="3685680" cy="1423080"/>
          </a:xfrm>
        </p:grpSpPr>
        <p:sp>
          <p:nvSpPr>
            <p:cNvPr id="85" name=""/>
            <p:cNvSpPr/>
            <p:nvPr/>
          </p:nvSpPr>
          <p:spPr>
            <a:xfrm flipV="1" rot="1588800">
              <a:off x="4648320" y="3808800"/>
              <a:ext cx="1447920" cy="381240"/>
            </a:xfrm>
            <a:prstGeom prst="rightArrow">
              <a:avLst>
                <a:gd name="adj1" fmla="val 50000"/>
                <a:gd name="adj2" fmla="val 94948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19920" y="4114800"/>
              <a:ext cx="2305080" cy="81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h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o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Raman scatte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371600" y="48769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brational spectrosc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eak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face Enhanced Resonance Raman Spectroscop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752120" y="1905120"/>
            <a:ext cx="762120" cy="11430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95840" y="1779120"/>
            <a:ext cx="466920" cy="13186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41148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rface enhanc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lecule adsorbed on a roughened  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 increase in sig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gnal sensitive to the orientation of  a  lig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3276720"/>
            <a:ext cx="36576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onance Ra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ser frequency coincides or approaches the frequency of an electronic tran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4572000"/>
            <a:ext cx="7848720" cy="119124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ologically important molecules including DNA are not SERRS active and have to be labelled with SERRS active species prior to det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609480"/>
            <a:ext cx="75438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rface Enhanced Resonance Raman Scatt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quires adsorption of the species on the metal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tive species have chromophores that match the laser excitation frequency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visible laser usually us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luorescence is quenc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tection limits lowered compared to other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848720" y="152280"/>
            <a:ext cx="1110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11430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NA has to be labelled with SERRS active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676520"/>
            <a:ext cx="381240" cy="609480"/>
          </a:xfrm>
          <a:custGeom>
            <a:avLst/>
            <a:gdLst>
              <a:gd name="textAreaLeft" fmla="*/ 51120 w 381240"/>
              <a:gd name="textAreaRight" fmla="*/ 330120 w 38124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600200"/>
            <a:ext cx="380880" cy="685800"/>
          </a:xfrm>
          <a:custGeom>
            <a:avLst/>
            <a:gdLst>
              <a:gd name="textAreaLeft" fmla="*/ 50760 w 380880"/>
              <a:gd name="textAreaRight" fmla="*/ 330120 w 38088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438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els Alder cycload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5053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12000">
            <a:off x="3619440" y="2781360"/>
            <a:ext cx="534960" cy="198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429000"/>
            <a:ext cx="2286000" cy="685800"/>
          </a:xfrm>
          <a:prstGeom prst="can">
            <a:avLst>
              <a:gd name="adj" fmla="val 25000"/>
            </a:avLst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cycload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350532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ienop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581280"/>
            <a:ext cx="41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191120"/>
            <a:ext cx="2361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t SERRS active (oligo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41911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(benzotriazole dy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3434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ERRS active oli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809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crest" descr="The University of Strathclyde in Glasgow"/>
          <p:cNvPicPr/>
          <p:nvPr/>
        </p:nvPicPr>
        <p:blipFill>
          <a:blip r:embed="rId2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470400" y="2743200"/>
            <a:ext cx="64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9720" bIns="9720" anchor="t">
            <a:spAutoFit/>
          </a:bodyPr>
          <a:p>
            <a:pPr>
              <a:spcBef>
                <a:spcPts val="150"/>
              </a:spcBef>
              <a:buClr>
                <a:srgbClr val="006600"/>
              </a:buClr>
              <a:buFont typeface="Times New Roman"/>
              <a:buChar char="•"/>
              <a:tabLst>
                <a:tab algn="l" pos="192240"/>
                <a:tab algn="l" pos="384120"/>
                <a:tab algn="l" pos="576360"/>
                <a:tab algn="l" pos="768240"/>
                <a:tab algn="l" pos="960480"/>
                <a:tab algn="l" pos="1152360"/>
                <a:tab algn="l" pos="1344600"/>
                <a:tab algn="l" pos="1536840"/>
                <a:tab algn="l" pos="1728720"/>
                <a:tab algn="l" pos="1920960"/>
                <a:tab algn="l" pos="2112840"/>
                <a:tab algn="l" pos="2305080"/>
                <a:tab algn="l" pos="2496960"/>
                <a:tab algn="l" pos="2689200"/>
                <a:tab algn="l" pos="2881440"/>
                <a:tab algn="l" pos="3073320"/>
                <a:tab algn="l" pos="3265560"/>
                <a:tab algn="l" pos="3457440"/>
                <a:tab algn="l" pos="3649680"/>
                <a:tab algn="l" pos="38419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3809880"/>
          <a:ext cx="8229600" cy="21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9880"/>
                    <a:ext cx="8229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486400" y="4267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 DC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343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76920"/>
            <a:ext cx="236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2. Co naphthenate, Ac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7200"/>
            <a:ext cx="777240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ERRS active dienophile*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sts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benzotriazol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urface attachment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chromophor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azo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the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maleimide group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go  Diels Alder reaction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crest" descr="The University of Strathclyde in Glasgow"/>
          <p:cNvPicPr/>
          <p:nvPr/>
        </p:nvPicPr>
        <p:blipFill>
          <a:blip r:embed="rId4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*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09480" y="3124080"/>
          <a:ext cx="502920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124080"/>
                    <a:ext cx="5029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20046000">
            <a:off x="7303680" y="3284640"/>
            <a:ext cx="292320" cy="82692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181480" y="3962520"/>
          <a:ext cx="3210120" cy="133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81480" y="3962520"/>
                    <a:ext cx="32101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143000" y="4273560"/>
            <a:ext cx="10666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imes New Roman"/>
              </a:rPr>
              <a:t>DCM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 rot="5458800">
            <a:off x="6141960" y="4068360"/>
            <a:ext cx="108000" cy="1266840"/>
          </a:xfrm>
          <a:custGeom>
            <a:avLst/>
            <a:gdLst/>
            <a:ahLst/>
            <a:rect l="l" t="t" r="r" b="b"/>
            <a:pathLst>
              <a:path w="180" h="1080">
                <a:moveTo>
                  <a:pt x="180" y="1080"/>
                </a:moveTo>
                <a:cubicBezTo>
                  <a:pt x="90" y="1020"/>
                  <a:pt x="0" y="960"/>
                  <a:pt x="0" y="900"/>
                </a:cubicBezTo>
                <a:cubicBezTo>
                  <a:pt x="0" y="840"/>
                  <a:pt x="180" y="780"/>
                  <a:pt x="180" y="720"/>
                </a:cubicBezTo>
                <a:cubicBezTo>
                  <a:pt x="180" y="660"/>
                  <a:pt x="0" y="600"/>
                  <a:pt x="0" y="540"/>
                </a:cubicBezTo>
                <a:cubicBezTo>
                  <a:pt x="0" y="480"/>
                  <a:pt x="180" y="420"/>
                  <a:pt x="180" y="360"/>
                </a:cubicBezTo>
                <a:cubicBezTo>
                  <a:pt x="180" y="300"/>
                  <a:pt x="0" y="240"/>
                  <a:pt x="0" y="180"/>
                </a:cubicBezTo>
                <a:cubicBezTo>
                  <a:pt x="0" y="120"/>
                  <a:pt x="150" y="30"/>
                  <a:pt x="180" y="0"/>
                </a:cubicBez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4265640"/>
            <a:ext cx="76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886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DI, DMF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4186080"/>
            <a:ext cx="50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762120"/>
            <a:ext cx="72388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ligonucleotide d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base synthetic oligo used - 5’TCTCAACTCG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ified with fur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mino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crest" descr="The University of Strathclyde in Glasgow"/>
          <p:cNvPicPr/>
          <p:nvPr/>
        </p:nvPicPr>
        <p:blipFill>
          <a:blip r:embed="rId6"/>
          <a:stretch/>
        </p:blipFill>
        <p:spPr>
          <a:xfrm>
            <a:off x="7620120" y="304920"/>
            <a:ext cx="1110960" cy="1218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095880"/>
            <a:ext cx="7696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Lj. Fruk, A. Grondin, D. Graham, E. W. Smith: A New Approach to Oligonucleotide Labelling Using Diels Alder  Cycloadditons and SERRS, Chemn. Comm.,2002, 18,2100-21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49:49Z</dcterms:created>
  <dc:creator>Dr Duncan Graham</dc:creator>
  <dc:description/>
  <dc:language>en-US</dc:language>
  <cp:lastModifiedBy>Dr Duncan Graham</cp:lastModifiedBy>
  <dcterms:modified xsi:type="dcterms:W3CDTF">2002-09-05T12:12:52Z</dcterms:modified>
  <cp:revision>23</cp:revision>
  <dc:subject/>
  <dc:title>PowerPoint Presentation</dc:title>
</cp:coreProperties>
</file>