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97B-055E-40F6-9C75-9F7A7948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EAC-8A41-4315-BA1C-64E70C35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D52-2365-4AC1-B6C6-F59BF998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6BA-F3B6-4E51-A446-242749B0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B1A-1ADB-4DCA-AB4A-FB6C4122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FF8-52B1-4676-8A01-974C8A89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6A92-DDFC-439D-848E-817E768F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2D5-176C-4F68-AF38-412282A8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F463-30E3-4EAC-8767-61ECE319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C19-5C01-4A53-A83F-8639313A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2E84-E4DB-48BC-99C7-AB0C6E98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C60-4C7F-42E7-B16D-59EAEBF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ECE8-B7C5-4DF1-A46D-22211C309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 comparison of Medical Image Segmentation Algorithm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4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283280" cy="453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11200" y="6307200"/>
            <a:ext cx="27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cture: Lodestone Patient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 project be realized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s -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e Results – Simulated Data and Re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Data- Southern Gene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egmentation algorithms available will be investig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zzy C-Mean algorithm will be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will be realized using simulated and re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and Qualitative evaluation of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 - OBJECTIVE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tioning of an image into non overlapping  constituent regions which are homogeneous with respect to some characteristic such as intensity or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244800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60720" y="60930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1440" y="61135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ain Segmentation,  lesion Qu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19432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172116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6728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1657440" cy="194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72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516720" y="1125360"/>
            <a:ext cx="1952640" cy="182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622728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732720" y="4005360"/>
            <a:ext cx="1839960" cy="209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472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340000" y="4076640"/>
            <a:ext cx="1608120" cy="208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406692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572000" y="4005360"/>
            <a:ext cx="1560600" cy="208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1835280" y="50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0720" y="6553080"/>
            <a:ext cx="49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ttp://mipgsun.mipg.upenn.edu/PPT/Application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0" y="3933720"/>
            <a:ext cx="17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…. Methods</a:t>
            </a:r>
            <a:br>
              <a:rPr sz="54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K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C-Means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96072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805360"/>
            <a:ext cx="3961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Philips medical systems clinical MRI Im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 SEGMENTATION…PROBL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8000" y="907560"/>
            <a:ext cx="3995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in must be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t imag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lapping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edges not “shar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rmal anatomical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anatomic borders are intensity-based bor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14842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248292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448000" cy="208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558972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pping of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ww.cma.mgh.harvard.edu/ib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3505320" cy="31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79532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168912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729080" cy="20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659640" y="189000"/>
            <a:ext cx="2141640" cy="209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3960" y="6021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736720" cy="2457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87640" y="3357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08360" y="549360"/>
            <a:ext cx="489600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06880" y="630864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y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Meth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as an extension to the standard Fuzzy C-means Algorithm for more precis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852640"/>
            <a:ext cx="151128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4149720"/>
            <a:ext cx="1800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4005360"/>
            <a:ext cx="18734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zzy C-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5300640"/>
            <a:ext cx="237636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5157720"/>
            <a:ext cx="1656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4005360"/>
            <a:ext cx="1943280" cy="79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GRAPHICAL US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436572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364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27640" y="48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443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573408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zzy C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64000" y="981000"/>
          <a:ext cx="3456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981000"/>
                    <a:ext cx="3456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508640"/>
          <a:ext cx="442764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08640"/>
                    <a:ext cx="4427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520" y="1197000"/>
            <a:ext cx="5060520" cy="3161520"/>
            <a:chOff x="2520" y="1197000"/>
            <a:chExt cx="5060520" cy="3161520"/>
          </a:xfrm>
        </p:grpSpPr>
        <p:sp>
          <p:nvSpPr>
            <p:cNvPr id="112" name=""/>
            <p:cNvSpPr/>
            <p:nvPr/>
          </p:nvSpPr>
          <p:spPr>
            <a:xfrm>
              <a:off x="2520" y="1197000"/>
              <a:ext cx="17413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(Pixel Intens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723240" y="2122920"/>
            <a:ext cx="399960" cy="223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240" y="2122920"/>
                      <a:ext cx="399960" cy="2235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59800" y="149364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71240" y="1197000"/>
              <a:ext cx="14349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mb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4511520" y="2198520"/>
            <a:ext cx="285840" cy="208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1520" y="2198520"/>
                      <a:ext cx="285840" cy="20847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08880" y="3290760"/>
              <a:ext cx="324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2873520" y="3088080"/>
            <a:ext cx="314280" cy="384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73520" y="3088080"/>
                      <a:ext cx="31428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1208880" y="3290760"/>
              <a:ext cx="3240360" cy="855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2873520" y="3637080"/>
            <a:ext cx="371160" cy="38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73520" y="3637080"/>
                      <a:ext cx="37116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1208880" y="2357640"/>
              <a:ext cx="3240360" cy="932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2873520" y="2518920"/>
            <a:ext cx="357120" cy="384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3520" y="2518920"/>
                      <a:ext cx="35712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2:27:35Z</dcterms:created>
  <dc:creator>Shruti Saggar</dc:creator>
  <dc:description/>
  <dc:language>en-US</dc:language>
  <cp:lastModifiedBy>mamta naik</cp:lastModifiedBy>
  <dcterms:modified xsi:type="dcterms:W3CDTF">2007-11-14T09:35:51Z</dcterms:modified>
  <cp:revision>10</cp:revision>
  <dc:subject/>
  <dc:title>Slide 1</dc:title>
</cp:coreProperties>
</file>