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9.wmf" ContentType="image/x-wmf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C4A0-B9F6-4F37-9166-F484A1489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2903-DB15-4AC2-A120-F3889512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5205-6DA2-48E1-A7C8-8250F1292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FE54-377D-4DDC-A95E-A7F22BB7B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85E5-F499-432A-805C-49F35F6F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B689-A9AA-46D1-8B50-BB5F7B85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5D3B-0611-4902-8B1E-817D3D6F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10E8-9E0C-49A2-AB15-46DC0C21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CD50-F8FB-461C-8FDD-D748B5A4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D7A2-C0E1-48C8-A33F-06A867A2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EEE4-C611-4DE1-B6CE-BE0698D1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EE8E-8D74-4B04-AE0D-F6C70DC1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82FB-C05F-4E1C-BE18-8E92A540C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ter comparison of Medical Image Segmentation Algorithm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400"/>
            </a:br>
            <a:br>
              <a:rPr sz="40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68360" y="1700280"/>
            <a:ext cx="4283280" cy="4537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311200" y="6307200"/>
            <a:ext cx="27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cture: Lodestone Patient 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will the project be realized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Packages - Mat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the Results – Simulated Data and Re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Data- Southern General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segmentation algorithms available will be investig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Fuzzy C-Mean algorithm will be def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s will be realized using simulated and real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ative and Qualitative evaluation of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E SEGMENTATION - OBJECTIVE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tioning of an image into non overlapping  constituent regions which are homogeneous with respect to some characteristic such as intensity or tex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2808360" cy="2736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284720" y="3284640"/>
            <a:ext cx="2448000" cy="2736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60720" y="60930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I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11440" y="611352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ed MRI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rain Segmentation,  lesion Qunt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1943280" cy="1944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79640" y="2637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68360" y="1197000"/>
            <a:ext cx="1721160" cy="1944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067280" y="2637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356000" y="1197000"/>
            <a:ext cx="1657440" cy="1942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24720" y="3429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516720" y="1125360"/>
            <a:ext cx="1952640" cy="1822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H="1">
            <a:off x="6227280" y="522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6732720" y="4005360"/>
            <a:ext cx="1839960" cy="2095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84720" y="24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2340000" y="4076640"/>
            <a:ext cx="1608120" cy="2089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>
            <a:off x="4066920" y="50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4572000" y="4005360"/>
            <a:ext cx="1560600" cy="2087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>
            <a:off x="1835280" y="508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30720" y="6553080"/>
            <a:ext cx="49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ictur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ttp://mipgsun.mipg.upenn.edu/PPT/Applications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0" y="3933720"/>
            <a:ext cx="1763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E SEGMENTATION…. Methods</a:t>
            </a:r>
            <a:br>
              <a:rPr sz="54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68360" y="1483920"/>
            <a:ext cx="8424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SHO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zzy K-Means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zzy C-Means Algorith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3960720" cy="4286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26920" y="5805360"/>
            <a:ext cx="39610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I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(Philips medical systems clinical MRI Image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AGE SEGMENTATION…PROBLEM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8000" y="907560"/>
            <a:ext cx="39956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rain must be 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fferent imaging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lapping intens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ial vol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ad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ch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y edges not “sharp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rmal anatomical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ll anatomic borders are intensity-based bord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08360" y="1484280"/>
            <a:ext cx="4572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332000" y="981000"/>
            <a:ext cx="2482920" cy="2087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332000" y="3213000"/>
            <a:ext cx="2448000" cy="2087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042920" y="5589720"/>
            <a:ext cx="29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lapping of intens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655308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ictur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ww.cma.mgh.harvard.edu/ib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3505320" cy="3133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1795320" cy="1800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627280" y="260280"/>
            <a:ext cx="1689120" cy="1944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643280" y="189000"/>
            <a:ext cx="1729080" cy="2014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6659640" y="189000"/>
            <a:ext cx="2141640" cy="2092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703960" y="602136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tial Vol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2736720" cy="2457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987640" y="33577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708360" y="549360"/>
            <a:ext cx="4896000" cy="2736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042920" y="3789360"/>
            <a:ext cx="2016360" cy="2592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406880" y="6308640"/>
            <a:ext cx="137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isy 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Metho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 as an extension to the standard Fuzzy C-means Algorithm for more precis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2852640"/>
            <a:ext cx="1511280" cy="79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92360" y="3645000"/>
            <a:ext cx="172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4149720"/>
            <a:ext cx="180036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35280" y="4005360"/>
            <a:ext cx="187344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Fuzzy C-Mea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19640" y="5300640"/>
            <a:ext cx="2376360" cy="79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men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5157720"/>
            <a:ext cx="165600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00720" y="4005360"/>
            <a:ext cx="1943280" cy="792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GRAPHICAL US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16360" y="4365720"/>
            <a:ext cx="718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36446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427640" y="486864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08720" y="4437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000" y="573408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zzy C-Means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64000" y="981000"/>
          <a:ext cx="34560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981000"/>
                    <a:ext cx="34560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0" y="4508640"/>
          <a:ext cx="4427640" cy="190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508640"/>
                    <a:ext cx="442764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2520" y="1197000"/>
            <a:ext cx="5060520" cy="3161520"/>
            <a:chOff x="2520" y="1197000"/>
            <a:chExt cx="5060520" cy="3161520"/>
          </a:xfrm>
        </p:grpSpPr>
        <p:sp>
          <p:nvSpPr>
            <p:cNvPr id="112" name=""/>
            <p:cNvSpPr/>
            <p:nvPr/>
          </p:nvSpPr>
          <p:spPr>
            <a:xfrm>
              <a:off x="2520" y="1197000"/>
              <a:ext cx="174132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V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(Pixel Intensit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3" name=""/>
            <p:cNvGraphicFramePr/>
            <p:nvPr/>
          </p:nvGraphicFramePr>
          <p:xfrm>
            <a:off x="723240" y="2122920"/>
            <a:ext cx="399960" cy="2235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23240" y="2122920"/>
                      <a:ext cx="399960" cy="223560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5" name=""/>
            <p:cNvSpPr/>
            <p:nvPr/>
          </p:nvSpPr>
          <p:spPr>
            <a:xfrm>
              <a:off x="4159800" y="1493640"/>
              <a:ext cx="90324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lu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71240" y="1197000"/>
              <a:ext cx="143496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mbersh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un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7" name=""/>
            <p:cNvGraphicFramePr/>
            <p:nvPr/>
          </p:nvGraphicFramePr>
          <p:xfrm>
            <a:off x="4511520" y="2198520"/>
            <a:ext cx="285840" cy="2084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11520" y="2198520"/>
                      <a:ext cx="285840" cy="208476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9" name=""/>
            <p:cNvSpPr/>
            <p:nvPr/>
          </p:nvSpPr>
          <p:spPr>
            <a:xfrm>
              <a:off x="1208880" y="3290760"/>
              <a:ext cx="324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0" name=""/>
            <p:cNvGraphicFramePr/>
            <p:nvPr/>
          </p:nvGraphicFramePr>
          <p:xfrm>
            <a:off x="2873520" y="3088080"/>
            <a:ext cx="314280" cy="384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873520" y="3088080"/>
                      <a:ext cx="314280" cy="3841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>
              <a:off x="1208880" y="3290760"/>
              <a:ext cx="3240360" cy="855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3" name=""/>
            <p:cNvGraphicFramePr/>
            <p:nvPr/>
          </p:nvGraphicFramePr>
          <p:xfrm>
            <a:off x="2873520" y="3637080"/>
            <a:ext cx="371160" cy="384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73520" y="3637080"/>
                      <a:ext cx="371160" cy="3841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 flipV="1">
              <a:off x="1208880" y="2357640"/>
              <a:ext cx="3240360" cy="932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6" name=""/>
            <p:cNvGraphicFramePr/>
            <p:nvPr/>
          </p:nvGraphicFramePr>
          <p:xfrm>
            <a:off x="2873520" y="2518920"/>
            <a:ext cx="357120" cy="384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873520" y="2518920"/>
                      <a:ext cx="357120" cy="3841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02:27:35Z</dcterms:created>
  <dc:creator>Shruti Saggar</dc:creator>
  <dc:description/>
  <dc:language>en-US</dc:language>
  <cp:lastModifiedBy>mamta naik</cp:lastModifiedBy>
  <dcterms:modified xsi:type="dcterms:W3CDTF">2007-11-14T09:35:51Z</dcterms:modified>
  <cp:revision>10</cp:revision>
  <dc:subject/>
  <dc:title>Slide 1</dc:title>
</cp:coreProperties>
</file>