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8B2-3C17-4A49-A1E5-D76FA9EA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4DA-4B78-4E23-88C0-687F4429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5A7A-0B3F-4194-A4F0-60DFABBB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048-1C44-4263-BE55-9BE20153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D76-1CC3-4697-8B45-5B81F31B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88E-04E8-4AB2-9659-DA9F1B43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CC9-A99E-4750-84B9-30A4503E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4605-A54B-4AE0-AEB8-56155641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6C6-C136-4808-BAE0-FAA3AEA4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D394-4F65-4533-94E3-D8CBF450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F4E-5912-472B-B102-4432ED07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CE0-13F2-4F04-A589-35323833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5022-2ACD-404F-9640-F9C7E79FC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r comparison of Medical Image Segmentation Algorithm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400"/>
            </a:b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283280" cy="453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11200" y="6307200"/>
            <a:ext cx="27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cture: Lodestone Patient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 project be realized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ackages -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he Results – Simulated Data and Re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Data- Southern Gene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egmentation algorithms available will be investig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zzy C-Mean algorithm will be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will be realized using simulated and re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and Qualitative evaluation of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 - OBJECTIVE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tioning of an image into non overlapping  constituent regions which are homogeneous with respect to some characteristic such as intensity or 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2448000" cy="273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60720" y="60930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1440" y="61135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ed 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rain Segmentation,  lesion Qu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194328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964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1721160" cy="194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6728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356000" y="1197000"/>
            <a:ext cx="1657440" cy="194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2472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516720" y="1125360"/>
            <a:ext cx="1952640" cy="1822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622728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732720" y="4005360"/>
            <a:ext cx="1839960" cy="209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8472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340000" y="4076640"/>
            <a:ext cx="1608120" cy="208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406692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572000" y="4005360"/>
            <a:ext cx="1560600" cy="208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1835280" y="50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30720" y="6553080"/>
            <a:ext cx="49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ttp://mipgsun.mipg.upenn.edu/PPT/Application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0" y="3933720"/>
            <a:ext cx="17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…. Methods</a:t>
            </a:r>
            <a:br>
              <a:rPr sz="54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6836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K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C-Means 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960720" cy="428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805360"/>
            <a:ext cx="39610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Philips medical systems clinical MRI Imag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E SEGMENTATION…PROBL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8000" y="907560"/>
            <a:ext cx="39956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in must be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fferent imaging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lapping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edges not “shar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rmal anatomical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anatomic borders are intensity-based bor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148428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248292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2448000" cy="2087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558972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apping of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ww.cma.mgh.harvard.edu/ib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3505320" cy="3133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79532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627280" y="260280"/>
            <a:ext cx="1689120" cy="194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1729080" cy="201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659640" y="189000"/>
            <a:ext cx="2141640" cy="2092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03960" y="6021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2736720" cy="2457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87640" y="3357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08360" y="549360"/>
            <a:ext cx="4896000" cy="27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2016360" cy="2592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06880" y="630864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y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Metho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as an extension to the standard Fuzzy C-means Algorithm for more precis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2852640"/>
            <a:ext cx="151128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364500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4149720"/>
            <a:ext cx="180036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4005360"/>
            <a:ext cx="187344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zzy C-Me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5300640"/>
            <a:ext cx="237636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5157720"/>
            <a:ext cx="16560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4005360"/>
            <a:ext cx="1943280" cy="79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GRAPHICAL US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436572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364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27640" y="4868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4437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573408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zzy C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64000" y="981000"/>
          <a:ext cx="3456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981000"/>
                    <a:ext cx="3456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4508640"/>
          <a:ext cx="442764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08640"/>
                    <a:ext cx="4427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520" y="1197000"/>
            <a:ext cx="5060520" cy="3161520"/>
            <a:chOff x="2520" y="1197000"/>
            <a:chExt cx="5060520" cy="3161520"/>
          </a:xfrm>
        </p:grpSpPr>
        <p:sp>
          <p:nvSpPr>
            <p:cNvPr id="112" name=""/>
            <p:cNvSpPr/>
            <p:nvPr/>
          </p:nvSpPr>
          <p:spPr>
            <a:xfrm>
              <a:off x="2520" y="1197000"/>
              <a:ext cx="17413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(Pixel Intensit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723240" y="2122920"/>
            <a:ext cx="399960" cy="2235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240" y="2122920"/>
                      <a:ext cx="399960" cy="22356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159800" y="1493640"/>
              <a:ext cx="903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71240" y="1197000"/>
              <a:ext cx="143496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mber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4511520" y="2198520"/>
            <a:ext cx="285840" cy="208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11520" y="2198520"/>
                      <a:ext cx="285840" cy="208476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1208880" y="3290760"/>
              <a:ext cx="324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2873520" y="3088080"/>
            <a:ext cx="314280" cy="384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873520" y="3088080"/>
                      <a:ext cx="31428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1208880" y="3290760"/>
              <a:ext cx="3240360" cy="855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2873520" y="3637080"/>
            <a:ext cx="371160" cy="384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73520" y="3637080"/>
                      <a:ext cx="37116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 flipV="1">
              <a:off x="1208880" y="2357640"/>
              <a:ext cx="3240360" cy="932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2873520" y="2518920"/>
            <a:ext cx="357120" cy="384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73520" y="2518920"/>
                      <a:ext cx="35712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2:27:35Z</dcterms:created>
  <dc:creator>Shruti Saggar</dc:creator>
  <dc:description/>
  <dc:language>en-US</dc:language>
  <cp:lastModifiedBy>mamta naik</cp:lastModifiedBy>
  <dcterms:modified xsi:type="dcterms:W3CDTF">2007-11-14T09:35:51Z</dcterms:modified>
  <cp:revision>10</cp:revision>
  <dc:subject/>
  <dc:title>Slide 1</dc:title>
</cp:coreProperties>
</file>