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29.wmf" ContentType="image/x-wmf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27.wmf" ContentType="image/x-wmf"/>
  <Override PartName="/ppt/media/image16.png" ContentType="image/png"/>
  <Override PartName="/ppt/media/image26.wmf" ContentType="image/x-wmf"/>
  <Override PartName="/ppt/media/image15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8FD3-1D7A-4B54-9753-6BFFBDF7B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4397-808D-4DD8-844C-64B89119A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5115-DEC7-47C9-9016-D788CDCE9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F929-2125-4F2C-B024-C91DA42C8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5217-8F4C-4348-8C56-1DE887E6B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ADB0-D718-4C6C-979D-44AC79EAD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6928-C411-45A2-8125-383858532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F9CD-8523-493E-9EA1-1B377CF20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91DF-6FF4-4434-83F8-84C0DB1EE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5294-8CF5-4599-9CD0-37EAE2FA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49F6-8B49-4C69-AD1B-7B9EAC88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E033-1545-4B31-B619-5D0D47D9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32DF-6111-4903-8839-91D34229D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9.wmf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Inter comparison of Medical Image Segmentation Algorithms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3400"/>
            </a:br>
            <a:br>
              <a:rPr sz="40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68360" y="1700280"/>
            <a:ext cx="4283280" cy="4537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311200" y="6307200"/>
            <a:ext cx="27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icture: Lodestone Patient 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will the project be realized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Packages - Mat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 the Results – Simulated Data and Real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nical Data- Southern General Hos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segmentation algorithms available will be investig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Fuzzy C-Mean algorithm will be defi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hms will be realized using simulated and real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tative and Qualitative evaluation of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AGE SEGMENTATION - OBJECTIVE</a:t>
            </a: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itioning of an image into non overlapping  constituent regions which are homogeneous with respect to some characteristic such as intensity or tex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9640" y="3284640"/>
            <a:ext cx="2808360" cy="2736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284720" y="3284640"/>
            <a:ext cx="2448000" cy="2736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260720" y="609300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I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11440" y="6113520"/>
            <a:ext cx="252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ed MRI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rain Segmentation,  lesion Quntif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1943280" cy="1944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979640" y="2637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268360" y="1197000"/>
            <a:ext cx="1721160" cy="1944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067280" y="2637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356000" y="1197000"/>
            <a:ext cx="1657440" cy="1942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524720" y="3429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6516720" y="1125360"/>
            <a:ext cx="1952640" cy="18226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flipH="1">
            <a:off x="6227280" y="5229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6732720" y="4005360"/>
            <a:ext cx="1839960" cy="2095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084720" y="2492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2340000" y="4076640"/>
            <a:ext cx="1608120" cy="2089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H="1">
            <a:off x="4066920" y="5084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4572000" y="4005360"/>
            <a:ext cx="1560600" cy="20876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flipH="1">
            <a:off x="1835280" y="5084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30720" y="6553080"/>
            <a:ext cx="49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icture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ttp://mipgsun.mipg.upenn.edu/PPT/Applications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0" y="3933720"/>
            <a:ext cx="1763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AGE SEGMENTATION…. Methods</a:t>
            </a:r>
            <a:br>
              <a:rPr sz="54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68360" y="1483920"/>
            <a:ext cx="842472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SHO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US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zzy K-Means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zzy C-Means Algorith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3960720" cy="42861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826920" y="5805360"/>
            <a:ext cx="396108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I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(Philips medical systems clinical MRI Image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AGE SEGMENTATION…PROBLEM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48000" y="907560"/>
            <a:ext cx="39956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rain must be lo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fferent imaging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verlapping intens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ial vol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rad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ch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ny edges not “sharp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ormal anatomical var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all anatomic borders are intensity-based bord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08360" y="1484280"/>
            <a:ext cx="4572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332000" y="981000"/>
            <a:ext cx="2482920" cy="2087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332000" y="3213000"/>
            <a:ext cx="2448000" cy="2087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042920" y="5589720"/>
            <a:ext cx="29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lapping of intens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6553080"/>
            <a:ext cx="40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icture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ww.cma.mgh.harvard.edu/ib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050920" y="2565360"/>
            <a:ext cx="3505320" cy="31338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11280" y="333360"/>
            <a:ext cx="1795320" cy="1800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2627280" y="260280"/>
            <a:ext cx="1689120" cy="1944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4643280" y="189000"/>
            <a:ext cx="1729080" cy="20145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6659640" y="189000"/>
            <a:ext cx="2141640" cy="20923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703960" y="602136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rtial Vol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2736720" cy="2457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987640" y="335772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d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708360" y="549360"/>
            <a:ext cx="4896000" cy="2736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1042920" y="3789360"/>
            <a:ext cx="2016360" cy="2592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406880" y="6308640"/>
            <a:ext cx="137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isy Im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osed Metho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orithm as an extension to the standard Fuzzy C-means Algorithm for more precis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2852640"/>
            <a:ext cx="1511280" cy="792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92360" y="3645000"/>
            <a:ext cx="172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16000" y="4149720"/>
            <a:ext cx="1800360" cy="576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35280" y="4005360"/>
            <a:ext cx="1873440" cy="863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Fuzzy C-Mea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19640" y="5300640"/>
            <a:ext cx="2376360" cy="792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gmen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5157720"/>
            <a:ext cx="1656000" cy="863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300720" y="4005360"/>
            <a:ext cx="1943280" cy="792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GRAPHICAL US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16360" y="4365720"/>
            <a:ext cx="718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364464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427640" y="4868640"/>
            <a:ext cx="0" cy="43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08720" y="4437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96000" y="5734080"/>
            <a:ext cx="5047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3a9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zzy C-Means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364000" y="981000"/>
          <a:ext cx="345600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0" y="981000"/>
                    <a:ext cx="345600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0" y="4508640"/>
          <a:ext cx="4427640" cy="190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508640"/>
                    <a:ext cx="442764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1" name=""/>
          <p:cNvGrpSpPr/>
          <p:nvPr/>
        </p:nvGrpSpPr>
        <p:grpSpPr>
          <a:xfrm>
            <a:off x="2520" y="1197000"/>
            <a:ext cx="5060520" cy="3161520"/>
            <a:chOff x="2520" y="1197000"/>
            <a:chExt cx="5060520" cy="3161520"/>
          </a:xfrm>
        </p:grpSpPr>
        <p:sp>
          <p:nvSpPr>
            <p:cNvPr id="112" name=""/>
            <p:cNvSpPr/>
            <p:nvPr/>
          </p:nvSpPr>
          <p:spPr>
            <a:xfrm>
              <a:off x="2520" y="1197000"/>
              <a:ext cx="1741320" cy="64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Vec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(Pixel Intensit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3" name=""/>
            <p:cNvGraphicFramePr/>
            <p:nvPr/>
          </p:nvGraphicFramePr>
          <p:xfrm>
            <a:off x="723240" y="2122920"/>
            <a:ext cx="399960" cy="2235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23240" y="2122920"/>
                      <a:ext cx="399960" cy="223560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15" name=""/>
            <p:cNvSpPr/>
            <p:nvPr/>
          </p:nvSpPr>
          <p:spPr>
            <a:xfrm>
              <a:off x="4159800" y="1493640"/>
              <a:ext cx="90324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lus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71240" y="1197000"/>
              <a:ext cx="1434960" cy="64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embershi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un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7" name=""/>
            <p:cNvGraphicFramePr/>
            <p:nvPr/>
          </p:nvGraphicFramePr>
          <p:xfrm>
            <a:off x="4511520" y="2198520"/>
            <a:ext cx="285840" cy="20847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511520" y="2198520"/>
                      <a:ext cx="285840" cy="208476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19" name=""/>
            <p:cNvSpPr/>
            <p:nvPr/>
          </p:nvSpPr>
          <p:spPr>
            <a:xfrm>
              <a:off x="1208880" y="3290760"/>
              <a:ext cx="3240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0" name=""/>
            <p:cNvGraphicFramePr/>
            <p:nvPr/>
          </p:nvGraphicFramePr>
          <p:xfrm>
            <a:off x="2873520" y="3088080"/>
            <a:ext cx="314280" cy="384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21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873520" y="3088080"/>
                      <a:ext cx="314280" cy="38412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22" name=""/>
            <p:cNvSpPr/>
            <p:nvPr/>
          </p:nvSpPr>
          <p:spPr>
            <a:xfrm>
              <a:off x="1208880" y="3290760"/>
              <a:ext cx="3240360" cy="855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3" name=""/>
            <p:cNvGraphicFramePr/>
            <p:nvPr/>
          </p:nvGraphicFramePr>
          <p:xfrm>
            <a:off x="2873520" y="3637080"/>
            <a:ext cx="371160" cy="384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873520" y="3637080"/>
                      <a:ext cx="371160" cy="38412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 flipV="1">
              <a:off x="1208880" y="2357640"/>
              <a:ext cx="3240360" cy="932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6" name=""/>
            <p:cNvGraphicFramePr/>
            <p:nvPr/>
          </p:nvGraphicFramePr>
          <p:xfrm>
            <a:off x="2873520" y="2518920"/>
            <a:ext cx="357120" cy="3841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2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873520" y="2518920"/>
                      <a:ext cx="357120" cy="38412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2T02:27:35Z</dcterms:created>
  <dc:creator>Shruti Saggar</dc:creator>
  <dc:description/>
  <dc:language>en-US</dc:language>
  <cp:lastModifiedBy>mamta naik</cp:lastModifiedBy>
  <dcterms:modified xsi:type="dcterms:W3CDTF">2007-11-14T09:35:51Z</dcterms:modified>
  <cp:revision>10</cp:revision>
  <dc:subject/>
  <dc:title>Slide 1</dc:title>
</cp:coreProperties>
</file>