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5E6-C2A7-4EDF-9C83-A6ADD0A5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3BE0-E981-402D-94CB-46DB9F36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F9E4-7B07-4228-B5E8-554AAE32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0052-46C4-4CF7-A70A-238EBD00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7B8C-8365-4095-84B2-16DF03B3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6723-D8B9-43B6-9300-45F275E0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CD66-A041-4848-BD4A-58686A58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839-9A3D-4C51-B802-DDDFBC2C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6312-AD00-41A5-A234-5A7493CC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98D1-0797-4657-87DF-E7BFCF3B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308C-B594-4A7C-9B10-D34E7345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BAE2-804F-4E77-AB86-D8D51F5C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B93A-B6AB-4753-92EA-AB3CE5AF8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er comparison of Medical Image Segmentation Algorithm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400"/>
            </a:b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283280" cy="453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311200" y="6307200"/>
            <a:ext cx="27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cture: Lodestone Patient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the project be realized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ackages -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the Results – Simulated Data and Re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Data- Southern Gene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egmentation algorithms available will be investig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zzy C-Mean algorithm will be def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 will be realized using simulated and re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 and Qualitative evaluation of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 - OBJECTIVE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tioning of an image into non overlapping  constituent regions which are homogeneous with respect to some characteristic such as intensity or tex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2808360" cy="273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84720" y="3284640"/>
            <a:ext cx="2448000" cy="273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60720" y="60930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1440" y="61135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ed 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rain Segmentation,  lesion Qunt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194328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7964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1721160" cy="1944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6728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356000" y="1197000"/>
            <a:ext cx="1657440" cy="194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2472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516720" y="1125360"/>
            <a:ext cx="1952640" cy="1822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622728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732720" y="4005360"/>
            <a:ext cx="1839960" cy="209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8472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340000" y="4076640"/>
            <a:ext cx="1608120" cy="208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406692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4572000" y="4005360"/>
            <a:ext cx="1560600" cy="2087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1835280" y="508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30720" y="6553080"/>
            <a:ext cx="49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ttp://mipgsun.mipg.upenn.edu/PPT/Application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0" y="3933720"/>
            <a:ext cx="17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…. Methods</a:t>
            </a:r>
            <a:br>
              <a:rPr sz="54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6836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SH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K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C-Means 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960720" cy="428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6920" y="5805360"/>
            <a:ext cx="39610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(Philips medical systems clinical MRI Imag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AGE SEGMENTATION…PROBL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8000" y="907560"/>
            <a:ext cx="39956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in must be 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fferent imaging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lapping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d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edges not “shar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rmal anatomical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 anatomic borders are intensity-based bor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8360" y="1484280"/>
            <a:ext cx="45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248292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2448000" cy="2087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42920" y="558972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lapping of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6553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ww.cma.mgh.harvard.edu/ib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3505320" cy="3133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79532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627280" y="260280"/>
            <a:ext cx="1689120" cy="1944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643280" y="189000"/>
            <a:ext cx="1729080" cy="2014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659640" y="189000"/>
            <a:ext cx="2141640" cy="2092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03960" y="6021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2736720" cy="2457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87640" y="3357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708360" y="549360"/>
            <a:ext cx="4896000" cy="273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2016360" cy="2592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06880" y="630864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isy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Metho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as an extension to the standard Fuzzy C-means Algorithm for more precis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2852640"/>
            <a:ext cx="151128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364500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4149720"/>
            <a:ext cx="180036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4005360"/>
            <a:ext cx="187344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uzzy C-Me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19640" y="5300640"/>
            <a:ext cx="237636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5157720"/>
            <a:ext cx="165600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00720" y="4005360"/>
            <a:ext cx="1943280" cy="79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GRAPHICAL US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4365720"/>
            <a:ext cx="71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3644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427640" y="48686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720" y="4437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573408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zzy C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64000" y="981000"/>
          <a:ext cx="3456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981000"/>
                    <a:ext cx="3456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0" y="4508640"/>
          <a:ext cx="4427640" cy="19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08640"/>
                    <a:ext cx="44276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2520" y="1197000"/>
            <a:ext cx="5060520" cy="3161520"/>
            <a:chOff x="2520" y="1197000"/>
            <a:chExt cx="5060520" cy="3161520"/>
          </a:xfrm>
        </p:grpSpPr>
        <p:sp>
          <p:nvSpPr>
            <p:cNvPr id="112" name=""/>
            <p:cNvSpPr/>
            <p:nvPr/>
          </p:nvSpPr>
          <p:spPr>
            <a:xfrm>
              <a:off x="2520" y="1197000"/>
              <a:ext cx="174132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(Pixel Intensit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723240" y="2122920"/>
            <a:ext cx="399960" cy="2235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3240" y="2122920"/>
                      <a:ext cx="399960" cy="22356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4159800" y="1493640"/>
              <a:ext cx="9032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lu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71240" y="1197000"/>
              <a:ext cx="143496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mbersh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4511520" y="2198520"/>
            <a:ext cx="285840" cy="2084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11520" y="2198520"/>
                      <a:ext cx="285840" cy="208476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1208880" y="3290760"/>
              <a:ext cx="324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2873520" y="3088080"/>
            <a:ext cx="314280" cy="384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873520" y="3088080"/>
                      <a:ext cx="31428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1208880" y="3290760"/>
              <a:ext cx="3240360" cy="855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2873520" y="3637080"/>
            <a:ext cx="371160" cy="384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73520" y="3637080"/>
                      <a:ext cx="37116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 flipV="1">
              <a:off x="1208880" y="2357640"/>
              <a:ext cx="3240360" cy="932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" name=""/>
            <p:cNvGraphicFramePr/>
            <p:nvPr/>
          </p:nvGraphicFramePr>
          <p:xfrm>
            <a:off x="2873520" y="2518920"/>
            <a:ext cx="357120" cy="384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73520" y="2518920"/>
                      <a:ext cx="35712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2:27:35Z</dcterms:created>
  <dc:creator>Shruti Saggar</dc:creator>
  <dc:description/>
  <dc:language>en-US</dc:language>
  <cp:lastModifiedBy>mamta naik</cp:lastModifiedBy>
  <dcterms:modified xsi:type="dcterms:W3CDTF">2007-11-14T09:35:51Z</dcterms:modified>
  <cp:revision>10</cp:revision>
  <dc:subject/>
  <dc:title>Slide 1</dc:title>
</cp:coreProperties>
</file>